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1.wmf" ContentType="image/x-wmf"/>
  <Override PartName="/ppt/media/image21.jpeg" ContentType="image/jpeg"/>
  <Override PartName="/ppt/media/image16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0.png" ContentType="image/png"/>
  <Override PartName="/ppt/media/image2.jpeg" ContentType="image/jpeg"/>
  <Override PartName="/ppt/media/image19.wmf" ContentType="image/x-wmf"/>
  <Override PartName="/ppt/media/image18.wmf" ContentType="image/x-wmf"/>
  <Override PartName="/ppt/media/image17.wmf" ContentType="image/x-wmf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5145088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78A6-4135-49E5-AC2C-93C4E6AA45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06080" y="696960"/>
            <a:ext cx="619740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77ed9"/>
                </a:solidFill>
                <a:latin typeface="Calibri"/>
              </a:rPr>
              <a:t>Click to move the slide</a:t>
            </a: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DA66-5CF5-4DBA-A4C6-BE87E1D27C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0137-470A-4D27-BB5F-D7894D894C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C51A-5CDA-4636-9B9E-ED3C6AB640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DEE3-1F80-4546-A1F2-9E6D3959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1748-89D9-4361-A70E-B3C9B8AB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ABA9-D372-4953-9DC4-49E82C6FA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85A2-61AA-4D9B-BA4E-7B61A4E3E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5D38-8DB7-4534-991A-B637FD7A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47F8-BD1B-43FE-A5A0-08EB2490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8C82-522F-42D1-8912-887531FB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3D0C-3270-4A7C-8FF5-AA98BA75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6880"/>
            <a:ext cx="739152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A0B8-D876-4CE5-84D6-58147489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1518-9E61-4DAA-B77E-5ADF52C1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60BC-9236-4420-9DE5-533EA763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3FCD-F518-47B1-A508-390810A0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77ed9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25-26 / 11 /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47811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B29E-2BCF-4E7F-A2CB-656F3BD736C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rezentareAV-1pag.jpg"/>
          <p:cNvPicPr/>
          <p:nvPr/>
        </p:nvPicPr>
        <p:blipFill>
          <a:blip r:embed="rId1"/>
          <a:stretch/>
        </p:blipFill>
        <p:spPr>
          <a:xfrm>
            <a:off x="0" y="0"/>
            <a:ext cx="9167760" cy="51624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5638680" y="46404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5562720" y="2952720"/>
            <a:ext cx="320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RUTAREA SI SELECTAREA RESURSELOR UM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Anunt de concurs postat pe site-ul APAVITAL (4)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82ED-4A4C-4BDC-87F3-5267E995188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209680" y="819000"/>
            <a:ext cx="38862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Anunt de concurs postat pe site-ul APAVITAL (5)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39D6-4EB7-4397-84D0-9B152D6F2B4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828800" y="743040"/>
            <a:ext cx="4724280" cy="39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Sec</a:t>
            </a:r>
            <a:r>
              <a:rPr b="1" lang="ro-RO" sz="2000" spc="-1" strike="noStrike">
                <a:solidFill>
                  <a:srgbClr val="177ed9"/>
                </a:solidFill>
                <a:latin typeface="Calibri"/>
              </a:rPr>
              <a:t>ţiunea CARIERE pe </a:t>
            </a: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site-ul APAVITAL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8BDC-B85B-4553-866C-421B502955E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905120" y="895320"/>
            <a:ext cx="4952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177ed9"/>
                </a:solidFill>
                <a:latin typeface="Calibri"/>
              </a:rPr>
              <a:t>Selecţia candidaţilor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5DD7-35F2-40B3-8710-0328A82B082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304920" y="1363680"/>
            <a:ext cx="4952880" cy="2362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5638680" y="1581120"/>
            <a:ext cx="34261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177ed9"/>
                </a:solidFill>
                <a:latin typeface="Calibri"/>
              </a:rPr>
              <a:t>P</a:t>
            </a: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roces-verbal  al comisiei de selectie</a:t>
            </a:r>
            <a:r>
              <a:rPr b="1" lang="ro-RO" sz="2000" spc="-1" strike="noStrike">
                <a:solidFill>
                  <a:srgbClr val="177ed9"/>
                </a:solidFill>
                <a:latin typeface="Calibri"/>
              </a:rPr>
              <a:t> (1)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9DDC-CFFC-4967-BCA9-575F794108E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828800" y="743040"/>
            <a:ext cx="525780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Proces-verbal  al comisiei de selectie (</a:t>
            </a:r>
            <a:r>
              <a:rPr b="1" lang="ro-RO" sz="2000" spc="-1" strike="noStrike">
                <a:solidFill>
                  <a:srgbClr val="177ed9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)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E8C2-F544-4922-9CD8-8D3EBF0ECF5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066680" y="971640"/>
            <a:ext cx="70945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177ed9"/>
                </a:solidFill>
                <a:latin typeface="Calibri"/>
              </a:rPr>
              <a:t>Rezultatele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1464-2245-4232-A380-FFB93C3BEEC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762120" y="1581120"/>
            <a:ext cx="5638680" cy="1484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6629400" y="1581120"/>
            <a:ext cx="23842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prezentareAV-final.jpg"/>
          <p:cNvPicPr/>
          <p:nvPr/>
        </p:nvPicPr>
        <p:blipFill>
          <a:blip r:embed="rId1"/>
          <a:stretch/>
        </p:blipFill>
        <p:spPr>
          <a:xfrm>
            <a:off x="9360" y="0"/>
            <a:ext cx="9134640" cy="5143680"/>
          </a:xfrm>
          <a:prstGeom prst="rect">
            <a:avLst/>
          </a:prstGeom>
          <a:ln w="0">
            <a:noFill/>
          </a:ln>
        </p:spPr>
      </p:pic>
      <p:sp>
        <p:nvSpPr>
          <p:cNvPr id="101" name="Slide Number Placeholder 4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CDBE-EA33-4AE5-A9BD-F1B45E8882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5638680" y="34099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7ed9"/>
                </a:solidFill>
                <a:latin typeface="Calibri"/>
              </a:rPr>
              <a:t>Vă mulțumim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Cadrul legal (1)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120" y="971640"/>
            <a:ext cx="81536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vi-VN" sz="1400" spc="-1" strike="noStrike">
                <a:solidFill>
                  <a:srgbClr val="595959"/>
                </a:solidFill>
                <a:latin typeface="Arial"/>
              </a:rPr>
              <a:t>Procesul de recrutare si selectie, are rolul de a  asigura personal competent și calificat necesar activitatilor organizati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ei</a:t>
            </a:r>
            <a:r>
              <a:rPr b="0" lang="vi-VN" sz="14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vi-VN" sz="1400" spc="-1" strike="noStrike">
                <a:solidFill>
                  <a:srgbClr val="595959"/>
                </a:solidFill>
                <a:latin typeface="Arial"/>
              </a:rPr>
              <a:t>avându-se în vedere asigurarea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vi-VN" sz="1400" spc="-1" strike="noStrike">
                <a:solidFill>
                  <a:srgbClr val="595959"/>
                </a:solidFill>
                <a:latin typeface="Arial"/>
              </a:rPr>
              <a:t>calităţii serviciilor şi produselor furnizate către clienţi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 u="sng">
                <a:solidFill>
                  <a:srgbClr val="595959"/>
                </a:solidFill>
                <a:uFillTx/>
                <a:latin typeface="Calibri"/>
              </a:rPr>
              <a:t>Codul Muncii: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vi-VN" sz="1400" spc="-1" strike="noStrike">
                <a:solidFill>
                  <a:srgbClr val="595959"/>
                </a:solidFill>
                <a:latin typeface="Arial"/>
              </a:rPr>
              <a:t>“</a:t>
            </a:r>
            <a:r>
              <a:rPr b="0" i="1" lang="vi-VN" sz="1400" spc="-1" strike="noStrike">
                <a:solidFill>
                  <a:srgbClr val="595959"/>
                </a:solidFill>
                <a:latin typeface="Arial"/>
              </a:rPr>
              <a:t>Art. 29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vi-VN" sz="1400" spc="-1" strike="noStrike">
                <a:solidFill>
                  <a:srgbClr val="595959"/>
                </a:solidFill>
                <a:latin typeface="Arial"/>
              </a:rPr>
              <a:t>(1) Contractul individual de muncă se încheie </a:t>
            </a:r>
            <a:r>
              <a:rPr b="0" i="1" lang="vi-VN" sz="1400" spc="-1" strike="noStrike" u="sng">
                <a:solidFill>
                  <a:srgbClr val="595959"/>
                </a:solidFill>
                <a:uFillTx/>
                <a:latin typeface="Arial"/>
              </a:rPr>
              <a:t>după verificarea prealabilă a aptitudinilor profesionale şi personale </a:t>
            </a:r>
            <a:r>
              <a:rPr b="0" i="1" lang="vi-VN" sz="1400" spc="-1" strike="noStrike">
                <a:solidFill>
                  <a:srgbClr val="595959"/>
                </a:solidFill>
                <a:latin typeface="Arial"/>
              </a:rPr>
              <a:t>ale persoanei care solicită angajarea.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vi-VN" sz="1400" spc="-1" strike="noStrike">
                <a:solidFill>
                  <a:srgbClr val="595959"/>
                </a:solidFill>
                <a:latin typeface="Arial"/>
              </a:rPr>
              <a:t>(2) Modalităţile în care urmează să se realizeze verificarea prevăzută la alin. (1) </a:t>
            </a:r>
            <a:r>
              <a:rPr b="0" i="1" lang="vi-VN" sz="1400" spc="-1" strike="noStrike" u="sng">
                <a:solidFill>
                  <a:srgbClr val="595959"/>
                </a:solidFill>
                <a:uFillTx/>
                <a:latin typeface="Arial"/>
              </a:rPr>
              <a:t>sunt stabilite în contractul colectiv de muncă aplicabil</a:t>
            </a:r>
            <a:r>
              <a:rPr b="0" i="1" lang="vi-VN" sz="1400" spc="-1" strike="noStrike">
                <a:solidFill>
                  <a:srgbClr val="595959"/>
                </a:solidFill>
                <a:latin typeface="Arial"/>
              </a:rPr>
              <a:t>, în statutul de personal - profesional sau disciplinar - şi în regulamentul intern, în măsura în care legea nu dispune altfel.”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D9F8-F274-4A6D-8987-2DAF367BBD7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Cadrul legal (2)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3F2F-4D80-44E6-B50F-C0C390A4CAE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590920" y="209520"/>
            <a:ext cx="3733560" cy="1911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1504800" y="2647800"/>
            <a:ext cx="61344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Cadrul legal (3)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0612-2E9B-480B-9464-AA0A03B3D0E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981080" y="1047600"/>
            <a:ext cx="53294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Procedura (1)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B970-8F33-413A-B0F2-64F96F12AE2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304920" y="1590840"/>
            <a:ext cx="5213160" cy="1666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5943600" y="128736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Procedura (2)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5697-F96F-411D-B680-65E5511678E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523880" y="895320"/>
            <a:ext cx="5964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Anunt de concurs postat pe site-ul APAVITAL (1)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BC3E-4B7F-4F97-94A6-753F9ECCE0E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209680" y="743040"/>
            <a:ext cx="51958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Anunt de concurs postat pe site-ul APAVITAL (2)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2982-87C1-4BEF-B88A-376C2B17A6B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438280" y="819000"/>
            <a:ext cx="4724640" cy="37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Anunt de concurs postat pe site-ul APAVITAL (3)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2A3C-416F-45C3-B1EE-03D8262F255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438280" y="743040"/>
            <a:ext cx="3886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3:21:19Z</dcterms:created>
  <dc:creator/>
  <dc:description/>
  <dc:language>en-US</dc:language>
  <cp:lastModifiedBy/>
  <dcterms:modified xsi:type="dcterms:W3CDTF">2017-06-08T08:35:53Z</dcterms:modified>
  <cp:revision>1</cp:revision>
  <dc:subject/>
  <dc:title>Prezentare ApaVital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nul">
    <vt:lpwstr>;#2011;#</vt:lpwstr>
  </property>
  <property fmtid="{D5CDD505-2E9C-101B-9397-08002B2CF9AE}" pid="3" name="Expiră">
    <vt:lpwstr>2016-12-31T00:00:00Z</vt:lpwstr>
  </property>
  <property fmtid="{D5CDD505-2E9C-101B-9397-08002B2CF9AE}" pid="4" name="Geografic">
    <vt:lpwstr>;#Jud. Iași;#</vt:lpwstr>
  </property>
  <property fmtid="{D5CDD505-2E9C-101B-9397-08002B2CF9AE}" pid="5" name="Keywords0">
    <vt:lpwstr>prezentare, 2011, ApaVital</vt:lpwstr>
  </property>
  <property fmtid="{D5CDD505-2E9C-101B-9397-08002B2CF9AE}" pid="6" name="Language">
    <vt:lpwstr>Română</vt:lpwstr>
  </property>
  <property fmtid="{D5CDD505-2E9C-101B-9397-08002B2CF9AE}" pid="7" name="Partener">
    <vt:lpwstr>;#ApaVital;#</vt:lpwstr>
  </property>
  <property fmtid="{D5CDD505-2E9C-101B-9397-08002B2CF9AE}" pid="8" name="TaskStatus">
    <vt:lpwstr>Terminat</vt:lpwstr>
  </property>
  <property fmtid="{D5CDD505-2E9C-101B-9397-08002B2CF9AE}" pid="9" name="Topic">
    <vt:lpwstr>;#Management;#Raportare;#Simpozion;#</vt:lpwstr>
  </property>
  <property fmtid="{D5CDD505-2E9C-101B-9397-08002B2CF9AE}" pid="10" name="Trimis către">
    <vt:lpwstr>Orest Trofin, Ion Toma</vt:lpwstr>
  </property>
  <property fmtid="{D5CDD505-2E9C-101B-9397-08002B2CF9AE}" pid="11" name="_LCID">
    <vt:r8>1033</vt:r8>
  </property>
  <property fmtid="{D5CDD505-2E9C-101B-9397-08002B2CF9AE}" pid="12" name="_Version">
    <vt:lpwstr>12.0.4518</vt:lpwstr>
  </property>
  <property fmtid="{D5CDD505-2E9C-101B-9397-08002B2CF9AE}" pid="13" name="_dlc_DocId">
    <vt:lpwstr>U5FY2F32NNHV-160-822</vt:lpwstr>
  </property>
  <property fmtid="{D5CDD505-2E9C-101B-9397-08002B2CF9AE}" pid="14" name="_dlc_DocIdItemGuid">
    <vt:lpwstr>0e8b8882-ef37-4ebf-9998-b8afedf07e69</vt:lpwstr>
  </property>
  <property fmtid="{D5CDD505-2E9C-101B-9397-08002B2CF9AE}" pid="15" name="_dlc_DocIdUrl">
    <vt:lpwstr>http://intranet/dg/cml/_layouts/DocIdRedir.aspx?ID=U5FY2F32NNHV-160-822, U5FY2F32NNHV-160-822</vt:lpwstr>
  </property>
  <property fmtid="{D5CDD505-2E9C-101B-9397-08002B2CF9AE}" pid="16" name="dlc_EmailSentUTC">
    <vt:lpwstr>2011-05-20T09:45:00Z</vt:lpwstr>
  </property>
</Properties>
</file>