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20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ftr" idx="21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 type="sldNum" idx="22"/>
          </p:nvPr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67E7-26B1-4828-BFCE-0A9C2BA902CA}" type="slidenum">
              <a:rPr b="0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Foliennummernplatzhalter 3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B0E6-887B-496E-9CDC-78AAB6FA785A}" type="slidenum">
              <a:rPr b="0" lang="de-DE" sz="12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C99853-D5C0-403C-9CD3-23EB81FF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B8552B-5C4D-4EE9-B735-BF3E6A2D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BE35AB-8C87-4886-9D51-FC505C98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AC866A-FD47-4C3A-BAAD-9AA972DF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16AAD8-05F4-47D5-A758-8A2D747C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97A1E1-DFF1-4488-B509-ACE0BDC4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4C684C-30BA-4B99-88CB-F3FEB13F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BD064C-6493-431B-9A7B-49355E81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B9BF1C-52F4-47A3-9B7F-33C5402A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7C7506-06F1-4835-8E6C-7B3676ED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AA4DE8-27E6-4114-B806-F8566C81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1552D1-CEA5-4747-85DC-2CD39428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5280" cy="2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4360" y="4440960"/>
            <a:ext cx="7775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244764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436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440960"/>
            <a:ext cx="3794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2520" y="244764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436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2520" y="4440960"/>
            <a:ext cx="2503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2" name="Grafik 7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3" name="Grafik 8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61ABB2DB-F27F-4D28-99D2-C1563CEF0DF2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Type presentation titl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033A-2E30-4BFB-B508-D9039F0CB1A4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396" name="Grafik 7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397" name="Grafik 8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1479C3CA-87F6-4117-B195-4DF0237C5DD8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7"/>
          </p:nvPr>
        </p:nvSpPr>
        <p:spPr>
          <a:xfrm>
            <a:off x="6586200" y="612360"/>
            <a:ext cx="9572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A396-FA51-4C54-82D6-DF47350C6E94}" type="datetime">
              <a:rPr b="0" lang="en-US" sz="1000" spc="-1" strike="noStrike">
                <a:solidFill>
                  <a:srgbClr val="6e6452"/>
                </a:solidFill>
                <a:latin typeface="Arial Narrow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18"/>
          </p:nvPr>
        </p:nvSpPr>
        <p:spPr>
          <a:xfrm>
            <a:off x="5257800" y="612360"/>
            <a:ext cx="13255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1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D650-97AC-4A65-AE8B-5144DABF30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rafik 8" descr=""/>
          <p:cNvPicPr/>
          <p:nvPr/>
        </p:nvPicPr>
        <p:blipFill>
          <a:blip r:embed="rId2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DC88F40A-35B2-4436-9443-55452015A93A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Type presentation titl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BF13-471F-443F-BB34-F0BAF4FB6AE8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rafik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19240"/>
          </a:xfrm>
          <a:prstGeom prst="rect">
            <a:avLst/>
          </a:prstGeom>
          <a:ln w="0">
            <a:noFill/>
          </a:ln>
        </p:spPr>
      </p:pic>
      <p:pic>
        <p:nvPicPr>
          <p:cNvPr id="49" name="Grafik 7" descr=""/>
          <p:cNvPicPr/>
          <p:nvPr/>
        </p:nvPicPr>
        <p:blipFill>
          <a:blip r:embed="rId4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87" name="Grafik 7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88" name="Grafik 8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5AD0E04F-7690-490E-BDED-DE5791275CEF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Type presentation titl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6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8246-4410-43C8-8093-D1E7A8B0FFE3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131" name="Grafik 7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132" name="Grafik 8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06D582FB-DE61-47A0-BEB1-9DB6366437CF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7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Type presentation titl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dt" idx="8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4F45-47E2-41E2-8039-E334B15836D8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175" name="Grafik 7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176" name="Grafik 8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4706D326-89B6-414C-A811-53A8E16131F0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9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Type presentation titl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0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B0A5-26F5-4F3D-9DB4-EAA31C76CFC9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219" name="Grafik 7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220" name="Grafik 8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A0891E65-F55E-4351-888B-EBCA43D1F752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1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Type presentation titl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2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6288-AFC6-4638-A353-394A51C36C0D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263" name="Grafik 7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264" name="Grafik 8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1410DBFE-D710-4A89-8A93-8DF2015F8D96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13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e6452"/>
                </a:solidFill>
                <a:latin typeface="Arial Narrow"/>
              </a:rPr>
              <a:t>company presentation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4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F899-2F6B-4E6D-896B-86C760CB96BB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307" name="Grafik 7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308" name="Grafik 8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1C8E3F3D-0A92-417A-8990-50C81D8C61F0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ftr" idx="15"/>
          </p:nvPr>
        </p:nvSpPr>
        <p:spPr>
          <a:xfrm>
            <a:off x="2862360" y="6581520"/>
            <a:ext cx="34192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Type presentation titl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dt" idx="16"/>
          </p:nvPr>
        </p:nvSpPr>
        <p:spPr>
          <a:xfrm>
            <a:off x="678960" y="6581520"/>
            <a:ext cx="12956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080F-D95D-4230-851B-5E1F58A1DF94}" type="datetime">
              <a:rPr b="0" lang="en-GB" sz="1000" spc="-1" strike="noStrike">
                <a:solidFill>
                  <a:srgbClr val="6e6452"/>
                </a:solidFill>
                <a:latin typeface="Arial Narrow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Grafik 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351" name="Grafik 7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352" name="Grafik 8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9"/>
          <p:cNvSpPr/>
          <p:nvPr/>
        </p:nvSpPr>
        <p:spPr>
          <a:xfrm>
            <a:off x="7704000" y="658188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C2CD10BF-4147-4C32-9419-CE40BD92DE7F}" type="slidenum">
              <a:rPr b="0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54" name="Grafik 10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119240"/>
          </a:xfrm>
          <a:prstGeom prst="rect">
            <a:avLst/>
          </a:prstGeom>
          <a:ln w="0">
            <a:noFill/>
          </a:ln>
        </p:spPr>
      </p:pic>
      <p:pic>
        <p:nvPicPr>
          <p:cNvPr id="355" name="Grafik 7" descr=""/>
          <p:cNvPicPr/>
          <p:nvPr/>
        </p:nvPicPr>
        <p:blipFill>
          <a:blip r:embed="rId6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sp>
        <p:nvSpPr>
          <p:cNvPr id="356" name="Rechteck 9"/>
          <p:cNvSpPr/>
          <p:nvPr/>
        </p:nvSpPr>
        <p:spPr>
          <a:xfrm>
            <a:off x="7721640" y="6603840"/>
            <a:ext cx="14223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528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4360" y="2447640"/>
            <a:ext cx="7775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71928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107964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1440000" indent="-35892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1440000" indent="388800">
              <a:spcBef>
                <a:spcPts val="400"/>
              </a:spcBef>
              <a:spcAft>
                <a:spcPts val="799"/>
              </a:spcAft>
              <a:buClr>
                <a:srgbClr val="6e645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1440000" indent="38880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8400" y="2486160"/>
            <a:ext cx="8372520" cy="25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Formare de Formatori</a:t>
            </a:r>
            <a:br>
              <a:rPr sz="5400"/>
            </a:br>
            <a:endParaRPr b="0" lang="en-US" sz="5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48" name="Footer Placeholder 3"/>
          <p:cNvSpPr/>
          <p:nvPr/>
        </p:nvSpPr>
        <p:spPr>
          <a:xfrm>
            <a:off x="5526000" y="1897200"/>
            <a:ext cx="34196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49" name="Picture 7" descr="C:\Users\Stela\Desktop\Logou nou UTM\Logo_inscript_horizontal (1).png"/>
          <p:cNvPicPr/>
          <p:nvPr/>
        </p:nvPicPr>
        <p:blipFill>
          <a:blip r:embed="rId1"/>
          <a:stretch/>
        </p:blipFill>
        <p:spPr>
          <a:xfrm>
            <a:off x="12600" y="455760"/>
            <a:ext cx="2637000" cy="655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"/>
          <p:cNvPicPr/>
          <p:nvPr/>
        </p:nvPicPr>
        <p:blipFill>
          <a:blip r:embed="rId2"/>
          <a:stretch/>
        </p:blipFill>
        <p:spPr>
          <a:xfrm>
            <a:off x="2846520" y="326880"/>
            <a:ext cx="874440" cy="88596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10"/>
          <p:cNvSpPr/>
          <p:nvPr/>
        </p:nvSpPr>
        <p:spPr>
          <a:xfrm flipV="1" rot="10800000">
            <a:off x="3930480" y="326880"/>
            <a:ext cx="2779920" cy="758880"/>
          </a:xfrm>
          <a:prstGeom prst="rect">
            <a:avLst/>
          </a:prstGeom>
          <a:solidFill>
            <a:srgbClr val="0070c0"/>
          </a:solidFill>
          <a:ln w="38160">
            <a:solidFill>
              <a:srgbClr val="6e645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" spc="-1" strike="noStrike">
                <a:solidFill>
                  <a:srgbClr val="ffffff"/>
                </a:solidFill>
                <a:latin typeface="Arial"/>
                <a:ea typeface="Calibri"/>
              </a:rPr>
              <a:t>CENTRUL UNIVERSITAR DE FORMARE CONTINUĂ 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" spc="-1" strike="noStrike">
                <a:solidFill>
                  <a:srgbClr val="ffffff"/>
                </a:solidFill>
                <a:latin typeface="Arial"/>
                <a:ea typeface="Calibri"/>
              </a:rPr>
              <a:t>INSTITUTUL DE FORMARE CONTINUĂ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ro-RO" sz="800" spc="-1" strike="noStrike">
                <a:solidFill>
                  <a:srgbClr val="ffffff"/>
                </a:solidFill>
                <a:latin typeface="Arial"/>
                <a:ea typeface="Calibri"/>
              </a:rPr>
              <a:t>ÎN DOMENIUL ALIMENTĂRII CU APĂ ȘI CANALIZARE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ro-RO" sz="800" spc="-1" strike="noStrike">
                <a:solidFill>
                  <a:srgbClr val="ffffff"/>
                </a:solidFill>
                <a:latin typeface="Arial"/>
                <a:ea typeface="Calibri"/>
              </a:rPr>
              <a:t>PENTRU MEMBRII AMAC</a:t>
            </a:r>
            <a:endParaRPr b="1" lang="en-US" sz="8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MA" sz="900" spc="-1" strike="noStrike">
                <a:solidFill>
                  <a:srgbClr val="ffffff"/>
                </a:solidFill>
                <a:latin typeface="Arial"/>
                <a:ea typeface="Calibri"/>
              </a:rPr>
              <a:t> </a:t>
            </a:r>
            <a:endParaRPr b="1" lang="en-US" sz="9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itle 1"/>
          <p:cNvSpPr/>
          <p:nvPr/>
        </p:nvSpPr>
        <p:spPr>
          <a:xfrm>
            <a:off x="666720" y="843120"/>
            <a:ext cx="710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2060"/>
                </a:solidFill>
                <a:latin typeface="Arial"/>
                <a:ea typeface="Arial"/>
              </a:rPr>
              <a:t>Ce trebuie să conțină o agendă</a:t>
            </a:r>
            <a:r>
              <a:rPr b="1" lang="vi-VN" sz="3200" spc="-1" strike="noStrike">
                <a:solidFill>
                  <a:srgbClr val="002060"/>
                </a:solidFill>
                <a:latin typeface="Arial"/>
                <a:ea typeface="Arial"/>
              </a:rPr>
              <a:t>?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7" name="Rectangle 1"/>
          <p:cNvSpPr/>
          <p:nvPr/>
        </p:nvSpPr>
        <p:spPr>
          <a:xfrm>
            <a:off x="666720" y="1364760"/>
            <a:ext cx="7588440" cy="8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mbria"/>
                <a:ea typeface="Calibri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Cambria"/>
                <a:ea typeface="Calibri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Cambria"/>
                <a:ea typeface="Calibri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Cambria"/>
                <a:ea typeface="Calibri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Cambria"/>
                <a:ea typeface="Calibri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Cambria"/>
                <a:ea typeface="Calibri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Cambria"/>
                <a:ea typeface="Calibri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Cambria"/>
                <a:ea typeface="Calibri"/>
              </a:rPr>
              <a:t>ZIUA 2 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822240" y="2133720"/>
          <a:ext cx="7432920" cy="3865320"/>
        </p:xfrm>
        <a:graphic>
          <a:graphicData uri="http://schemas.openxmlformats.org/drawingml/2006/table">
            <a:tbl>
              <a:tblPr/>
              <a:tblGrid>
                <a:gridCol w="1430280"/>
                <a:gridCol w="4386240"/>
                <a:gridCol w="1616400"/>
              </a:tblGrid>
              <a:tr h="30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a sesiunii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torul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  <a:tr h="615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9.00 – 11.00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iunea 2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00 – 11.15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</a:t>
                      </a: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ză de cafea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15 – 13.00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iunea 2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just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  <a:tr h="307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 – 14.00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a de prânz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96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00 – 15.00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iunea 2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  <a:tr h="308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00 – 15.15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ză de cafea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615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15 – 16.45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iunea 2.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b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  <a:tr h="307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45 – 17.00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luziile primei zile de instruire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itle 1"/>
          <p:cNvSpPr/>
          <p:nvPr/>
        </p:nvSpPr>
        <p:spPr>
          <a:xfrm>
            <a:off x="666720" y="843120"/>
            <a:ext cx="710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2060"/>
                </a:solidFill>
                <a:latin typeface="Arial"/>
                <a:ea typeface="Arial"/>
              </a:rPr>
              <a:t>Ce trebuie să conțină o agendă</a:t>
            </a:r>
            <a:r>
              <a:rPr b="1" lang="vi-VN" sz="3200" spc="-1" strike="noStrike">
                <a:solidFill>
                  <a:srgbClr val="002060"/>
                </a:solidFill>
                <a:latin typeface="Arial"/>
                <a:ea typeface="Arial"/>
              </a:rPr>
              <a:t>?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0" name="Rectangle 1"/>
          <p:cNvSpPr/>
          <p:nvPr/>
        </p:nvSpPr>
        <p:spPr>
          <a:xfrm>
            <a:off x="666720" y="1364760"/>
            <a:ext cx="7588440" cy="8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mbria"/>
                <a:ea typeface="Calibri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Cambria"/>
                <a:ea typeface="Calibri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Cambria"/>
                <a:ea typeface="Calibri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Cambria"/>
                <a:ea typeface="Calibri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Cambria"/>
                <a:ea typeface="Calibri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Cambria"/>
                <a:ea typeface="Calibri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Cambria"/>
                <a:ea typeface="Calibri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Cambria"/>
                <a:ea typeface="Calibri"/>
              </a:rPr>
              <a:t>ZIUA 3 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822240" y="2133720"/>
          <a:ext cx="7432920" cy="3865320"/>
        </p:xfrm>
        <a:graphic>
          <a:graphicData uri="http://schemas.openxmlformats.org/drawingml/2006/table">
            <a:tbl>
              <a:tblPr/>
              <a:tblGrid>
                <a:gridCol w="1430280"/>
                <a:gridCol w="4386240"/>
                <a:gridCol w="1616400"/>
              </a:tblGrid>
              <a:tr h="30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a sesiunii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torul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  <a:tr h="615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9.00 – 11.00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iunea 2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00 – 11.15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</a:t>
                      </a: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ză de cafea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15 – 13.00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iunea 2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just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  <a:tr h="307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 – 14.00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a de prânz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96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00 – 15.00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iunea 2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  <a:tr h="308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00 – 15.15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ză de cafea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615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15 – 16.45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iunea 2.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b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  <a:tr h="307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45 – 17.00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luziile primei zile de instruire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31640" y="2120400"/>
            <a:ext cx="81504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80f0f"/>
                </a:solidFill>
                <a:latin typeface="Cambria"/>
                <a:ea typeface="Arial"/>
              </a:rPr>
              <a:t>Modulul 12: 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2060"/>
                </a:solidFill>
                <a:latin typeface="Cambria"/>
              </a:rPr>
              <a:t>Managementul resurselor umane 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2060"/>
                </a:solidFill>
                <a:latin typeface="Cambria"/>
              </a:rPr>
              <a:t>din cadrul operatorilor serviciilor de 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2060"/>
                </a:solidFill>
                <a:latin typeface="Cambria"/>
              </a:rPr>
              <a:t>alimentare cu apă și de canalizare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49EA-C0E8-4630-9E17-F13386939694}" type="slidenum">
              <a:rPr b="1" lang="en-US" sz="2200" spc="-1" strike="noStrike">
                <a:solidFill>
                  <a:srgbClr val="ffffff"/>
                </a:solidFill>
                <a:latin typeface="Georgia"/>
                <a:ea typeface="MS PGothic"/>
              </a:rPr>
              <a:t>&lt;number&gt;</a:t>
            </a:fld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1272960"/>
            <a:ext cx="8366040" cy="696600"/>
          </a:xfrm>
          <a:prstGeom prst="rect">
            <a:avLst/>
          </a:prstGeom>
          <a:solidFill>
            <a:srgbClr val="d2cdc8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2060"/>
                </a:solidFill>
                <a:latin typeface="Calibri"/>
              </a:rPr>
              <a:t>Modulul de instruire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09320" y="2584440"/>
            <a:ext cx="8150040" cy="24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6e6452"/>
                </a:solidFill>
                <a:latin typeface="Arial"/>
              </a:rPr>
              <a:t> </a:t>
            </a:r>
            <a:r>
              <a:rPr b="1" i="1" lang="ro-RO" sz="2800" spc="-1" strike="noStrike">
                <a:solidFill>
                  <a:srgbClr val="002060"/>
                </a:solidFill>
                <a:latin typeface="Cambria"/>
              </a:rPr>
              <a:t>Obiectivul principal</a:t>
            </a:r>
            <a:r>
              <a:rPr b="0" lang="ro-RO" sz="2800" spc="-1" strike="noStrike">
                <a:solidFill>
                  <a:srgbClr val="002060"/>
                </a:solidFill>
                <a:latin typeface="Cambria"/>
              </a:rPr>
              <a:t> al managementului resurselor umane este de a furniza pricepere si experienta in acest domeniu in scopul obtinerii unor performante optime si sigure, folosind cele mai adecvate metode.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9298-DA42-4B59-8371-F67388E13C84}" type="slidenum">
              <a:rPr b="1" lang="en-US" sz="2200" spc="-1" strike="noStrike">
                <a:solidFill>
                  <a:srgbClr val="ffffff"/>
                </a:solidFill>
                <a:latin typeface="Georgia"/>
                <a:ea typeface="MS PGothic"/>
              </a:rPr>
              <a:t>&lt;number&gt;</a:t>
            </a:fld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320" y="1272960"/>
            <a:ext cx="8366040" cy="696600"/>
          </a:xfrm>
          <a:prstGeom prst="rect">
            <a:avLst/>
          </a:prstGeom>
          <a:solidFill>
            <a:srgbClr val="d2cdc8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2060"/>
                </a:solidFill>
                <a:latin typeface="Calibri"/>
              </a:rPr>
              <a:t>Scop şi obiective modulului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09320" y="2336400"/>
            <a:ext cx="815004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00000"/>
                </a:solidFill>
                <a:latin typeface="Cambria"/>
                <a:ea typeface="MS PGothic"/>
              </a:rPr>
              <a:t>Sesiunea 1: </a:t>
            </a:r>
            <a:r>
              <a:rPr b="1" lang="ro-RO" sz="2800" spc="-1" strike="noStrike">
                <a:solidFill>
                  <a:srgbClr val="002060"/>
                </a:solidFill>
                <a:latin typeface="Cambria"/>
                <a:ea typeface="MS PGothic"/>
              </a:rPr>
              <a:t>Legislația națională în domeniul managementului resurselor umane.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00000"/>
                </a:solidFill>
                <a:latin typeface="Cambria"/>
                <a:ea typeface="MS PGothic"/>
              </a:rPr>
              <a:t>Sesiunea 2: </a:t>
            </a:r>
            <a:r>
              <a:rPr b="1" lang="ro-RO" sz="2800" spc="-1" strike="noStrike">
                <a:solidFill>
                  <a:srgbClr val="002060"/>
                </a:solidFill>
                <a:latin typeface="Cambria"/>
              </a:rPr>
              <a:t>Departamentul managementul resurselor umane.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00000"/>
                </a:solidFill>
                <a:latin typeface="Cambria"/>
                <a:ea typeface="MS PGothic"/>
              </a:rPr>
              <a:t>Sesiunea 3: </a:t>
            </a:r>
            <a:r>
              <a:rPr b="1" lang="ro-RO" sz="2800" spc="-1" strike="noStrike">
                <a:solidFill>
                  <a:srgbClr val="002060"/>
                </a:solidFill>
                <a:latin typeface="Cambria"/>
              </a:rPr>
              <a:t>Dezvoltarea profesională a personalului.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165E-4345-4932-9FF4-05015A68FAF9}" type="slidenum">
              <a:rPr b="1" lang="en-US" sz="2200" spc="-1" strike="noStrike">
                <a:solidFill>
                  <a:srgbClr val="ffffff"/>
                </a:solidFill>
                <a:latin typeface="Georgia"/>
                <a:ea typeface="MS PGothic"/>
              </a:rPr>
              <a:t>&lt;number&gt;</a:t>
            </a:fld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320" y="1272960"/>
            <a:ext cx="8366040" cy="696600"/>
          </a:xfrm>
          <a:prstGeom prst="rect">
            <a:avLst/>
          </a:prstGeom>
          <a:solidFill>
            <a:srgbClr val="d2cdc8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2060"/>
                </a:solidFill>
                <a:latin typeface="Calibri"/>
              </a:rPr>
              <a:t>Structura cursului (modulului)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517320" y="2087640"/>
            <a:ext cx="815004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00000"/>
                </a:solidFill>
                <a:latin typeface="Cambria"/>
                <a:ea typeface="MS PGothic"/>
              </a:rPr>
              <a:t>Sesiunea 1: </a:t>
            </a:r>
            <a:r>
              <a:rPr b="1" lang="ro-RO" sz="2800" spc="-1" strike="noStrike">
                <a:solidFill>
                  <a:srgbClr val="002060"/>
                </a:solidFill>
                <a:latin typeface="Cambria"/>
                <a:ea typeface="MS PGothic"/>
              </a:rPr>
              <a:t>Legislația națională în domeniul managementului resurselor umane.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2060"/>
                </a:solidFill>
                <a:latin typeface="Cambria"/>
              </a:rPr>
              <a:t>Cadrul legislativ al managementului resurselor umane.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2060"/>
                </a:solidFill>
                <a:latin typeface="Cambria"/>
              </a:rPr>
              <a:t>Supravegherea și controlul asupra respectării legislației muncii.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2060"/>
                </a:solidFill>
                <a:latin typeface="Cambria"/>
              </a:rPr>
              <a:t>Contractul colectiv de muncă și convenția colectivă de muncă.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2060"/>
                </a:solidFill>
                <a:latin typeface="Cambria"/>
              </a:rPr>
              <a:t>Contractul individual de muncă.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2060"/>
                </a:solidFill>
                <a:latin typeface="Cambria"/>
              </a:rPr>
              <a:t>Securitatea și sănătatea în muncă.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2060"/>
                </a:solidFill>
                <a:latin typeface="Cambria"/>
              </a:rPr>
              <a:t>Disciplina muncii și răspunderea disciplinară.</a:t>
            </a:r>
            <a:r>
              <a:rPr b="1" lang="ro-RO" sz="22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3130-B99A-453B-9FFC-C9E8A4C9ED7C}" type="slidenum">
              <a:rPr b="1" lang="en-US" sz="2200" spc="-1" strike="noStrike">
                <a:solidFill>
                  <a:srgbClr val="ffffff"/>
                </a:solidFill>
                <a:latin typeface="Georgia"/>
                <a:ea typeface="MS PGothic"/>
              </a:rPr>
              <a:t>&lt;number&gt;</a:t>
            </a:fld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1272960"/>
            <a:ext cx="8366040" cy="696600"/>
          </a:xfrm>
          <a:prstGeom prst="rect">
            <a:avLst/>
          </a:prstGeom>
          <a:solidFill>
            <a:srgbClr val="d2cdc8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2060"/>
                </a:solidFill>
                <a:latin typeface="Calibri"/>
              </a:rPr>
              <a:t>Structura cursului (modulului)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01320" y="1836360"/>
            <a:ext cx="836604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mbria"/>
                <a:ea typeface="MS PGothic"/>
              </a:rPr>
              <a:t>Sesiunea 2: 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2060"/>
                </a:solidFill>
                <a:latin typeface="Cambria"/>
              </a:rPr>
              <a:t>Departamentul managementului resurselor umane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80f0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060"/>
                </a:solidFill>
                <a:latin typeface="Cambria"/>
              </a:rPr>
              <a:t>Planificarea strategică a resurselor umane. 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80f0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060"/>
                </a:solidFill>
                <a:latin typeface="Cambria"/>
              </a:rPr>
              <a:t>Regulament cu privire la activitatea serviciului resurse umane (dispoziţii generale, structura, funcţii, drepturi, responsabilităţi )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80f0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060"/>
                </a:solidFill>
                <a:latin typeface="Cambria"/>
              </a:rPr>
              <a:t>Proiectarea postului (funcției). Analiza sarcinilor, definirea posturilor și fișa postului. Însemnătatea acestor elemente în creșterea eficienței proceselor tehnologice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80f0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060"/>
                </a:solidFill>
                <a:latin typeface="Cambria"/>
              </a:rPr>
              <a:t>Recrutarea și selectarea resurselor umane. Activitățile MRU ale operatorului în  vederea integrării noului personal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80f0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060"/>
                </a:solidFill>
                <a:latin typeface="Cambria"/>
              </a:rPr>
              <a:t>Procesul de evaluare a performanțelor profesionale. Rezultatele analizei sarcinilor-experiență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80f0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060"/>
                </a:solidFill>
                <a:latin typeface="Cambria"/>
              </a:rPr>
              <a:t>Termenele de păstrare a documentelor ce vizează resursele umane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80f0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060"/>
                </a:solidFill>
                <a:latin typeface="Cambria"/>
              </a:rPr>
              <a:t>Fișa personală de evidență a resurselor umane (cadrelor)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561F-840A-4F4A-948C-C223A7DF0377}" type="slidenum">
              <a:rPr b="1" lang="en-US" sz="2200" spc="-1" strike="noStrike">
                <a:solidFill>
                  <a:srgbClr val="ffffff"/>
                </a:solidFill>
                <a:latin typeface="Georgia"/>
                <a:ea typeface="MS PGothic"/>
              </a:rPr>
              <a:t>&lt;number&gt;</a:t>
            </a:fld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1073160"/>
            <a:ext cx="8366040" cy="696960"/>
          </a:xfrm>
          <a:prstGeom prst="rect">
            <a:avLst/>
          </a:prstGeom>
          <a:solidFill>
            <a:srgbClr val="d2cdc8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2060"/>
                </a:solidFill>
                <a:latin typeface="Calibri"/>
              </a:rPr>
              <a:t>Structura cursului (modulului)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09320" y="1802880"/>
            <a:ext cx="815004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mbria"/>
                <a:ea typeface="MS PGothic"/>
              </a:rPr>
              <a:t>Sesiunea 3: </a:t>
            </a:r>
            <a:r>
              <a:rPr b="1" lang="ro-RO" sz="2400" spc="-1" strike="noStrike">
                <a:solidFill>
                  <a:srgbClr val="002060"/>
                </a:solidFill>
                <a:latin typeface="Cambria"/>
              </a:rPr>
              <a:t>Dezvoltarea profesională a personalului.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060"/>
                </a:solidFill>
                <a:latin typeface="Cambria"/>
              </a:rPr>
              <a:t>Strategia întreprinderii privind dezvoltarea resurselor umane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060"/>
                </a:solidFill>
                <a:latin typeface="Cambria"/>
              </a:rPr>
              <a:t>Analiza nevoilor de formare în cadrul întreprinderii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060"/>
                </a:solidFill>
                <a:latin typeface="Cambria"/>
              </a:rPr>
              <a:t>Capacitatea întreprinderii pentru desfășurarea instruiri: financiară, didactică și organizațională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060"/>
                </a:solidFill>
                <a:latin typeface="Cambria"/>
              </a:rPr>
              <a:t>Programul de instruire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060"/>
                </a:solidFill>
                <a:latin typeface="Cambria"/>
              </a:rPr>
              <a:t>Metode de realizare a instruirii profesionale la întreprindere și în cadrul  IFC AAC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2060"/>
                </a:solidFill>
                <a:latin typeface="Cambria"/>
              </a:rPr>
              <a:t>Reglementarea stimulării materiale și de carieră a stagiarilor.</a:t>
            </a:r>
            <a:endParaRPr b="0" lang="en-US" sz="20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0AE3-A90F-4743-BB1F-E7423AA1377E}" type="slidenum">
              <a:rPr b="1" lang="en-US" sz="2200" spc="-1" strike="noStrike">
                <a:solidFill>
                  <a:srgbClr val="ffffff"/>
                </a:solidFill>
                <a:latin typeface="Georgia"/>
                <a:ea typeface="MS PGothic"/>
              </a:rPr>
              <a:t>&lt;number&gt;</a:t>
            </a:fld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09320" y="1106280"/>
            <a:ext cx="8366040" cy="696600"/>
          </a:xfrm>
          <a:prstGeom prst="rect">
            <a:avLst/>
          </a:prstGeom>
          <a:solidFill>
            <a:srgbClr val="d2cdc8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2060"/>
                </a:solidFill>
                <a:latin typeface="Calibri"/>
              </a:rPr>
              <a:t>Structura cursului (modulului)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04640" y="2499840"/>
            <a:ext cx="8150400" cy="27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2060"/>
                </a:solidFill>
                <a:latin typeface="Calibri"/>
                <a:ea typeface="MS PGothic"/>
              </a:rPr>
              <a:t>Reprezentanții ai intreprinderilor prestătoare de servicii de apă și canalizare (urbani + rurali)</a:t>
            </a:r>
            <a:endParaRPr b="0" lang="en-US" sz="2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3ECC-CC6D-4386-A721-4EAA25A272B1}" type="slidenum">
              <a:rPr b="1" lang="en-US" sz="2200" spc="-1" strike="noStrike">
                <a:solidFill>
                  <a:srgbClr val="ffffff"/>
                </a:solidFill>
                <a:latin typeface="Georgia"/>
                <a:ea typeface="MS PGothic"/>
              </a:rPr>
              <a:t>&lt;number&gt;</a:t>
            </a:fld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1272960"/>
            <a:ext cx="8366040" cy="696600"/>
          </a:xfrm>
          <a:prstGeom prst="rect">
            <a:avLst/>
          </a:prstGeom>
          <a:solidFill>
            <a:srgbClr val="d2cdc8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2060"/>
                </a:solidFill>
                <a:latin typeface="Calibri"/>
              </a:rPr>
              <a:t>Grupul ţintă</a:t>
            </a:r>
            <a:endParaRPr b="0" lang="en-US" sz="36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itle 1"/>
          <p:cNvSpPr/>
          <p:nvPr/>
        </p:nvSpPr>
        <p:spPr>
          <a:xfrm>
            <a:off x="666720" y="843120"/>
            <a:ext cx="710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2060"/>
                </a:solidFill>
                <a:latin typeface="Arial"/>
                <a:ea typeface="Arial"/>
              </a:rPr>
              <a:t>Ce trebuie să conțină o agendă</a:t>
            </a:r>
            <a:r>
              <a:rPr b="1" lang="vi-VN" sz="3200" spc="-1" strike="noStrike">
                <a:solidFill>
                  <a:srgbClr val="002060"/>
                </a:solidFill>
                <a:latin typeface="Arial"/>
                <a:ea typeface="Arial"/>
              </a:rPr>
              <a:t>?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4" name="Rectangle 1"/>
          <p:cNvSpPr/>
          <p:nvPr/>
        </p:nvSpPr>
        <p:spPr>
          <a:xfrm>
            <a:off x="666720" y="1281240"/>
            <a:ext cx="75884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mbria"/>
                <a:ea typeface="Calibri"/>
              </a:rPr>
              <a:t>MODULUL: denumirea                                                               ZIUA 1 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784080" y="2049480"/>
          <a:ext cx="7471080" cy="4338720"/>
        </p:xfrm>
        <a:graphic>
          <a:graphicData uri="http://schemas.openxmlformats.org/drawingml/2006/table">
            <a:tbl>
              <a:tblPr/>
              <a:tblGrid>
                <a:gridCol w="1576440"/>
                <a:gridCol w="4057920"/>
                <a:gridCol w="1836720"/>
              </a:tblGrid>
              <a:tr h="220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a sesiunii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ctorul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  <a:tr h="442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9.00 – 09.30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Înregistrarea participanţilor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cc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  <a:tr h="662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9.30 – 10.00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rea echipei/participanților, conținutului și structurii cursului; stabilirea regulilor de lucru; identificarea necesităților de instruire a cursanților.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cc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  <a:tr h="441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 – 11.00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iunea 1: 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cc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  <a:tr h="222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00 – 11.15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ză de cafea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15 – 13.15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iunea 1: 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cc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  <a:tr h="4269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15 – 14.15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a de prânz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1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15 – 15.00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iunea 1: 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cc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  <a:tr h="376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00 – 15.15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ză de cafea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2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15 – 16.45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iunea 1: 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bcc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  <a:tr h="220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45 – 17.00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luziile primei zile de instruire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0f0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7T13:45:17Z</dcterms:created>
  <dc:creator>user</dc:creator>
  <dc:description/>
  <cp:keywords>GIZ-Leerfolie</cp:keywords>
  <dc:language>en-US</dc:language>
  <cp:lastModifiedBy>Admin</cp:lastModifiedBy>
  <cp:lastPrinted>2012-07-19T10:16:59Z</cp:lastPrinted>
  <dcterms:modified xsi:type="dcterms:W3CDTF">2017-06-12T11:28:06Z</dcterms:modified>
  <cp:revision>130</cp:revision>
  <dc:subject/>
  <dc:title>Assistance provided by the German Development Cooperation through GIZ to the Republic of Moldova in the period 2007-2014</dc:title>
</cp:coreProperties>
</file>