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Arial Narrow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72D9E-93B3-4028-A966-1C0A86816942}" type="slidenum">
              <a:rPr b="0" lang="de-DE" sz="1200" spc="-1" strike="noStrike">
                <a:solidFill>
                  <a:srgbClr val="000000"/>
                </a:solidFill>
                <a:latin typeface="Arial Narrow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8" name=""/>
          <p:cNvSpPr/>
          <p:nvPr/>
        </p:nvSpPr>
        <p:spPr>
          <a:xfrm>
            <a:off x="906480" y="471492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C23DB1-2D67-403B-A14C-8F8690A54843}" type="slidenum">
              <a:rPr b="1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4" name=""/>
          <p:cNvSpPr/>
          <p:nvPr/>
        </p:nvSpPr>
        <p:spPr>
          <a:xfrm>
            <a:off x="906480" y="471492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CDD029-42B1-47C5-901C-B523F58DC100}" type="slidenum">
              <a:rPr b="1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7" name=""/>
          <p:cNvSpPr/>
          <p:nvPr/>
        </p:nvSpPr>
        <p:spPr>
          <a:xfrm>
            <a:off x="906480" y="471492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AD8219-BBE7-41EA-8003-EE75C1DBBFB5}" type="slidenum">
              <a:rPr b="1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1" name=""/>
          <p:cNvSpPr/>
          <p:nvPr/>
        </p:nvSpPr>
        <p:spPr>
          <a:xfrm>
            <a:off x="906480" y="471492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53DA7C-096F-4E9C-861D-4CEBB9A62349}" type="slidenum">
              <a:rPr b="1" lang="de-DE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3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08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144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436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08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144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9EF39-2B08-490C-A63C-6D780E44C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8A4AF-F8D7-4757-823B-15734300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25D63-DCE8-44E3-A173-48FF2390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86A10-3AE1-4E75-99CB-699B93F4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6D145-BC3D-4895-B955-2B1D3CF5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3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48A34-C25C-4FCA-929B-39AE91ED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CF26C-724C-452D-AFFE-944DEBF4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DBC7C-1D20-4849-B126-1CCEF381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826E-D877-4794-AE93-B995B262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B21A-1B31-4E9C-BABA-2FEA2308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D7611-851D-4C09-9414-F82D44BB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08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08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08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436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08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1380C-7376-4C41-BAA5-117069B27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91129-C77C-4AA7-84C8-80A67EB80B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2A4AD-96C0-4E4B-A95C-4EEF39E5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3ADD46-201F-475D-AEDE-E08D9E54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A6D25-C508-4A15-B2E0-82ECBF09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1AC8B5-51FC-4F7E-B4F2-B29D349F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3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0C192-6313-4B85-8E32-B00DA8E7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FAC47-259C-42B7-8E86-0A1BB178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136C1-9867-4607-83ED-D9BA6028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9AA68-011D-4AAF-8255-642B52A3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7E944-A68C-4B32-94EC-1FEBFF04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4B6C4-8C59-4F86-971F-B0B5174F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08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436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08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086AD-4640-47E7-8844-F3DAA0A0B7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FA4E2C-04C1-4150-B832-9D9DD8DD2B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D31495-9E56-42F6-855D-B22E535F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39BA0B-2775-4F25-B008-FDF92D34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AABE10-D7E6-41AB-9FF3-50AD0CAB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9189F6-C02A-4546-8CF9-F4FB7CE6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3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9676FE-2756-4339-86DA-E4BEB135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43D4AC-18EC-413F-904E-66DF6D73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F321D2-C9A7-408D-9A66-6808FBC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192EB2-874A-4D65-8F78-4F698870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D70F82-6849-4BFF-9E4C-F87AF671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110FC9-E81A-4CF3-BF38-D85053E3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08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436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08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5B5B9C-6EFC-4373-B58A-0F0F665211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3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08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08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3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08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436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08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3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08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436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08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3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3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308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4144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436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308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4144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3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1308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4144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8436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1308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4144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3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308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144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436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308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144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4360" y="1482480"/>
            <a:ext cx="777384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4360" y="4440600"/>
            <a:ext cx="777384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24480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43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440600"/>
            <a:ext cx="37933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08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24480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436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08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440600"/>
            <a:ext cx="2503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704000" y="658188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EB043373-6664-4823-916F-C79719C2C4C2}" type="slidenum">
              <a:rPr b="1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862360" y="6581880"/>
            <a:ext cx="341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ype presentation tit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79320" y="6581880"/>
            <a:ext cx="129384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3/0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704000" y="658188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D678451D-8125-4580-AAD4-652023590630}" type="slidenum">
              <a:rPr b="1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7"/>
          </p:nvPr>
        </p:nvSpPr>
        <p:spPr>
          <a:xfrm>
            <a:off x="679320" y="6581520"/>
            <a:ext cx="1293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o-RO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o-RO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13.06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62360" y="6581880"/>
            <a:ext cx="34192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9080C-DB9A-45E1-9BBE-93F5E8A2A55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7704000" y="658188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54EA2C01-23F2-4E42-BA12-98E22B7A663A}" type="slidenum">
              <a:rPr b="1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9"/>
          </p:nvPr>
        </p:nvSpPr>
        <p:spPr>
          <a:xfrm>
            <a:off x="679320" y="6581520"/>
            <a:ext cx="1293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it-IT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13/06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62360" y="6581880"/>
            <a:ext cx="34192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A7C57-DE7F-429D-891E-E0C8ABE7DC20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7704000" y="658188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542DCC73-ACD6-45BB-8DAC-3ED6E53D78C3}" type="slidenum">
              <a:rPr b="1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1"/>
          </p:nvPr>
        </p:nvSpPr>
        <p:spPr>
          <a:xfrm>
            <a:off x="6586200" y="612360"/>
            <a:ext cx="95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en-US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06/13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612720"/>
            <a:ext cx="13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sldNum" idx="22"/>
          </p:nvPr>
        </p:nvSpPr>
        <p:spPr>
          <a:xfrm>
            <a:off x="8174160" y="1080"/>
            <a:ext cx="760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1322541-2A50-4D8D-9951-A915552F5E2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704000" y="658188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227DC8C3-945F-4F2B-B065-08D358C12D9B}" type="slidenum">
              <a:rPr b="1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2862360" y="6581520"/>
            <a:ext cx="341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79320" y="6581520"/>
            <a:ext cx="1293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13/06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704000" y="658188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9F4AF10A-7D7F-4A54-8D33-BDC7CB1F02F4}" type="slidenum">
              <a:rPr b="1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2862360" y="6581520"/>
            <a:ext cx="341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6"/>
          </p:nvPr>
        </p:nvSpPr>
        <p:spPr>
          <a:xfrm>
            <a:off x="679320" y="6581520"/>
            <a:ext cx="1293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13/06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704000" y="658188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E1D57952-CE70-4D12-B12D-A63B5774C307}" type="slidenum">
              <a:rPr b="1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7"/>
          </p:nvPr>
        </p:nvSpPr>
        <p:spPr>
          <a:xfrm>
            <a:off x="2862360" y="6581520"/>
            <a:ext cx="341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8"/>
          </p:nvPr>
        </p:nvSpPr>
        <p:spPr>
          <a:xfrm>
            <a:off x="679320" y="6581520"/>
            <a:ext cx="1293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13/06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704000" y="658188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43E2E39D-BD20-4F48-A353-D154F299B4B4}" type="slidenum">
              <a:rPr b="1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9"/>
          </p:nvPr>
        </p:nvSpPr>
        <p:spPr>
          <a:xfrm>
            <a:off x="2862360" y="6581520"/>
            <a:ext cx="341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0"/>
          </p:nvPr>
        </p:nvSpPr>
        <p:spPr>
          <a:xfrm>
            <a:off x="679320" y="6581520"/>
            <a:ext cx="1293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13/06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704000" y="658188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DA9099F2-4F4D-45E2-920D-EE1446D3E95C}" type="slidenum">
              <a:rPr b="1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1"/>
          </p:nvPr>
        </p:nvSpPr>
        <p:spPr>
          <a:xfrm>
            <a:off x="2862360" y="6581520"/>
            <a:ext cx="341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2"/>
          </p:nvPr>
        </p:nvSpPr>
        <p:spPr>
          <a:xfrm>
            <a:off x="679320" y="6581520"/>
            <a:ext cx="1293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13/06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704000" y="658188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3DF9A21F-67EF-44E4-8331-F5CC11560322}" type="slidenum">
              <a:rPr b="1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3"/>
          </p:nvPr>
        </p:nvSpPr>
        <p:spPr>
          <a:xfrm>
            <a:off x="2862360" y="6581520"/>
            <a:ext cx="341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company presentation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4"/>
          </p:nvPr>
        </p:nvSpPr>
        <p:spPr>
          <a:xfrm>
            <a:off x="679320" y="6581520"/>
            <a:ext cx="1293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13/06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7704000" y="658188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B11E5AC9-24E2-4229-B1CF-73C271B40860}" type="slidenum">
              <a:rPr b="1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15"/>
          </p:nvPr>
        </p:nvSpPr>
        <p:spPr>
          <a:xfrm>
            <a:off x="2862360" y="6581520"/>
            <a:ext cx="341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Type presentation titl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dt" idx="16"/>
          </p:nvPr>
        </p:nvSpPr>
        <p:spPr>
          <a:xfrm>
            <a:off x="679320" y="6581520"/>
            <a:ext cx="1293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000" spc="-1" strike="noStrike">
                <a:solidFill>
                  <a:srgbClr val="6e6452"/>
                </a:solidFill>
                <a:latin typeface="Arial Narrow"/>
                <a:ea typeface="DejaVu Sans"/>
              </a:rPr>
              <a:t>13/06/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58514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704000" y="6581880"/>
            <a:ext cx="92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Page </a:t>
            </a:r>
            <a:fld id="{0D71DCA2-7953-4D90-B732-58703B2871F3}" type="slidenum">
              <a:rPr b="1" lang="en-GB" sz="1000" spc="-1" strike="noStrike">
                <a:solidFill>
                  <a:srgbClr val="6e6452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6618240" y="304920"/>
            <a:ext cx="2106720" cy="8776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7721640" y="6603840"/>
            <a:ext cx="14223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360" y="1482480"/>
            <a:ext cx="77738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e64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e645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4360" y="2448000"/>
            <a:ext cx="77738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6e645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e645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og.guykawasaki.com/2005/12/the_102030_rule.html" TargetMode="External"/><Relationship Id="rId2" Type="http://schemas.openxmlformats.org/officeDocument/2006/relationships/slideLayout" Target="../slideLayouts/slideLayout13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cub.ro/articoledr.htm" TargetMode="External"/><Relationship Id="rId2" Type="http://schemas.openxmlformats.org/officeDocument/2006/relationships/hyperlink" Target="http://www.bcub.ro/articoledr.htm" TargetMode="External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e-democracy.md/monitoring/politics/comments/reasons-referendum-failure/" TargetMode="External"/><Relationship Id="rId2" Type="http://schemas.openxmlformats.org/officeDocument/2006/relationships/hyperlink" Target="http://www.e-democracy.md/monitoring/politics/comments/reasons-referendum-failure/" TargetMode="External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28760" y="2486160"/>
            <a:ext cx="837252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000"/>
            </a:b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METODOLOGIA STRUCTURII</a:t>
            </a:r>
            <a:r>
              <a:rPr b="1" lang="ro-RO" sz="30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 CURSULUI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Formator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:  Veronica Butnaru</a:t>
            </a:r>
            <a:br>
              <a:rPr sz="3000"/>
            </a:br>
            <a:endParaRPr b="1" lang="en-US" sz="3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428760" y="276120"/>
            <a:ext cx="1554120" cy="8114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2260440" y="73080"/>
            <a:ext cx="1206720" cy="12193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 flipV="1" rot="10800000">
            <a:off x="3703680" y="273600"/>
            <a:ext cx="2822400" cy="1017720"/>
          </a:xfrm>
          <a:prstGeom prst="rect">
            <a:avLst/>
          </a:prstGeom>
          <a:gradFill rotWithShape="0">
            <a:gsLst>
              <a:gs pos="0">
                <a:srgbClr val="2c657e"/>
              </a:gs>
              <a:gs pos="100000">
                <a:srgbClr val="3a87a9"/>
              </a:gs>
            </a:gsLst>
            <a:lin ang="5400000"/>
          </a:gradFill>
          <a:ln cap="sq" w="9360">
            <a:solidFill>
              <a:srgbClr val="47839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100" spc="-1" strike="noStrike">
                <a:solidFill>
                  <a:srgbClr val="ffffff"/>
                </a:solidFill>
                <a:latin typeface="Verdana"/>
                <a:ea typeface="Calibri"/>
              </a:rPr>
              <a:t>Institutul de Formare Continuă în domeniul Alimentării cu Apă și Canalizare </a:t>
            </a: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100" spc="-1" strike="noStrike">
                <a:solidFill>
                  <a:srgbClr val="ffffff"/>
                </a:solidFill>
                <a:latin typeface="Verdana"/>
                <a:ea typeface="Calibri"/>
              </a:rPr>
              <a:t>pentru membrii </a:t>
            </a: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100" spc="-1" strike="noStrike">
                <a:solidFill>
                  <a:srgbClr val="ffffff"/>
                </a:solidFill>
                <a:latin typeface="Verdana"/>
                <a:ea typeface="Calibri"/>
              </a:rPr>
              <a:t>Asociației „Moldova Apă-Canal”</a:t>
            </a: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100" spc="-1" strike="noStrike">
                <a:solidFill>
                  <a:srgbClr val="ffffff"/>
                </a:solidFill>
                <a:latin typeface="Arial"/>
                <a:ea typeface="Calibri"/>
              </a:rPr>
              <a:t> </a:t>
            </a: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69200" y="2021040"/>
            <a:ext cx="1576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200" spc="-1" strike="noStrike">
                <a:solidFill>
                  <a:srgbClr val="999999"/>
                </a:solidFill>
                <a:latin typeface="Arial"/>
              </a:rPr>
              <a:t>ZIUA 1 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526000" y="1897200"/>
            <a:ext cx="34196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84360" y="1546200"/>
            <a:ext cx="77752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3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FORMATO</a:t>
            </a:r>
            <a:r>
              <a:rPr b="1" lang="en-US" sz="3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UL - EXPERT</a:t>
            </a:r>
            <a:endParaRPr b="1" lang="en-US" sz="37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0400" y="1908000"/>
            <a:ext cx="55674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57120" indent="-35712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o-RO" sz="2600" spc="-1" strike="noStrike">
                <a:solidFill>
                  <a:srgbClr val="6e6452"/>
                </a:solidFill>
                <a:latin typeface="Arial"/>
                <a:ea typeface="Noto Sans CJK SC Regular"/>
              </a:rPr>
              <a:t>FORMATORUL</a:t>
            </a:r>
            <a:r>
              <a:rPr b="1" lang="en-US" sz="2600" spc="-1" strike="noStrike">
                <a:solidFill>
                  <a:srgbClr val="6e6452"/>
                </a:solidFill>
                <a:latin typeface="Arial"/>
                <a:ea typeface="Noto Sans CJK SC Regular"/>
              </a:rPr>
              <a:t> – DUBLU EXPERT</a:t>
            </a:r>
            <a:endParaRPr b="1" lang="en-US" sz="26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o-RO" sz="2600" spc="-1" strike="noStrike">
                <a:solidFill>
                  <a:srgbClr val="6e6452"/>
                </a:solidFill>
                <a:latin typeface="Arial"/>
                <a:ea typeface="Noto Sans CJK SC Regular"/>
              </a:rPr>
              <a:t>Profesorul – proiectează / implementează / evaluează</a:t>
            </a:r>
            <a:endParaRPr b="1" lang="en-US" sz="2600" spc="-1" strike="noStrike">
              <a:solidFill>
                <a:srgbClr val="999999"/>
              </a:solidFill>
              <a:latin typeface="Arial"/>
            </a:endParaRPr>
          </a:p>
        </p:txBody>
      </p:sp>
      <p:cxnSp>
        <p:nvCxnSpPr>
          <p:cNvPr id="574" name=""/>
          <p:cNvCxnSpPr/>
          <p:nvPr/>
        </p:nvCxnSpPr>
        <p:spPr>
          <a:xfrm flipV="1">
            <a:off x="5091120" y="2426760"/>
            <a:ext cx="1635840" cy="1154880"/>
          </a:xfrm>
          <a:prstGeom prst="straightConnector1">
            <a:avLst/>
          </a:prstGeom>
          <a:ln cap="sq" w="57240">
            <a:solidFill>
              <a:srgbClr val="ddd9d6"/>
            </a:solidFill>
            <a:miter/>
            <a:tailEnd len="med" type="arrow" w="med"/>
          </a:ln>
        </p:spPr>
      </p:cxnSp>
      <p:sp>
        <p:nvSpPr>
          <p:cNvPr id="575" name=""/>
          <p:cNvSpPr/>
          <p:nvPr/>
        </p:nvSpPr>
        <p:spPr>
          <a:xfrm>
            <a:off x="6726240" y="2165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tiz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n domeniu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23080" y="38862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tiz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 didactică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cxnSp>
        <p:nvCxnSpPr>
          <p:cNvPr id="577" name=""/>
          <p:cNvCxnSpPr>
            <a:endCxn id="576" idx="1"/>
          </p:cNvCxnSpPr>
          <p:nvPr/>
        </p:nvCxnSpPr>
        <p:spPr>
          <a:xfrm>
            <a:off x="5060520" y="3581280"/>
            <a:ext cx="1764360" cy="718560"/>
          </a:xfrm>
          <a:prstGeom prst="straightConnector1">
            <a:avLst/>
          </a:prstGeom>
          <a:ln cap="sq" w="57240">
            <a:solidFill>
              <a:srgbClr val="ddd9d6"/>
            </a:solidFill>
            <a:miter/>
            <a:tailEnd len="med" type="arrow" w="med"/>
          </a:ln>
        </p:spPr>
      </p:cxnSp>
      <p:sp>
        <p:nvSpPr>
          <p:cNvPr id="578" name="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13.06.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47720" y="1025640"/>
            <a:ext cx="80233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Regulil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i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de elaborare a structurii modulului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62360" y="6581880"/>
            <a:ext cx="34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BZ" sz="1000" spc="-1" strike="noStrike">
                <a:solidFill>
                  <a:srgbClr val="6e6452"/>
                </a:solidFill>
                <a:latin typeface="Arial Narrow"/>
              </a:rPr>
              <a:t>GIZ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16040" y="1717560"/>
            <a:ext cx="7775640" cy="476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egula 1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 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Pregătirea setului de documente de bază, necesare pentru elaborarea 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Modulului.</a:t>
            </a:r>
            <a:endParaRPr b="1" lang="en-US" sz="17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egula 2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 Valorificarea bibliografiei relevante  pentru identificarea sesiunilor modulului.</a:t>
            </a:r>
            <a:endParaRPr b="1" lang="en-US" sz="17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egula 3.</a:t>
            </a:r>
            <a:r>
              <a:rPr b="1" lang="ro-RO" sz="1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 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Identificarea Sesiunilor pentru fiecare Modul în parte.</a:t>
            </a:r>
            <a:endParaRPr b="1" lang="en-US" sz="17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egula 4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 Stabilirea pentru fiecare sesiune  a obiectivelor specifice.</a:t>
            </a:r>
            <a:endParaRPr b="1" lang="en-US" sz="17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egula 5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 Identificarea pentru fiecare sesiune a modulului cuvintele cheie.</a:t>
            </a:r>
            <a:endParaRPr b="1" lang="en-US" sz="17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egula 6.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Elaborarea părții teoretice a fiecărei sesiuni.</a:t>
            </a:r>
            <a:endParaRPr b="1" lang="en-US" sz="17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egula 7.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</a:t>
            </a:r>
            <a:r>
              <a:rPr b="1" lang="it-IT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Elaborarea părţi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i</a:t>
            </a:r>
            <a:r>
              <a:rPr b="1" lang="it-IT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practice</a:t>
            </a:r>
            <a:r>
              <a:rPr b="1" lang="it-IT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a fiecărei sesiuni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</a:t>
            </a:r>
            <a:endParaRPr b="1" lang="en-US" sz="17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egula 8. 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Identificarea din partea teoretică şi practică a </a:t>
            </a:r>
            <a:r>
              <a:rPr b="1" i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exercițiilor practice .</a:t>
            </a:r>
            <a:endParaRPr b="1" lang="en-US" sz="17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egula 9</a:t>
            </a:r>
            <a:r>
              <a:rPr b="1" i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 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Identificarea din partea teoretică  şi  practică a sesiunii întrebărille  pentru  auto-evaluare.</a:t>
            </a:r>
            <a:endParaRPr b="1" lang="en-US" sz="17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7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egula 10. </a:t>
            </a:r>
            <a:r>
              <a:rPr b="1" lang="ro-RO" sz="17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Prezentarea pentru fiecare sesiune a modulului referinţe bibliografice .</a:t>
            </a:r>
            <a:endParaRPr b="1" lang="en-US" sz="17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668160" y="993600"/>
            <a:ext cx="777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Elaborarea corectă a Obiectivelor  Sesiunilor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31640" y="1501920"/>
            <a:ext cx="7775640" cy="493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64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O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biectivele reprezintă intenţionalităţi ale procesului instructiv-educativ care indică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chimbări ce urmează să se producă în conştiinţa şi conduita individuală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: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unoaştere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2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.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Înţelegere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3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. </a:t>
            </a:r>
            <a:r>
              <a:rPr b="1" lang="en-US" sz="24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Aplicare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4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.</a:t>
            </a:r>
            <a:r>
              <a:rPr b="1" lang="vi-VN" sz="24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Analiza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5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. 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Sinteza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6. Evaluarea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668160" y="993600"/>
            <a:ext cx="777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Elaborarea corectă a Obiectivelor  Sesiunilor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3120" y="1628640"/>
            <a:ext cx="7777080" cy="492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64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AutoNum type="arabicPeriod"/>
              <a:tabLst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unoaştere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(terminologie, date, termeni, clasificări, criterii, metode, principii și legi, teorii)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33080"/>
                <a:tab algn="l" pos="10782360"/>
              </a:tabLst>
            </a:pPr>
            <a:r>
              <a:rPr b="1" i="1" lang="vi-VN" sz="2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Verbe specifice: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1640"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 defini, a recunoaşte, a distinge, a identifica, a enumera, a numi, a reproduce, a alege, a formula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668160" y="993600"/>
            <a:ext cx="777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Elaborarea corectă a Obiectivelor  Sesiunilor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3120" y="1628640"/>
            <a:ext cx="7777080" cy="492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64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2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Înţeleg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(capacitatea de a raporta noile cunoştinţe la cunoştinţele anterioare prin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: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transpunere – interpretar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- extrapolare)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Verbe specifice: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 tranforma, a ilustra, a redefini, a interpreta, a reorganiza, a explica, a demonstra, a extinde, a extrapola, a estima, a determina, a distinge, a generaliza, a parafraza, a rescrie, a rezuma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68160" y="993600"/>
            <a:ext cx="777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Elaborarea corectă a Obiectivelor  Sesiunilor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73120" y="1628640"/>
            <a:ext cx="7777080" cy="492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64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3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. </a:t>
            </a:r>
            <a:r>
              <a:rPr b="1" lang="en-US" sz="28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Aplic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 noilor cunoştinţe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Verbe specifice: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 aplica, a generaliza, a utiliza, a alege, a clasifica, a restructura, a schimba, a demonstra, a descoperi, a manipula, a modifica, a prezenta, a folosi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668160" y="993600"/>
            <a:ext cx="777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Elaborarea corectă a Obiectivelor  Sesiunilor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3120" y="1628640"/>
            <a:ext cx="7777080" cy="492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64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4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.</a:t>
            </a:r>
            <a:r>
              <a:rPr b="1" lang="vi-VN" sz="28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Analiza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pentru căutarea elementelor,  relaţiilor, principiilor de organizare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Verbe specifice: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 distinge, a identifica, a recunoaşte, a analiza, a compara, a deduce,  a detecta, a diferenţia, a ilustra, a alege, a separa, a dirija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68160" y="993600"/>
            <a:ext cx="777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Elaborarea corectă a Obiectivelor  Sesiunilor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3120" y="1628640"/>
            <a:ext cx="7777080" cy="492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64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5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. 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Sinteza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(crearea unei opere personale, elaborarea unui plan de acţiune, derivarea unor relaţii abstracte dintr-un ansamblu)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Verbe specifice: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 scrie, a relata, a produce, a proiecta, a planifica, a propune, a deriva, a formula, a sintetiza, a aborda pe categorii, a combina, a compune, a imagina, a explica, a modifica, a organiza, a rezuma, a rescri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668160" y="993600"/>
            <a:ext cx="777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Elaborarea corectă a Obiectivelor  Sesiunilor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3120" y="1628640"/>
            <a:ext cx="7777080" cy="492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64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c80f0f"/>
                </a:solidFill>
                <a:latin typeface="Arial"/>
                <a:ea typeface="Noto Sans CJK SC Regular"/>
              </a:rPr>
              <a:t>6</a:t>
            </a: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.</a:t>
            </a:r>
            <a:r>
              <a:rPr b="1" lang="vi-VN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Evaluarea</a:t>
            </a:r>
            <a:r>
              <a:rPr b="1" lang="vi-VN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(critică internă – în interiorul unei lucrări, critică externă – valoarea unui proces care e mijloc relevant pentru un scop)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Verbe specifice: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 judeca, a argumenta, a valida, a decide, a evalua, a compara, a contrasta, a standardiza, a aprecia, a descrie, a justifica, a interpreta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84360" y="1482840"/>
            <a:ext cx="7775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ondiţii de tehno-redactare a Conţinutului Sesiunilor Modulului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4360" y="2448000"/>
            <a:ext cx="777528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Introducere</a:t>
            </a: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Introducere, Introducere, Introducere, Introducere, Introducere, Introducere, Introducere, Introducere, Introducere, Introducere, </a:t>
            </a: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Descrierea teoretică şi analitică (practică)</a:t>
            </a: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Text, text, text, text, text, text, text, text, text, text, text, text, text, text, text, text, text, text, text, text, text, text, , text, text, text, text, text, text, text, text,</a:t>
            </a: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Concluzii şi recomandări:</a:t>
            </a: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Text, text, text, text, text, text, text, text, text, text, text, text, text, text, text, text, text, text, text, text, text, text, , text, text, text, text, text, text, text, text, </a:t>
            </a: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95360" y="110484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000" spc="-1" strike="noStrike">
                <a:solidFill>
                  <a:srgbClr val="c00000"/>
                </a:solidFill>
                <a:latin typeface="Calibri"/>
                <a:ea typeface="Noto Sans CJK SC Regular"/>
              </a:rPr>
              <a:t>Cum sa faci o prezentare Power Point de impact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1643040"/>
            <a:ext cx="82296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586560" y="61272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6e6452"/>
                </a:solidFill>
                <a:latin typeface="Arial Narrow"/>
              </a:rPr>
              <a:t>06/13/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495360" y="1623960"/>
            <a:ext cx="8153280" cy="50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684360" y="1482840"/>
            <a:ext cx="7775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ondiţii de tehno-redactare a Conţinutului Sesiunilor Modulului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4360" y="2448000"/>
            <a:ext cx="777528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Introducere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 descrie actualitatea,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 definesc conceptele esenţiale şi mai puţin uzuale, se menţionează importanţa teoretică şi valoarea aplicativă a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siunii.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684360" y="1482840"/>
            <a:ext cx="7775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ondiţii de tehno-redactare a Conţinutului Sesiunilor Modulului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4360" y="2448000"/>
            <a:ext cx="777528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Descrierea teoretică şi analitică (practică)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naliza teoretico-metodologică din domeniul care este prezentat în sesiune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r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„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84360" y="1482840"/>
            <a:ext cx="7775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ondiţii de tehno-redactare a Conţinutului Sesiunilor Modulului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4360" y="2448000"/>
            <a:ext cx="777528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Concluzii şi recomandări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 recomandă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ca de a fi prezentate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concluziile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identificate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în urma realizării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cercetării şi recomandările formulate.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Concluziile şi recomandările trebuie să fie relevante, să vină ca urmare a analizei arătate în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siune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şi să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fie însoţite de argumente pertinente.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36480" y="108900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ondiţii de tehno-redactare a Conţinutului Sesiunilor Modulului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4360" y="1940040"/>
            <a:ext cx="7954920" cy="446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eferinţele bibliografice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vor conţine resursele bibliografice folosite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pentru fiecare sesiune în parte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Lista cu referinţe bibliografice trebuie să fi repartizate după: 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cte normative (legile Republicii Moldova, hotărârile Guvernului Republicii Moldova, regulamente, materiale instructive);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Manuale, monografii, broşuri;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rticole din ediţii periodice (reviste, culegeri de articole etc.).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tandarde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Documente interne etc.  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684360" y="1482840"/>
            <a:ext cx="7775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ondiţii de tehno-redactare a Conţinutului Sesiunilor Modulului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4360" y="2448000"/>
            <a:ext cx="777528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Anexele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pot conţine tabele, grafice, figuri, scheme, documente financiare completate etc.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4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!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Tabel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e, grafice, figuri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ce ocupă mai mult de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2/3 din pagină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e plasează la Anex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415800" y="1325520"/>
            <a:ext cx="803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Descrierea regulilor de elaborare a structurii curriculei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09680" y="2448000"/>
            <a:ext cx="832464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Curricula (curriculum)</a:t>
            </a:r>
            <a:r>
              <a:rPr b="1" lang="ro-RO" sz="28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= cursă, alergare, traseu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este un proiect educativ care defineşte: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obiectivele unei acţiuni educative,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căile, mijloacele şi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ctivităţile utilizate pentru realizarea finalităţilor,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metode şi instrumente de evaluar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63440" y="1166760"/>
            <a:ext cx="803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Descrierea regulilor de elaborare a structurii curriculei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441360" y="1687680"/>
          <a:ext cx="8214840" cy="4465080"/>
        </p:xfrm>
        <a:graphic>
          <a:graphicData uri="http://schemas.openxmlformats.org/drawingml/2006/table">
            <a:tbl>
              <a:tblPr/>
              <a:tblGrid>
                <a:gridCol w="8214840"/>
              </a:tblGrid>
              <a:tr h="1009440">
                <a:tc>
                  <a:txBody>
                    <a:bodyPr lIns="60840" rIns="60840" tIns="0" bIns="0" anchor="t">
                      <a:noAutofit/>
                    </a:bodyPr>
                    <a:p>
                      <a:pPr marL="341280" indent="-341280">
                        <a:lnSpc>
                          <a:spcPct val="9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41280"/>
                          <a:tab algn="l" pos="1255680"/>
                          <a:tab algn="l" pos="2170080"/>
                          <a:tab algn="l" pos="308448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endParaRPr b="1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1280" indent="-341280">
                        <a:lnSpc>
                          <a:spcPct val="107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341280"/>
                          <a:tab algn="l" pos="1255680"/>
                          <a:tab algn="l" pos="2170080"/>
                          <a:tab algn="l" pos="308448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ctive</a:t>
                      </a:r>
                      <a:endParaRPr b="1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0840" rIns="60840" tIns="0" bIns="0" anchor="t">
                      <a:noAutofit/>
                    </a:bodyPr>
                    <a:p>
                      <a:pPr marL="341280" indent="-341280">
                        <a:lnSpc>
                          <a:spcPct val="93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341280"/>
                          <a:tab algn="l" pos="1255680"/>
                          <a:tab algn="l" pos="2170080"/>
                          <a:tab algn="l" pos="308448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vinte cheie</a:t>
                      </a:r>
                      <a:endParaRPr b="1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0840" rIns="60840" tIns="0" bIns="0" anchor="t">
                      <a:noAutofit/>
                    </a:bodyPr>
                    <a:p>
                      <a:pPr marL="341280" indent="-341280">
                        <a:lnSpc>
                          <a:spcPct val="93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341280"/>
                          <a:tab algn="l" pos="1255680"/>
                          <a:tab algn="l" pos="2170080"/>
                          <a:tab algn="l" pos="308448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a sesiunii</a:t>
                      </a:r>
                      <a:endParaRPr b="1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0840" rIns="60840" tIns="0" bIns="0" anchor="t">
                      <a:noAutofit/>
                    </a:bodyPr>
                    <a:p>
                      <a:pPr marL="341280" indent="-341280">
                        <a:lnSpc>
                          <a:spcPct val="93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341280"/>
                          <a:tab algn="l" pos="1255680"/>
                          <a:tab algn="l" pos="2170080"/>
                          <a:tab algn="l" pos="308448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ologia </a:t>
                      </a:r>
                      <a:endParaRPr b="1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0840" rIns="60840" tIns="0" bIns="0" anchor="t">
                      <a:noAutofit/>
                    </a:bodyPr>
                    <a:p>
                      <a:pPr marL="341280" indent="-341280">
                        <a:lnSpc>
                          <a:spcPct val="93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341280"/>
                          <a:tab algn="l" pos="1255680"/>
                          <a:tab algn="l" pos="2170080"/>
                          <a:tab algn="l" pos="308448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rciții practice</a:t>
                      </a:r>
                      <a:endParaRPr b="1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0840" rIns="60840" tIns="0" bIns="0" anchor="t">
                      <a:noAutofit/>
                    </a:bodyPr>
                    <a:p>
                      <a:pPr marL="341280" indent="-341280">
                        <a:lnSpc>
                          <a:spcPct val="93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341280"/>
                          <a:tab algn="l" pos="1255680"/>
                          <a:tab algn="l" pos="2170080"/>
                          <a:tab algn="l" pos="308448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evaluarea</a:t>
                      </a:r>
                      <a:endParaRPr b="1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200">
                <a:tc>
                  <a:txBody>
                    <a:bodyPr lIns="60840" rIns="60840" tIns="0" bIns="0" anchor="t">
                      <a:noAutofit/>
                    </a:bodyPr>
                    <a:p>
                      <a:pPr marL="341280" indent="-341280">
                        <a:lnSpc>
                          <a:spcPct val="93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341280"/>
                          <a:tab algn="l" pos="1255680"/>
                          <a:tab algn="l" pos="2170080"/>
                          <a:tab algn="l" pos="308448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ele distributive </a:t>
                      </a:r>
                      <a:endParaRPr b="1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60840" rIns="60840" tIns="0" bIns="0" anchor="t">
                      <a:noAutofit/>
                    </a:bodyPr>
                    <a:p>
                      <a:pPr marL="341280" indent="-341280">
                        <a:lnSpc>
                          <a:spcPct val="93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341280"/>
                          <a:tab algn="l" pos="1255680"/>
                          <a:tab algn="l" pos="2170080"/>
                          <a:tab algn="l" pos="308448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inţe bibliografice (materiale de referinţă)</a:t>
                      </a:r>
                      <a:endParaRPr b="1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0840" rIns="60840" tIns="0" bIns="0" anchor="t">
                      <a:noAutofit/>
                    </a:bodyPr>
                    <a:p>
                      <a:pPr marL="341280" indent="-341280">
                        <a:lnSpc>
                          <a:spcPct val="93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341280"/>
                          <a:tab algn="l" pos="1255680"/>
                          <a:tab algn="l" pos="2170080"/>
                          <a:tab algn="l" pos="3084480"/>
                          <a:tab algn="l" pos="3998880"/>
                          <a:tab algn="l" pos="4913280"/>
                          <a:tab algn="l" pos="5827680"/>
                          <a:tab algn="l" pos="6742080"/>
                          <a:tab algn="l" pos="7656480"/>
                          <a:tab algn="l" pos="8570880"/>
                          <a:tab algn="l" pos="9485280"/>
                          <a:tab algn="l" pos="10399680"/>
                          <a:tab algn="l" pos="10782360"/>
                        </a:tabLst>
                      </a:pPr>
                      <a:r>
                        <a:rPr b="1" lang="ro-R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tica</a:t>
                      </a:r>
                      <a:endParaRPr b="1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685800" y="4968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Calibri"/>
              </a:rPr>
              <a:t>Bibliografie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" y="1523880"/>
            <a:ext cx="86868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nowles, Malcolm S. (1980) The Modern Practice of Adult Education;  From Andragogy to Pedagogy. Englewood Cliffs, NJ: Cambridge Adult Educ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rriam, Sharan B. and Rosemary S. Caffarella. (1999) Learning in Adulthood: A Comprehensive Guide. San Francisco: Jossey Bass.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etzee, M. (2002) Short course in Skills Development Facilitation. Pretoria: University of South Africa.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ough, Jacqui (1996), developing learning materials, Institute of Personnel and Development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man, Martyn (1994) A Handbook for Training Strategy - England: Grower publishing Limited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iberius, R.G. (1990) Small Group Teaching: A Trouble‐Shooting Guide, Toronto, OISE Press and the Ontario Institute for Studies in Education.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ibbs, Graham (1992), Teaching More Students: Discussion with More Students, Oxford Brookes University, Oxford Centre for Staff.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marL="285840" indent="-284400" algn="just">
              <a:lnSpc>
                <a:spcPct val="100000"/>
              </a:lnSpc>
              <a:tabLst>
                <a:tab algn="l" pos="0"/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58920" indent="-3574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358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o-RO" sz="2600" spc="-1" strike="noStrike">
                <a:solidFill>
                  <a:srgbClr val="6e6452"/>
                </a:solidFill>
                <a:latin typeface="Arial"/>
                <a:ea typeface="MS PGothic"/>
              </a:rPr>
              <a:t>	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  <a:ea typeface="MS PGothic"/>
              </a:rPr>
              <a:t>	</a:t>
            </a: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484636-542D-409D-9BE8-EB4675F1B5E8}" type="slidenum">
              <a:rPr b="1" lang="en-US" sz="2200" spc="-1" strike="noStrike">
                <a:solidFill>
                  <a:srgbClr val="ffffff"/>
                </a:solidFill>
                <a:latin typeface="Georgia"/>
                <a:ea typeface="MS PGothic"/>
              </a:rPr>
              <a:t>&lt;number&gt;</a:t>
            </a:fld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14680" y="642960"/>
            <a:ext cx="723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28760" y="2486160"/>
            <a:ext cx="837252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000"/>
            </a:br>
            <a:r>
              <a:rPr b="1" lang="ro-RO" sz="3000" spc="-1" strike="noStrike">
                <a:solidFill>
                  <a:srgbClr val="ff0000"/>
                </a:solidFill>
                <a:latin typeface="Arial"/>
                <a:ea typeface="Noto Sans CJK SC Regular"/>
              </a:rPr>
              <a:t>Sfaturi pentru documentare</a:t>
            </a:r>
            <a:br>
              <a:rPr sz="3000"/>
            </a:br>
            <a:r>
              <a:rPr b="1" lang="vi-VN" sz="3000" spc="-1" strike="noStrike">
                <a:solidFill>
                  <a:srgbClr val="ff0000"/>
                </a:solidFill>
                <a:latin typeface="Arial"/>
                <a:ea typeface="Noto Sans CJK SC Regular"/>
              </a:rPr>
              <a:t>Sursele de referinţă. Plagiatul şi internetul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7f7f7f"/>
                </a:solidFill>
                <a:latin typeface="Arial"/>
                <a:ea typeface="Noto Sans CJK SC Regular"/>
              </a:rPr>
              <a:t>Formator</a:t>
            </a:r>
            <a:r>
              <a:rPr b="1" lang="ro-RO" sz="3000" spc="-1" strike="noStrike">
                <a:solidFill>
                  <a:srgbClr val="7f7f7f"/>
                </a:solidFill>
                <a:latin typeface="Arial"/>
                <a:ea typeface="Noto Sans CJK SC Regular"/>
              </a:rPr>
              <a:t>: Butnaru Veronica </a:t>
            </a:r>
            <a:endParaRPr b="1" lang="en-US" sz="3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428760" y="276120"/>
            <a:ext cx="1554120" cy="8114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260440" y="73080"/>
            <a:ext cx="1206720" cy="12193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 flipV="1" rot="10800000">
            <a:off x="3703680" y="273600"/>
            <a:ext cx="2822400" cy="1017720"/>
          </a:xfrm>
          <a:prstGeom prst="rect">
            <a:avLst/>
          </a:prstGeom>
          <a:gradFill rotWithShape="0">
            <a:gsLst>
              <a:gs pos="0">
                <a:srgbClr val="2c657e"/>
              </a:gs>
              <a:gs pos="100000">
                <a:srgbClr val="3a87a9"/>
              </a:gs>
            </a:gsLst>
            <a:lin ang="5400000"/>
          </a:gradFill>
          <a:ln cap="sq" w="9360">
            <a:solidFill>
              <a:srgbClr val="47839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100" spc="-1" strike="noStrike">
                <a:solidFill>
                  <a:srgbClr val="ffffff"/>
                </a:solidFill>
                <a:latin typeface="Verdana"/>
                <a:ea typeface="Calibri"/>
              </a:rPr>
              <a:t>Institutul de Formare Continuă în domeniul Alimentării cu Apă și Canalizare </a:t>
            </a: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100" spc="-1" strike="noStrike">
                <a:solidFill>
                  <a:srgbClr val="ffffff"/>
                </a:solidFill>
                <a:latin typeface="Verdana"/>
                <a:ea typeface="Calibri"/>
              </a:rPr>
              <a:t>pentru membrii </a:t>
            </a: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100" spc="-1" strike="noStrike">
                <a:solidFill>
                  <a:srgbClr val="ffffff"/>
                </a:solidFill>
                <a:latin typeface="Verdana"/>
                <a:ea typeface="Calibri"/>
              </a:rPr>
              <a:t>Asociației „Moldova Apă-Canal”</a:t>
            </a: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100" spc="-1" strike="noStrike">
                <a:solidFill>
                  <a:srgbClr val="ffffff"/>
                </a:solidFill>
                <a:latin typeface="Arial"/>
                <a:ea typeface="Calibri"/>
              </a:rPr>
              <a:t> </a:t>
            </a: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369200" y="2021040"/>
            <a:ext cx="1576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200" spc="-1" strike="noStrike">
                <a:solidFill>
                  <a:srgbClr val="999999"/>
                </a:solidFill>
                <a:latin typeface="Arial"/>
              </a:rPr>
              <a:t>ZIUA </a:t>
            </a:r>
            <a:r>
              <a:rPr b="1" lang="en-US" sz="2200" spc="-1" strike="noStrike">
                <a:solidFill>
                  <a:srgbClr val="999999"/>
                </a:solidFill>
                <a:latin typeface="Arial"/>
              </a:rPr>
              <a:t>3</a:t>
            </a:r>
            <a:r>
              <a:rPr b="1" lang="ro-RO" sz="2200" spc="-1" strike="noStrike">
                <a:solidFill>
                  <a:srgbClr val="999999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526000" y="1897200"/>
            <a:ext cx="34196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57200" y="93348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002060"/>
                </a:solidFill>
                <a:latin typeface="Cambria"/>
                <a:ea typeface="Noto Sans CJK SC Regular"/>
              </a:rPr>
              <a:t>Care este regula 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  <a:ea typeface="Noto Sans CJK SC Regular"/>
              </a:rPr>
              <a:t>10</a:t>
            </a:r>
            <a:r>
              <a:rPr b="1" lang="ro-RO" sz="2400" spc="-1" strike="noStrike">
                <a:solidFill>
                  <a:srgbClr val="002060"/>
                </a:solidFill>
                <a:latin typeface="Cambria"/>
                <a:ea typeface="Noto Sans CJK SC Regular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  <a:ea typeface="Noto Sans CJK SC Regular"/>
              </a:rPr>
              <a:t>20</a:t>
            </a:r>
            <a:r>
              <a:rPr b="1" lang="ro-RO" sz="2400" spc="-1" strike="noStrike">
                <a:solidFill>
                  <a:srgbClr val="002060"/>
                </a:solidFill>
                <a:latin typeface="Cambria"/>
                <a:ea typeface="Noto Sans CJK SC Regular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  <a:ea typeface="Noto Sans CJK SC Regular"/>
              </a:rPr>
              <a:t>30 </a:t>
            </a:r>
            <a:r>
              <a:rPr b="1" lang="ro-RO" sz="2400" spc="-1" strike="noStrike">
                <a:solidFill>
                  <a:srgbClr val="002060"/>
                </a:solidFill>
                <a:latin typeface="Cambria"/>
                <a:ea typeface="Noto Sans CJK SC Regular"/>
              </a:rPr>
              <a:t>pentru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  <a:ea typeface="Noto Sans CJK SC Regular"/>
              </a:rPr>
              <a:t> PowerPoint?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" y="1643040"/>
            <a:ext cx="82296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58920" indent="-357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o-RO" sz="32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1"/>
              </a:rPr>
              <a:t>Guy Kawasaki</a:t>
            </a:r>
            <a:r>
              <a:rPr b="1" lang="ro-RO" sz="3200" spc="-1" strike="noStrike" u="sng">
                <a:solidFill>
                  <a:srgbClr val="0d0d0d"/>
                </a:solidFill>
                <a:uFillTx/>
                <a:latin typeface="Calibri"/>
                <a:ea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  <a:ea typeface="Calibri"/>
              </a:rPr>
              <a:t>a formulat regula sa </a:t>
            </a:r>
            <a:r>
              <a:rPr b="1" lang="ro-RO" sz="3200" spc="-1" strike="noStrike">
                <a:solidFill>
                  <a:srgbClr val="c80f0f"/>
                </a:solidFill>
                <a:latin typeface="Calibri"/>
                <a:ea typeface="Calibri"/>
              </a:rPr>
              <a:t>10/20/30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  <a:ea typeface="Calibri"/>
              </a:rPr>
              <a:t>pentru PowerPoint astfel: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  <a:ea typeface="Calibri"/>
              </a:rPr>
              <a:t>10 diapozitiv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  <a:ea typeface="Calibri"/>
              </a:rPr>
              <a:t> reprezintă numărul optim pentru a fi folosit într-o prezentare.</a:t>
            </a:r>
            <a:endParaRPr b="1" lang="en-US" sz="30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  <a:ea typeface="Calibri"/>
              </a:rPr>
              <a:t>20 de minut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  <a:ea typeface="Calibri"/>
              </a:rPr>
              <a:t> este timpul necesar pentru a susține prezentarea.</a:t>
            </a:r>
            <a:endParaRPr b="1" lang="en-US" sz="30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  <a:ea typeface="Calibri"/>
              </a:rPr>
              <a:t>30 puncte (point)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  <a:ea typeface="Calibri"/>
              </a:rPr>
              <a:t>este dimensiune minimă 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  <a:ea typeface="Calibri"/>
              </a:rPr>
              <a:t>fontulu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  <a:ea typeface="Calibri"/>
              </a:rPr>
              <a:t> care ar trebui folosită în diapozitive</a:t>
            </a:r>
            <a:r>
              <a:rPr b="1" lang="ro-RO" sz="3000" spc="-1" strike="noStrike">
                <a:solidFill>
                  <a:srgbClr val="6e6452"/>
                </a:solidFill>
                <a:latin typeface="Calibri"/>
                <a:ea typeface="Calibri"/>
              </a:rPr>
              <a:t>.</a:t>
            </a:r>
            <a:endParaRPr b="1" lang="en-US" sz="3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15800" y="1325520"/>
            <a:ext cx="803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MATERIALE DE FORMARE</a:t>
            </a:r>
            <a:br>
              <a:rPr sz="2800"/>
            </a:b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9040" y="2124000"/>
            <a:ext cx="832500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ro-RO" sz="2000" spc="-1" strike="noStrike">
                <a:solidFill>
                  <a:srgbClr val="0070c0"/>
                </a:solidFill>
                <a:latin typeface="Calibri"/>
                <a:ea typeface="Noto Sans CJK SC Regular"/>
              </a:rPr>
              <a:t>Suportul de curs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cesta este suportul teoretic care sprijină cursul DVs. El trebuie să conţină nici prea multă,nici prea puţină informaţie, astfel încât să lămurească şi să fixeze conţinutul şi să ofere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posibilitatea cursantului de a căpăta gust pentru studiu individual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.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ro-RO" sz="2000" spc="-1" strike="noStrike">
                <a:solidFill>
                  <a:srgbClr val="0070c0"/>
                </a:solidFill>
                <a:latin typeface="Calibri"/>
                <a:ea typeface="Noto Sans CJK SC Regular"/>
              </a:rPr>
              <a:t>Materiale pentru participanţi.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Materialele pentru participanţi conţin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exerciţiile pe care le daţi participanţilor, fişe de lucru, tabele, grafice sau alte tipuri de materiale </a:t>
            </a:r>
            <a:r>
              <a:rPr b="1" lang="ro-RO" sz="2000" spc="-1" strike="noStrike" u="sng">
                <a:solidFill>
                  <a:srgbClr val="c80f0f"/>
                </a:solidFill>
                <a:uFillTx/>
                <a:latin typeface="Calibri"/>
                <a:ea typeface="Noto Sans CJK SC Regular"/>
              </a:rPr>
              <a:t>pe care le daţi în timpul cursulu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, pentru a exemplifica mai bine un anume subiect.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ro-RO" sz="2000" spc="-1" strike="noStrike">
                <a:solidFill>
                  <a:srgbClr val="0070c0"/>
                </a:solidFill>
                <a:latin typeface="Calibri"/>
                <a:ea typeface="Noto Sans CJK SC Regular"/>
              </a:rPr>
              <a:t>Slide-urile.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Slide-urile printate se pot da participanţilor pentru a-şi lua notiţe în timpul expunerii Dvs. 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415800" y="1325520"/>
            <a:ext cx="803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MATERIALE DE FORMARE</a:t>
            </a:r>
            <a:br>
              <a:rPr sz="2800"/>
            </a:b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19040" y="2124000"/>
            <a:ext cx="832500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c80f0f"/>
                </a:solidFill>
                <a:latin typeface="Calibri"/>
                <a:ea typeface="Noto Sans CJK SC Regular"/>
              </a:rPr>
              <a:t>D</a:t>
            </a:r>
            <a:r>
              <a:rPr b="1" lang="vi-VN" sz="2400" spc="-1" strike="noStrike">
                <a:solidFill>
                  <a:srgbClr val="c80f0f"/>
                </a:solidFill>
                <a:latin typeface="Calibri"/>
                <a:ea typeface="Noto Sans CJK SC Regular"/>
              </a:rPr>
              <a:t>ocumentarea: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identificarea </a:t>
            </a:r>
            <a:r>
              <a:rPr b="1" lang="vi-VN" sz="2400" spc="-1" strike="noStrike" u="sng">
                <a:solidFill>
                  <a:srgbClr val="000000"/>
                </a:solidFill>
                <a:uFillTx/>
                <a:latin typeface="Calibri"/>
                <a:ea typeface="Noto Sans CJK SC Regular"/>
              </a:rPr>
              <a:t>setului de argumente, teorii sau opinii c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e pot sprijini sau infirma punctul de vedere pe care l-am prevăzut prin intermediul ipotezei fundamentale a lucrării.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P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rin documentare se înţelege </a:t>
            </a:r>
            <a:r>
              <a:rPr b="1" lang="vi-VN" sz="2400" spc="-1" strike="noStrike">
                <a:solidFill>
                  <a:srgbClr val="c80f0f"/>
                </a:solidFill>
                <a:latin typeface="Calibri"/>
                <a:ea typeface="Noto Sans CJK SC Regular"/>
              </a:rPr>
              <a:t>apelul la surse bibliografice dintre cele mai relevante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dar, când situaţia o impune (în cazul unui text oral), documentarea poate consta şi într-o operaţiune de </a:t>
            </a:r>
            <a:r>
              <a:rPr b="1" i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brainstorming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, căutare în „fişierele” propriei noastre memorii.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415800" y="1325520"/>
            <a:ext cx="803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MATERIALE DE FORMARE</a:t>
            </a:r>
            <a:br>
              <a:rPr sz="2800"/>
            </a:b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9040" y="2124000"/>
            <a:ext cx="832500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0070c0"/>
                </a:solidFill>
                <a:latin typeface="Calibri"/>
                <a:ea typeface="Noto Sans CJK SC Regular"/>
              </a:rPr>
              <a:t>Bibliografia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exprimă măsura documentării care trebuie să fie solidă, reală, autentică şi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relevantă, regăsită la nivelul referinţelor bibliografice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În lista bibliografică vor fi inserate doar lucrările consultate, indiferent de natura lor primară. </a:t>
            </a:r>
            <a:r>
              <a:rPr b="1" lang="vi-VN" sz="2800" spc="-1" strike="noStrike">
                <a:solidFill>
                  <a:srgbClr val="c80f0f"/>
                </a:solidFill>
                <a:latin typeface="Calibri"/>
                <a:ea typeface="Noto Sans CJK SC Regular"/>
              </a:rPr>
              <a:t>Nu se permite indicarea titlurilor care nu au fost consultate.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De asemenea, </a:t>
            </a:r>
            <a:r>
              <a:rPr b="1" lang="vi-VN" sz="2800" spc="-1" strike="noStrike" u="sng">
                <a:solidFill>
                  <a:srgbClr val="000000"/>
                </a:solidFill>
                <a:uFillTx/>
                <a:latin typeface="Calibri"/>
                <a:ea typeface="Noto Sans CJK SC Regular"/>
              </a:rPr>
              <a:t>toate sursele citate în textul lucrării trebuie să se regăsească în lista bibliografiei.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693720" y="1625760"/>
            <a:ext cx="7954920" cy="446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4b859f"/>
                </a:solidFill>
                <a:latin typeface="Arial"/>
                <a:ea typeface="Noto Sans CJK SC Regular"/>
              </a:rPr>
              <a:t>Referinţele bibliografice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vor conţine resursele bibliografice folosite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pentru fiecare sesiune în parte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.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Lista cu referinţe bibliografice trebuie să fi repartizate după: 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cte normative (legile Republicii Moldova, hotărârile Guvernului Republicii Moldova, regulamente, materiale instructive);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Manuale, monografii, broşuri;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rticole din ediţii periodice (reviste, culegeri de articole etc.).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ite-ografia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Standarde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Documente interne etc.  </a:t>
            </a:r>
            <a:endParaRPr b="1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693720" y="1625760"/>
            <a:ext cx="7954920" cy="446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Codul cu privire la ştiinţă şi inovare al Republicii Moldova. Nr. 259-XV din 15 iulie 2004. În: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Monitorul Oficial al Republicii Moldova, 30.07.2004, nr.125-129 (1479-1483).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Palii A., Cultura comunicării. Chişinău: Epigraf, 1999,  p.77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d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m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M.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,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Tratarea apei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. In: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pa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Moldovei, 1997, nr 9, p.17-22.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Dumitrescu D. Evaluarea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pei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. In: UniBIB. 2007. </a:t>
            </a:r>
            <a:r>
              <a:rPr b="1" lang="it-IT" sz="2400" spc="-1" strike="noStrike" u="sng">
                <a:solidFill>
                  <a:srgbClr val="ccccff"/>
                </a:solidFill>
                <a:uFillTx/>
                <a:latin typeface="Calibri"/>
                <a:ea typeface="Noto Sans CJK SC Regular"/>
                <a:hlinkClick r:id="rId1"/>
              </a:rPr>
              <a:t>http://</a:t>
            </a:r>
            <a:r>
              <a:rPr b="1" lang="it-IT" sz="2400" spc="-1" strike="noStrike" u="sng">
                <a:solidFill>
                  <a:srgbClr val="ccccff"/>
                </a:solidFill>
                <a:uFillTx/>
                <a:latin typeface="Calibri"/>
                <a:ea typeface="Noto Sans CJK SC Regular"/>
                <a:hlinkClick r:id="rId2"/>
              </a:rPr>
              <a:t>www.bcub.ro/articoledr.htm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(vizitat 15.03.20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16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)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2671920" y="1776240"/>
            <a:ext cx="354780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095480" y="1166760"/>
            <a:ext cx="710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um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	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 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s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ă scriem etic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84360" y="1825560"/>
            <a:ext cx="7954920" cy="446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E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xistă trei principale forme de conduită imorală în scrierea 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manualului participantului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: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falsificarea datelor cercetării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f</a:t>
            </a:r>
            <a:r>
              <a:rPr b="1" i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bricarea</a:t>
            </a:r>
            <a:r>
              <a:rPr b="1" i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i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datelor cercetării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plagiatul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095480" y="1166760"/>
            <a:ext cx="710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um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	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 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s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ă scriem etic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84360" y="1825560"/>
            <a:ext cx="7954920" cy="446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Una dintre formele cele mai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clare, frecvente şi grave de conduită neetică în scrierea lucrărilor este </a:t>
            </a:r>
            <a:r>
              <a:rPr b="1" lang="vi-VN" sz="2800" spc="-1" strike="noStrike">
                <a:solidFill>
                  <a:srgbClr val="c80f0f"/>
                </a:solidFill>
                <a:latin typeface="Calibri"/>
                <a:ea typeface="Noto Sans CJK SC Regular"/>
              </a:rPr>
              <a:t>plagiatul</a:t>
            </a:r>
            <a:r>
              <a:rPr b="1" lang="ro-RO" sz="2800" spc="-1" strike="noStrike">
                <a:solidFill>
                  <a:srgbClr val="c80f0f"/>
                </a:solidFill>
                <a:latin typeface="Calibri"/>
                <a:ea typeface="Noto Sans CJK SC Regular"/>
              </a:rPr>
              <a:t>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Nu e neapărat un </a:t>
            </a:r>
            <a:r>
              <a:rPr b="1" lang="vi-VN" sz="2800" spc="-1" strike="noStrike">
                <a:solidFill>
                  <a:srgbClr val="c80f0f"/>
                </a:solidFill>
                <a:latin typeface="Calibri"/>
                <a:ea typeface="Noto Sans CJK SC Regular"/>
              </a:rPr>
              <a:t>furt intelectual (de proprietate)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căci poţi plagia şi o lucrare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supra căreia nimeni nu mai are drepturi de proprietate intelectuală.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E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o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înşelare (minţire) a cititorului cu privire la adevăratul autor şi o încălcare a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demnităţii autorului.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095480" y="1166760"/>
            <a:ext cx="710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um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	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 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s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ă scriem etic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4360" y="1825560"/>
            <a:ext cx="7954920" cy="446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c80f0f"/>
                </a:solidFill>
                <a:latin typeface="Calibri"/>
                <a:ea typeface="Noto Sans CJK SC Regular"/>
              </a:rPr>
              <a:t>P</a:t>
            </a:r>
            <a:r>
              <a:rPr b="1" lang="vi-VN" sz="2800" spc="-1" strike="noStrike">
                <a:solidFill>
                  <a:srgbClr val="c80f0f"/>
                </a:solidFill>
                <a:latin typeface="Calibri"/>
                <a:ea typeface="Noto Sans CJK SC Regular"/>
              </a:rPr>
              <a:t>lagiatul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-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expunerea într-o operă scrisă sau o comunicare orală, inclusiv în format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electronic, a unor texte, expresii, idei, demonstrații, date, ipoteze, teorii, rezultate ori metode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științifice extrase din opere scrise, inclusiv în format electronic, ale altor autori, fără a menționa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cest lucru și fără a face trimitere la sursele originale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095480" y="1166760"/>
            <a:ext cx="710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um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	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 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s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ă scriem etic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36480" y="1778040"/>
            <a:ext cx="7954920" cy="446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Se pot plagia atât textele cât şi ideile, dar şi operele de artă, graficele, schemele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etc.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Una dintre formele cele mai frecvente de plagiat e parafraza incorect făcută,nu numai copierea cuvânt cu cuvânt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447840" y="115236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3200" spc="-1" strike="noStrike">
                <a:solidFill>
                  <a:srgbClr val="002060"/>
                </a:solidFill>
                <a:latin typeface="Calibri"/>
                <a:ea typeface="Noto Sans CJK SC Regular"/>
              </a:rPr>
              <a:t>Regulile de Bază: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" y="1643040"/>
            <a:ext cx="82296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57120" indent="-35712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În primul rând, atunci când concepem o prezentare ne gândim la publicul nostru;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Creează structura;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c00000"/>
                </a:solidFill>
                <a:latin typeface="Calibri"/>
                <a:ea typeface="Noto Sans CJK SC Regular"/>
              </a:rPr>
              <a:t>Scrie mare.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Fontul de 12 sau 18 poate fi uneori mult prea mic şi unele surse spun că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30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r fi dimensiunea minimă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pe care ar trebui să o folosim;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c00000"/>
                </a:solidFill>
                <a:latin typeface="Calibri"/>
                <a:ea typeface="Noto Sans CJK SC Regular"/>
              </a:rPr>
              <a:t>Scrie simplu.</a:t>
            </a:r>
            <a:r>
              <a:rPr b="1" lang="vi-VN" sz="2400" spc="-1" strike="noStrike">
                <a:solidFill>
                  <a:srgbClr val="c00000"/>
                </a:solidFill>
                <a:latin typeface="Calibri"/>
                <a:ea typeface="Noto Sans CJK SC Regular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tunci când alegi tipul fontului, ţine cont că unele sunt mai dificil de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descifrat și că sunt preferate cele mai simple;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7-10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rânduri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pe slide a câte 7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- 10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cuvinte fiecare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rând;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586560" y="61272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6e6452"/>
                </a:solidFill>
                <a:latin typeface="Arial Narrow"/>
              </a:rPr>
              <a:t>06/13/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612720"/>
            <a:ext cx="1325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095480" y="1166760"/>
            <a:ext cx="710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um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	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 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s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ă scriem etic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4360" y="1825560"/>
            <a:ext cx="7954920" cy="446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Pentru orice fel de sprijin, material, logistic sau intelectual acordat pentru</a:t>
            </a:r>
            <a:r>
              <a:rPr b="1" lang="ro-RO" sz="36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36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realizarea lucrării, autorul trebuie să aducă „mulţumiri” într-o rubrică specială sau</a:t>
            </a:r>
            <a:r>
              <a:rPr b="1" lang="ro-RO" sz="36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36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la subsolul paginii. 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Legea nr. 436-XVI din 28.12.2006 privind administraţia publică locală. În: Monitorul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18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Oficial al Republicii Moldova nr. 32-35 din 09.03.2007;</a:t>
            </a: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i="1" lang="ro-RO" sz="1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Boţan I. Cauzele eşecului referendumului. În: Comentarii politice, 13 septembrie 2010. </a:t>
            </a:r>
            <a:r>
              <a:rPr b="1" lang="ro-RO" sz="1400" spc="-1" strike="noStrike" u="sng">
                <a:solidFill>
                  <a:srgbClr val="ccccff"/>
                </a:solidFill>
                <a:uFillTx/>
                <a:latin typeface="Arial"/>
                <a:ea typeface="Noto Sans CJK SC Regular"/>
                <a:hlinkClick r:id="rId1"/>
              </a:rPr>
              <a:t>http</a:t>
            </a:r>
            <a:r>
              <a:rPr b="1" lang="ro-RO" sz="1400" spc="-1" strike="noStrike" u="sng">
                <a:solidFill>
                  <a:srgbClr val="ccccff"/>
                </a:solidFill>
                <a:uFillTx/>
                <a:latin typeface="Arial"/>
                <a:ea typeface="Noto Sans CJK SC Regular"/>
                <a:hlinkClick r:id="rId2"/>
              </a:rPr>
              <a:t>://www.e-democracy.md/monitoring/politics/comments/reasons-referendum-failure/</a:t>
            </a:r>
            <a:r>
              <a:rPr b="1" i="1" lang="ro-RO" sz="14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 (vizitat 01.05.2016)</a:t>
            </a:r>
            <a:endParaRPr b="1" lang="en-US" sz="1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095480" y="1166760"/>
            <a:ext cx="710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um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	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 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s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ă scriem etic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84360" y="1825560"/>
            <a:ext cx="7954920" cy="446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Sunt permise, fără consimţământul autorului, reproducerea: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unor scurte citate dintr-o operă, în scop de analiză, comentariu şi critică ori cu titlu de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exemplificare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.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      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REGULI ANTIPLAGIAT HARVARD</a:t>
            </a:r>
            <a:endParaRPr b="1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095480" y="1166760"/>
            <a:ext cx="710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um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	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 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s</a:t>
            </a:r>
            <a:r>
              <a:rPr b="1" lang="ro-RO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ă scriem etic</a:t>
            </a:r>
            <a:r>
              <a:rPr b="1" lang="vi-VN" sz="32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?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74640" y="1787400"/>
            <a:ext cx="7954920" cy="446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3600" spc="-1" strike="noStrike">
                <a:solidFill>
                  <a:srgbClr val="0070c0"/>
                </a:solidFill>
                <a:latin typeface="Arial"/>
                <a:ea typeface="Noto Sans CJK SC Regular"/>
              </a:rPr>
              <a:t>Nu uitați ca există software cu care se identifică sursele de unde s-a plagiat....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47840" y="115236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3200" spc="-1" strike="noStrike">
                <a:solidFill>
                  <a:srgbClr val="002060"/>
                </a:solidFill>
                <a:latin typeface="Calibri"/>
                <a:ea typeface="Noto Sans CJK SC Regular"/>
              </a:rPr>
              <a:t>Regulile de Bază: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" y="1643040"/>
            <a:ext cx="82296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57120" indent="-35712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c00000"/>
                </a:solidFill>
                <a:latin typeface="Calibri"/>
                <a:ea typeface="Noto Sans CJK SC Regular"/>
              </a:rPr>
              <a:t>Accentuează cuvinte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. Pentru a le accentua, e recomandat să foloseşti bold sau o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ltă culoare (prestabilită de tine în paleta de culori utilizată).Nu uita de simplitate. Foloseşte cât mai puţine culori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;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c00000"/>
                </a:solidFill>
                <a:latin typeface="Calibri"/>
                <a:ea typeface="Noto Sans CJK SC Regular"/>
              </a:rPr>
              <a:t>Foloseşte imagini.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cestea spun cât o mie de cuvinte,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dacă le alegem bine: imaginile trebuie să fie relevante, nu doar frumoase; 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c00000"/>
                </a:solidFill>
                <a:latin typeface="Calibri"/>
                <a:ea typeface="Noto Sans CJK SC Regular"/>
              </a:rPr>
              <a:t>Nu folosi sunete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;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vi-VN" sz="2400" spc="-1" strike="noStrike">
                <a:solidFill>
                  <a:srgbClr val="c00000"/>
                </a:solidFill>
                <a:latin typeface="Calibri"/>
                <a:ea typeface="Noto Sans CJK SC Regular"/>
              </a:rPr>
              <a:t>Dacă foloseşti elemente video,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acestea trebuie să fie scurte (să nu depăşească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două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minute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)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.</a:t>
            </a:r>
            <a:endParaRPr b="1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586560" y="61272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6e6452"/>
                </a:solidFill>
                <a:latin typeface="Arial Narrow"/>
              </a:rPr>
              <a:t>06/13/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257800" y="612720"/>
            <a:ext cx="1325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495360" y="101916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Noto Sans CJK SC Regular"/>
              </a:rPr>
              <a:t>Sfaturi pentru susținerea unei prezentări eficiente</a:t>
            </a:r>
            <a:r>
              <a:rPr b="1" lang="ro-RO" sz="3200" spc="-1" strike="noStrike">
                <a:solidFill>
                  <a:srgbClr val="002060"/>
                </a:solidFill>
                <a:latin typeface="Calibri"/>
                <a:ea typeface="Noto Sans CJK SC Regular"/>
              </a:rPr>
              <a:t>: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1643040"/>
            <a:ext cx="82296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57120" indent="-35712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Sosiţi mai devreme şi verificaţi dacă echipamentul funcţionează corespunzător.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Cereţi-le celor din public să pună întrebări doar la sfârşit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;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Încadraţi-vă în timp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 2 – 5 min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; 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80f0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  <a:ea typeface="Noto Sans CJK SC Regular"/>
              </a:rPr>
              <a:t>Nu citiţi integral prezentarea.</a:t>
            </a:r>
            <a:endParaRPr b="1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428760" y="2602080"/>
            <a:ext cx="837252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000"/>
            </a:b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METODOLOGIA ELABORĂRII STRUCTURII</a:t>
            </a:r>
            <a:r>
              <a:rPr b="1" lang="ro-RO" sz="30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URRICULEI/ SUPORTULUI DE CURS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7f7f7f"/>
                </a:solidFill>
                <a:latin typeface="Arial"/>
                <a:ea typeface="Noto Sans CJK SC Regular"/>
              </a:rPr>
              <a:t>Formator</a:t>
            </a:r>
            <a:r>
              <a:rPr b="1" lang="ro-RO" sz="3000" spc="-1" strike="noStrike">
                <a:solidFill>
                  <a:srgbClr val="7f7f7f"/>
                </a:solidFill>
                <a:latin typeface="Arial"/>
                <a:ea typeface="Noto Sans CJK SC Regular"/>
              </a:rPr>
              <a:t>: Butnaru Veronica </a:t>
            </a:r>
            <a:endParaRPr b="1" lang="en-US" sz="30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428760" y="276120"/>
            <a:ext cx="1554120" cy="8114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2260440" y="73080"/>
            <a:ext cx="1206720" cy="12193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flipV="1" rot="10800000">
            <a:off x="3703680" y="273600"/>
            <a:ext cx="2822400" cy="1017720"/>
          </a:xfrm>
          <a:prstGeom prst="rect">
            <a:avLst/>
          </a:prstGeom>
          <a:gradFill rotWithShape="0">
            <a:gsLst>
              <a:gs pos="0">
                <a:srgbClr val="2c657e"/>
              </a:gs>
              <a:gs pos="100000">
                <a:srgbClr val="3a87a9"/>
              </a:gs>
            </a:gsLst>
            <a:lin ang="5400000"/>
          </a:gradFill>
          <a:ln cap="sq" w="9360">
            <a:solidFill>
              <a:srgbClr val="47839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100" spc="-1" strike="noStrike">
                <a:solidFill>
                  <a:srgbClr val="ffffff"/>
                </a:solidFill>
                <a:latin typeface="Verdana"/>
                <a:ea typeface="Calibri"/>
              </a:rPr>
              <a:t>Institutul de Formare Continuă în domeniul Alimentării cu Apă și Canalizare </a:t>
            </a: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100" spc="-1" strike="noStrike">
                <a:solidFill>
                  <a:srgbClr val="ffffff"/>
                </a:solidFill>
                <a:latin typeface="Verdana"/>
                <a:ea typeface="Calibri"/>
              </a:rPr>
              <a:t>pentru membrii </a:t>
            </a: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100" spc="-1" strike="noStrike">
                <a:solidFill>
                  <a:srgbClr val="ffffff"/>
                </a:solidFill>
                <a:latin typeface="Verdana"/>
                <a:ea typeface="Calibri"/>
              </a:rPr>
              <a:t>Asociației „Moldova Apă-Canal”</a:t>
            </a: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1100" spc="-1" strike="noStrike">
                <a:solidFill>
                  <a:srgbClr val="ffffff"/>
                </a:solidFill>
                <a:latin typeface="Arial"/>
                <a:ea typeface="Calibri"/>
              </a:rPr>
              <a:t> </a:t>
            </a:r>
            <a:endParaRPr b="1" lang="en-US" sz="11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69200" y="2021040"/>
            <a:ext cx="1576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2200" spc="-1" strike="noStrike">
                <a:solidFill>
                  <a:srgbClr val="999999"/>
                </a:solidFill>
                <a:latin typeface="Arial"/>
              </a:rPr>
              <a:t>ZIUA 2 </a:t>
            </a:r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526000" y="1897200"/>
            <a:ext cx="34196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68160" y="1166760"/>
            <a:ext cx="777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Obiectivele sesiunii:  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4360" y="2070000"/>
            <a:ext cx="7775280" cy="404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8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1011240"/>
                <a:tab algn="l" pos="1925640"/>
                <a:tab algn="l" pos="2840040"/>
                <a:tab algn="l" pos="3754440"/>
                <a:tab algn="l" pos="4668840"/>
                <a:tab algn="l" pos="5583240"/>
                <a:tab algn="l" pos="6497640"/>
                <a:tab algn="l" pos="7412040"/>
                <a:tab algn="l" pos="8326440"/>
                <a:tab algn="l" pos="9240840"/>
                <a:tab algn="l" pos="1015524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descrierea regulilor de elaborare a structurii modulului pe exemplele Modulelor adresate secțiilor abonați.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1011240"/>
                <a:tab algn="l" pos="1925640"/>
                <a:tab algn="l" pos="2840040"/>
                <a:tab algn="l" pos="3754440"/>
                <a:tab algn="l" pos="4668840"/>
                <a:tab algn="l" pos="5583240"/>
                <a:tab algn="l" pos="6497640"/>
                <a:tab algn="l" pos="7412040"/>
                <a:tab algn="l" pos="8326440"/>
                <a:tab algn="l" pos="9240840"/>
                <a:tab algn="l" pos="1015524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alegerea temei şi obiectivelor modulului.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1011240"/>
                <a:tab algn="l" pos="1925640"/>
                <a:tab algn="l" pos="2840040"/>
                <a:tab algn="l" pos="3754440"/>
                <a:tab algn="l" pos="4668840"/>
                <a:tab algn="l" pos="5583240"/>
                <a:tab algn="l" pos="6497640"/>
                <a:tab algn="l" pos="7412040"/>
                <a:tab algn="l" pos="8326440"/>
                <a:tab algn="l" pos="9240840"/>
                <a:tab algn="l" pos="1015524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descrierea regulilor de elaborare a structurii curriculei. 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spcAft>
                <a:spcPts val="799"/>
              </a:spcAft>
              <a:buClr>
                <a:srgbClr val="c80f0f"/>
              </a:buClr>
              <a:buFont typeface="Arial"/>
              <a:buChar char="•"/>
              <a:tabLst>
                <a:tab algn="l" pos="1011240"/>
                <a:tab algn="l" pos="1925640"/>
                <a:tab algn="l" pos="2840040"/>
                <a:tab algn="l" pos="3754440"/>
                <a:tab algn="l" pos="4668840"/>
                <a:tab algn="l" pos="5583240"/>
                <a:tab algn="l" pos="6497640"/>
                <a:tab algn="l" pos="7412040"/>
                <a:tab algn="l" pos="8326440"/>
                <a:tab algn="l" pos="9240840"/>
                <a:tab algn="l" pos="10155240"/>
                <a:tab algn="l" pos="10333080"/>
                <a:tab algn="l" pos="1078236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Noto Sans CJK SC Regular"/>
              </a:rPr>
              <a:t>identificarea regulilor de elaborare a scriptului modulului.</a:t>
            </a: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1011240"/>
                <a:tab algn="l" pos="1925640"/>
                <a:tab algn="l" pos="2840040"/>
                <a:tab algn="l" pos="3754440"/>
                <a:tab algn="l" pos="4668840"/>
                <a:tab algn="l" pos="5583240"/>
                <a:tab algn="l" pos="6497640"/>
                <a:tab algn="l" pos="7412040"/>
                <a:tab algn="l" pos="8326440"/>
                <a:tab algn="l" pos="9240840"/>
                <a:tab algn="l" pos="1015524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13/06/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84360" y="1246320"/>
            <a:ext cx="7775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o-RO" sz="3600" spc="-1" strike="noStrike">
                <a:solidFill>
                  <a:srgbClr val="c00000"/>
                </a:solidFill>
                <a:latin typeface="Arial"/>
                <a:ea typeface="Noto Sans CJK SC Regular"/>
              </a:rPr>
              <a:t>Cuvintele cheie : 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16040" y="2006640"/>
            <a:ext cx="7775640" cy="422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8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3600" spc="-1" strike="noStrike">
                <a:solidFill>
                  <a:srgbClr val="7f7f7f"/>
                </a:solidFill>
                <a:latin typeface="Arial"/>
                <a:ea typeface="Noto Sans CJK SC Regular"/>
              </a:rPr>
              <a:t>Modul           Sesiune 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3600" spc="-1" strike="noStrike">
                <a:solidFill>
                  <a:srgbClr val="7f7f7f"/>
                </a:solidFill>
                <a:latin typeface="Arial"/>
                <a:ea typeface="Noto Sans CJK SC Regular"/>
              </a:rPr>
              <a:t>Obiective      Concept 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3600" spc="-1" strike="noStrike">
                <a:solidFill>
                  <a:srgbClr val="7f7f7f"/>
                </a:solidFill>
                <a:latin typeface="Arial"/>
                <a:ea typeface="Noto Sans CJK SC Regular"/>
              </a:rPr>
              <a:t>Curricula       Scriptul 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554040"/>
                <a:tab algn="l" pos="1468440"/>
                <a:tab algn="l" pos="2382840"/>
                <a:tab algn="l" pos="3297240"/>
                <a:tab algn="l" pos="4211640"/>
                <a:tab algn="l" pos="5126040"/>
                <a:tab algn="l" pos="6040440"/>
                <a:tab algn="l" pos="6954840"/>
                <a:tab algn="l" pos="7869240"/>
                <a:tab algn="l" pos="8783640"/>
                <a:tab algn="l" pos="9698040"/>
                <a:tab algn="l" pos="9883800"/>
                <a:tab algn="l" pos="10333080"/>
                <a:tab algn="l" pos="10782360"/>
              </a:tabLst>
            </a:pPr>
            <a:r>
              <a:rPr b="1" lang="ro-RO" sz="3600" spc="-1" strike="noStrike">
                <a:solidFill>
                  <a:srgbClr val="7f7f7f"/>
                </a:solidFill>
                <a:latin typeface="Arial"/>
                <a:ea typeface="Noto Sans CJK SC Regular"/>
              </a:rPr>
              <a:t>Expertul        Expertiza</a:t>
            </a:r>
            <a:endParaRPr b="1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9320" y="65818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e6452"/>
                </a:solidFill>
                <a:latin typeface="Arial Narrow"/>
              </a:rPr>
              <a:t>13/06/17</a:t>
            </a:r>
            <a:endParaRPr b="1" lang="en-US" sz="1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7T13:45:17Z</dcterms:created>
  <dc:creator>user</dc:creator>
  <dc:description/>
  <cp:keywords>GIZ-Leerfolie</cp:keywords>
  <dc:language>en-US</dc:language>
  <cp:lastModifiedBy>Dinu </cp:lastModifiedBy>
  <cp:lastPrinted>2012-07-19T10:16:59Z</cp:lastPrinted>
  <dcterms:modified xsi:type="dcterms:W3CDTF">2017-06-13T04:12:20Z</dcterms:modified>
  <cp:revision>66</cp:revision>
  <dc:subject/>
  <dc:title>Assistance provided by the German Development Cooperation through GIZ to the Republic of Moldova in the period 2007-2014</dc:title>
</cp:coreProperties>
</file>