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4145-C979-4E7C-BF79-574A518C08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7ed9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877F-D07D-4EB6-9E67-1534CDCE6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6703-4A3B-42CF-BAD6-0EB0B2BDA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2706-1562-4FD5-B588-E47EEE9F6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A45-531D-44FB-91C2-D382363C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67F-ECDF-4087-9623-475787C0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9D6-D63F-42C5-AE54-FCF58D9B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AD0-1FA5-4704-8391-33BC65CF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A4A-34C0-42EB-9618-CB9F172B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C57-29B3-4AF8-B73F-7086E760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342-0EDD-4827-BBD8-6A59F248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9F1-2020-4586-9F62-805BD216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739152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EC1-ADB9-4878-99C9-F189038C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EE9-17BA-4B59-A7C7-1DD0667C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012-CA3D-4850-B6EC-816C87DC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A0F-6046-46A1-91F8-42591C38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7ed9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5-26 / 11 /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47811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DB58-500E-40B5-AA77-93DFF4DC6C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rezentareAV-1pag.jpg"/>
          <p:cNvPicPr/>
          <p:nvPr/>
        </p:nvPicPr>
        <p:blipFill>
          <a:blip r:embed="rId1"/>
          <a:stretch/>
        </p:blipFill>
        <p:spPr>
          <a:xfrm>
            <a:off x="0" y="0"/>
            <a:ext cx="9167760" cy="5162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638680" y="4640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602320" y="325764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IFICAREA STRATEGICA A RESURSELOR UM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Plan integrat de dezvoltare a resurselor umane </a:t>
            </a:r>
            <a:br>
              <a:rPr sz="2000"/>
            </a:b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la nivelul intervalului de referinta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9120" y="1352520"/>
            <a:ext cx="2210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ctivitat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Terme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Elemente de monitorizar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iagrama Gantt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A2E1-815E-4D90-9D50-DFE1478AE5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819520" y="822240"/>
            <a:ext cx="4330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Detalierea rolurilor si responsabilitatilor </a:t>
            </a:r>
            <a:br>
              <a:rPr sz="2000"/>
            </a:b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la nivelul activitatilor specifice 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" y="894960"/>
            <a:ext cx="3581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Gestiunea personalulu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crutarea si selecti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ngajarea personalulu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ntrenarea si motiva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Evaluarea personalulu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struirea personalulu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Promovarea si concedie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formatizarea activitatilor de resurse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Consolidarea culturii organizational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Obiective strategice detaliate la nivelul altor activitati specific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0693-ECBF-41F0-95A6-FB1D473EAE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4038480" y="666720"/>
            <a:ext cx="42674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Concluzii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pic>
        <p:nvPicPr>
          <p:cNvPr id="91" name="Content Placeholder 4" descr=""/>
          <p:cNvPicPr/>
          <p:nvPr/>
        </p:nvPicPr>
        <p:blipFill>
          <a:blip r:embed="rId1"/>
          <a:stretch/>
        </p:blipFill>
        <p:spPr>
          <a:xfrm>
            <a:off x="1447920" y="743040"/>
            <a:ext cx="52974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996C-F98A-4D84-B968-02FD5A8CD8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prezentareAV-final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514368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DE2F-69B1-4D44-AD5E-75B3C53CF8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638680" y="34099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7ed9"/>
                </a:solidFill>
                <a:latin typeface="Calibri"/>
              </a:rPr>
              <a:t>Vă mulțum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77ed9"/>
                </a:solidFill>
                <a:latin typeface="Calibri"/>
              </a:rPr>
              <a:t>Argumentatie</a:t>
            </a:r>
            <a:endParaRPr b="1" lang="en-US" sz="28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Strategie de Resurse Umane 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prezinta parte integranta a </a:t>
            </a:r>
            <a:r>
              <a:rPr b="1" lang="en-US" sz="1400" spc="-1" strike="noStrike">
                <a:solidFill>
                  <a:srgbClr val="595959"/>
                </a:solidFill>
                <a:latin typeface="Calibri"/>
              </a:rPr>
              <a:t>Strategiei generale de dezvoltare 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 Societatii Comerciale APAVITAL – S.A. Iasi, fiind corelata in acelasi timp, cu documentele de formalizare a organizarii structurale si procesuale a Societatii (Regulamentul Intern, Regulamentul de Organizare si Functionare si Documentatia Sistemului de Management Integrat)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Elaborarea Strategiei de resurse umane a Societatii vizeaza un </a:t>
            </a: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interval calendaristic de 4 ani</a:t>
            </a: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Strategia de resurse umane </a:t>
            </a: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reprezinta, impreuna cu </a:t>
            </a: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Strategia in domeniul investitiilor</a:t>
            </a: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, principalii piloni de sustinere ai </a:t>
            </a: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Strategiei globale de dezvoltare a societatii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Strategia de resurse umane se constituie intr-un document integrator, care reglementeaza 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Calibri"/>
              </a:rPr>
              <a:t>obiectivele strategic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, 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Calibri"/>
              </a:rPr>
              <a:t>caile de actiun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, </a:t>
            </a:r>
            <a:r>
              <a:rPr b="0" lang="en-US" sz="1400" spc="-1" strike="noStrike" u="sng">
                <a:solidFill>
                  <a:srgbClr val="595959"/>
                </a:solidFill>
                <a:uFillTx/>
                <a:latin typeface="Calibri"/>
              </a:rPr>
              <a:t>resursele si termenele 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sociate implementarii strategiei de resurse umane, concomitent cu particularizarea acestor elemente la nivelul fiecarei activitati specifice de resurse umane (gestiunea personalului, recrutarea si selectia personalului, evaluarea personalului, cultura organizationala s.a.m.d.). 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8F8-4E48-4E38-A268-4DE26DEAD5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Cadrul formal de dezvoltare a strategiei </a:t>
            </a:r>
            <a:br>
              <a:rPr sz="2000"/>
            </a:b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in domeniul resurselor uman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830160"/>
            <a:ext cx="297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Strategia globala de dezvoltare a societatii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Contractul de Delegare a gestiunii serviciilor publice de alimentare cu apa si de canalizare 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eclaratia de politica in domeniul resurselor uman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ocumentele de formalizare a structurii organizatoric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Proceduri si instructiuni specifice activitatilor de resurse uman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lte documente programatic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7389-AF90-4015-9569-F4132B0C71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276720" y="811080"/>
            <a:ext cx="4383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177ed9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177ed9"/>
                </a:solidFill>
                <a:latin typeface="Calibri"/>
              </a:rPr>
              <a:t>Cerinte privind dezvoltarea resurselor uman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520" y="830160"/>
            <a:ext cx="279216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rmonizarea strategiei  de resurse umane cu misiunea, viziunea si identitatea societati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Cerinte de natura socio-demografica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Cerinte de natura economico-financiara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Cerinte de natura tehnica si investitionala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lte categorii de cerinte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11B6-0B3E-489B-B1EA-4CA893245C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325680" y="977760"/>
            <a:ext cx="449604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177ed9"/>
                </a:solidFill>
                <a:latin typeface="Calibri"/>
              </a:rPr>
              <a:t>Obiective strategice globale in domeniul resurselor uman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9480" y="1352520"/>
            <a:ext cx="2286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Principii generale de management al resurselor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Obiective fundamental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Obiective derivat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F41C-1D1B-4950-A51C-241AC3CDDD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673360" y="743040"/>
            <a:ext cx="4192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177ed9"/>
                </a:solidFill>
                <a:latin typeface="Calibri"/>
              </a:rPr>
              <a:t>Detalierea obiectivelor strategice la nivelul </a:t>
            </a:r>
            <a:br>
              <a:rPr sz="2000"/>
            </a:br>
            <a:r>
              <a:rPr b="1" lang="es-ES" sz="2000" spc="-1" strike="noStrike">
                <a:solidFill>
                  <a:srgbClr val="177ed9"/>
                </a:solidFill>
                <a:latin typeface="Calibri"/>
              </a:rPr>
              <a:t>activitatilor de resurse uman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160" y="971280"/>
            <a:ext cx="3276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Gestiun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crutarea si selecti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ngaja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ntrenarea si motiva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Evalua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strui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Promovarea si concedierea personalului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formatizarea activitatilor de resurse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Consolidarea culturii organizational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Obiective strategice detaliate la nivelul altor activitati specific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863D-5C25-4133-BBD2-F84D449931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657600" y="800280"/>
            <a:ext cx="48006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Analiza optiunilor strategic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160" y="838080"/>
            <a:ext cx="2514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Evaluarea situatiei existent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naliza corelatiei dintre optiunile strategice si obiectivelor strategic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efinirea optiunilor strategic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naliza factorilor de risc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D24D-E721-4120-B073-AC5D0833D2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51609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177ed9"/>
                </a:solidFill>
                <a:latin typeface="Calibri"/>
              </a:rPr>
              <a:t>Indicatori de performanta si niveluri tinta la nivelul</a:t>
            </a:r>
            <a:br>
              <a:rPr sz="2000"/>
            </a:br>
            <a:r>
              <a:rPr b="1" lang="it-IT" sz="2000" spc="-1" strike="noStrike">
                <a:solidFill>
                  <a:srgbClr val="177ed9"/>
                </a:solidFill>
                <a:latin typeface="Calibri"/>
              </a:rPr>
              <a:t>intervalului de referinta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971640"/>
            <a:ext cx="312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dicatori de resurse umane derivati din Contractul de Delegar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dicatori de dezvoltare strategica a resurselor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dicatori de echilibru al structurii de personal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dicatori ai managementului resurselor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Indicatori aferenti claselor de activitati specifice resurselor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lti indicatori de performanta ai resurselor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3FF7-C23F-41E6-A0DD-48A44E985D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200400" y="1581120"/>
            <a:ext cx="5943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739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Resurse necesare pentru operationalizarea strategiei </a:t>
            </a:r>
            <a:br>
              <a:rPr sz="2000"/>
            </a:br>
            <a:r>
              <a:rPr b="1" lang="en-US" sz="2000" spc="-1" strike="noStrike">
                <a:solidFill>
                  <a:srgbClr val="177ed9"/>
                </a:solidFill>
                <a:latin typeface="Calibri"/>
              </a:rPr>
              <a:t>de resurse umane</a:t>
            </a:r>
            <a:endParaRPr b="1" lang="en-US" sz="2000" spc="-1" strike="noStrike">
              <a:solidFill>
                <a:srgbClr val="177ed9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120" y="1352520"/>
            <a:ext cx="2210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surse uman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surse material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surse financiar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•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Resurse informationale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781680" y="47815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A647-752D-4C83-813C-0DC858C9A1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743200" y="743040"/>
            <a:ext cx="44956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3:21:19Z</dcterms:created>
  <dc:creator/>
  <dc:description/>
  <dc:language>en-US</dc:language>
  <cp:lastModifiedBy/>
  <dcterms:modified xsi:type="dcterms:W3CDTF">2017-06-07T06:45:33Z</dcterms:modified>
  <cp:revision>1</cp:revision>
  <dc:subject/>
  <dc:title>Prezentare ApaVital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nul">
    <vt:lpwstr>;#2011;#</vt:lpwstr>
  </property>
  <property fmtid="{D5CDD505-2E9C-101B-9397-08002B2CF9AE}" pid="3" name="Expiră">
    <vt:lpwstr>2016-12-31T00:00:00Z</vt:lpwstr>
  </property>
  <property fmtid="{D5CDD505-2E9C-101B-9397-08002B2CF9AE}" pid="4" name="Geografic">
    <vt:lpwstr>;#Jud. Iași;#</vt:lpwstr>
  </property>
  <property fmtid="{D5CDD505-2E9C-101B-9397-08002B2CF9AE}" pid="5" name="Keywords0">
    <vt:lpwstr>prezentare, 2011, ApaVital</vt:lpwstr>
  </property>
  <property fmtid="{D5CDD505-2E9C-101B-9397-08002B2CF9AE}" pid="6" name="Language">
    <vt:lpwstr>Română</vt:lpwstr>
  </property>
  <property fmtid="{D5CDD505-2E9C-101B-9397-08002B2CF9AE}" pid="7" name="Partener">
    <vt:lpwstr>;#ApaVital;#</vt:lpwstr>
  </property>
  <property fmtid="{D5CDD505-2E9C-101B-9397-08002B2CF9AE}" pid="8" name="TaskStatus">
    <vt:lpwstr>Terminat</vt:lpwstr>
  </property>
  <property fmtid="{D5CDD505-2E9C-101B-9397-08002B2CF9AE}" pid="9" name="Topic">
    <vt:lpwstr>;#Management;#Raportare;#Simpozion;#</vt:lpwstr>
  </property>
  <property fmtid="{D5CDD505-2E9C-101B-9397-08002B2CF9AE}" pid="10" name="Trimis către">
    <vt:lpwstr>Orest Trofin, Ion Toma</vt:lpwstr>
  </property>
  <property fmtid="{D5CDD505-2E9C-101B-9397-08002B2CF9AE}" pid="11" name="_LCID">
    <vt:r8>1033</vt:r8>
  </property>
  <property fmtid="{D5CDD505-2E9C-101B-9397-08002B2CF9AE}" pid="12" name="_Version">
    <vt:lpwstr>12.0.4518</vt:lpwstr>
  </property>
  <property fmtid="{D5CDD505-2E9C-101B-9397-08002B2CF9AE}" pid="13" name="_dlc_DocId">
    <vt:lpwstr>U5FY2F32NNHV-160-822</vt:lpwstr>
  </property>
  <property fmtid="{D5CDD505-2E9C-101B-9397-08002B2CF9AE}" pid="14" name="_dlc_DocIdItemGuid">
    <vt:lpwstr>0e8b8882-ef37-4ebf-9998-b8afedf07e69</vt:lpwstr>
  </property>
  <property fmtid="{D5CDD505-2E9C-101B-9397-08002B2CF9AE}" pid="15" name="_dlc_DocIdUrl">
    <vt:lpwstr>http://intranet/dg/cml/_layouts/DocIdRedir.aspx?ID=U5FY2F32NNHV-160-822, U5FY2F32NNHV-160-822</vt:lpwstr>
  </property>
  <property fmtid="{D5CDD505-2E9C-101B-9397-08002B2CF9AE}" pid="16" name="dlc_EmailSentUTC">
    <vt:lpwstr>2011-05-20T09:45:00Z</vt:lpwstr>
  </property>
</Properties>
</file>