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A1B1-6ABE-4486-8A73-1D8F3CA1F143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0AB-AEED-46C7-8A24-DEE0A125FED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BBF-5CEB-466F-8622-482830961DF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F43-BF68-41FD-8B4A-2B344D0039D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C8FF-7CD4-49E3-B2D1-502588BA9FE0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418-A2D7-4E36-998D-FD8A617763AD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FD9D-7465-4456-AD0A-0BA0FEB6A702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08520" indent="-3085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1" marL="61848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2" marL="92844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3" marL="123840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4" marL="1546560" indent="-3081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5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6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984DFB8D-A28B-4C44-A145-B72655F87ED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9BB9-A374-40BA-96EB-306EDE9717B7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urs de instruire pentru angajaţii operatorilor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ulul 12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resurselor uman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n cadrul operatorilor serviciilor d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imentare cu apă și canalizare</a:t>
            </a:r>
            <a:br>
              <a:rPr sz="2400"/>
            </a:b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esiunea 1</a:t>
            </a:r>
            <a:br>
              <a:rPr sz="2000"/>
            </a:br>
            <a:r>
              <a:rPr b="1" lang="vi-VN" sz="2000" spc="-1" strike="noStrike">
                <a:solidFill>
                  <a:srgbClr val="ff0000"/>
                </a:solidFill>
                <a:latin typeface="Arial"/>
              </a:rPr>
              <a:t>Securitatea și sănătatea în muncă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Bînzari V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alie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Inspector principal, Inspectoratul de Stat al Muncii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iunie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hișinău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1555560"/>
            <a:ext cx="78976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4b859f"/>
                </a:solidFill>
                <a:latin typeface="Arial"/>
              </a:rPr>
              <a:t>Organizarea la nivel de intreprinde a activităților de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4b859f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4b859f"/>
                </a:solidFill>
                <a:latin typeface="Arial"/>
              </a:rPr>
              <a:t>protecție și prevenire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 realizează d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către angajator, în următoarele modalităţi: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n asumarea de către angajator, în condiţiile articolului 11 alineatul (10) din Legea securităţii şi sănătăţii în muncă, a atribuţiilor lucrătorului desemnat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n desemnarea unuia sau a mai multor lucrători pentru a desfăşura activităţile de protecţie şi prevenire;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n înfiinţarea unui serviciu intern de protecţie şi prevenire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n apelarea la servicii externe de protecţie şi prevenir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2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711360" y="2036880"/>
            <a:ext cx="777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CTIVITATEA ÎN GRUP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096920" y="2970360"/>
            <a:ext cx="743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ne din cadrul întreprinderii va urma cursuri obligatorii în domeniul SSM?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4b859f"/>
                </a:solidFill>
                <a:latin typeface="Arial"/>
                <a:ea typeface="Times New Roman"/>
              </a:rPr>
              <a:t>Timp – 8 min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317600" y="3865680"/>
            <a:ext cx="33908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7440" y="2474640"/>
            <a:ext cx="825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otrivit art.17, alin.(7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 Legea securității și sănătății în muncă nr.186-XVI din 10.07.2008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nducăto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de unităţi, conducăto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locurilor de muncă, specialişt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lucrăto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desemnaţi şi reprezentanţ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lucrătorilo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or urm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ursul obligatori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instruire în domeniul securității și sănătății în munc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îndată după numirea lor în funcţiile respective şi periodic, cel puţin o dată în 36 de luni. Instruirea conducătorilor de unităţi şi lucrătorilor desemnaţi se efectuează la cursuri de instruire realizate de serviciile externe de protecţie şi preveni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0840" y="159372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Instruirea persoanleor cu răspundere în domeniul securității și sănătății în muncă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3040" y="1753920"/>
            <a:ext cx="825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Cerinţele minime de pregătire în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 </a:t>
            </a: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domeniul securităţii şi sănătăţii în muncă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gătirea în domeniul securităţii şi sănătăţii în munc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prinde două niveluri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velul unu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min. 8 ore)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velul do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min. 40 ore)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Instruirea lucrătorilor în domeniul securităţii şi sănătăţii în muncă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2269800"/>
            <a:ext cx="82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1"/>
              </a:spcBef>
              <a:spcAft>
                <a:spcPts val="400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efectuează din mijloacele unităţii, în timpul programului de lucru, în interiorul sau în afara unită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spcAft>
                <a:spcPts val="400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ioad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irii se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ă timp de munc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spcAft>
                <a:spcPts val="400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diţii egale atît pentru femei, cît şi pentru bărbaţ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spcAft>
                <a:spcPts val="400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truirea lucrătorilor în domeniul securităţii şi sănătăţii în muncă cuprinde următoarele 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z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1) instruirea 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a angajare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a) instruirea introductiv-generală;</a:t>
            </a: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b) instruirea la locul de muncă;</a:t>
            </a: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2) instruirea 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eriodic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Instruirea lucrătorilor în domeniul securităţii şi sănătăţii în muncă 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2040" y="2340000"/>
            <a:ext cx="825480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rata fiecărei faze de instruire depinde de specificul activităţii economice şi de riscurile profesional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ș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va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păși 1 oră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zultatul instruirii lucrătorilor în domeniul securităţii şi sănătăţii în muncă se consemnează, </a:t>
            </a:r>
            <a:r>
              <a:rPr b="1" lang="vi-VN" sz="2200" spc="-1" strike="noStrike">
                <a:solidFill>
                  <a:srgbClr val="960b0b"/>
                </a:solidFill>
                <a:latin typeface="Arial"/>
                <a:ea typeface="Times New Roman"/>
              </a:rPr>
              <a:t>în mod obligatoriu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în Fişa personală de instruire în domeniul securităţii şi sănătăţii în munc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Anexa 5)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ă finalizarea instruirii, Fişa personală de instruire în domeniul securităţii şi sănătăţii în muncă se semnează de către lucrătorul instruit şi de către persoana care a efectuat instruirea şi a verificat cunoştinţele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1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Instruirea introductiv-generală</a:t>
            </a: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2269800"/>
            <a:ext cx="82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c80f0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uprinde: 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1) toate persoanele care solicită angajarea în cîmpul muncii; 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2) stagiarii şi ucenicii.</a:t>
            </a: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c80f0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 efectuează de către: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1) angajatorul care şi-a asumat atribuţiile lucrătorului desemnat; 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2) lucrătorul desemnat; 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3) un lucrător al serviciului intern de protecţie şi prevenire; </a:t>
            </a:r>
            <a:br>
              <a:rPr sz="2100"/>
            </a:br>
            <a:r>
              <a:rPr b="0" lang="vi-VN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4) serviciul extern de protecţie şi prevenire.</a:t>
            </a: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1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ÎNTREBAREA 1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595440" y="2471760"/>
            <a:ext cx="79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ne efectuează instruirea la locul de muncă și periodică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795760" y="4041720"/>
            <a:ext cx="36478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4b859f"/>
                </a:solidFill>
                <a:latin typeface="Arial"/>
                <a:ea typeface="Times New Roman"/>
              </a:rPr>
              <a:t>Instruirea la locul de muncă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84280" y="2004840"/>
            <a:ext cx="8361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</a:t>
            </a:r>
            <a:r>
              <a:rPr b="1" lang="vi-VN" sz="2000" spc="-1" strike="noStrike">
                <a:solidFill>
                  <a:srgbClr val="c80f0f"/>
                </a:solidFill>
                <a:latin typeface="Arial"/>
                <a:ea typeface="Times New Roman"/>
              </a:rPr>
              <a:t>efectuează de către conducătorul locului de muncă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 baza informaţiilor şi instrucţiunilor de securitate şi sănătate în muncă, după instruirea introductiv-genera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și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 cuprinde cel puţin următoarele:</a:t>
            </a:r>
            <a:br>
              <a:rPr sz="2000"/>
            </a:b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ţiile privind riscurile profesionale specifice locului de muncă şi/sau postului de lucru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oziţiile instrucţiunilor de securitate şi sănătate în muncă;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ăsurile la nivelul locului de muncă şi/sau postului de lucru privind stingerea incendiilor şi evacuarea lucrătorilor în cazul unui pericol grav şi imediat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oziţiile instrucţiunilor privind acordarea primului ajutor în caz de accidentare în muncă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ţi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actice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4b859f"/>
                </a:solidFill>
                <a:latin typeface="Arial"/>
                <a:ea typeface="Times New Roman"/>
              </a:rPr>
              <a:t>Instruirea periodică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360" y="2082600"/>
            <a:ext cx="82548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truirea periodică a muncitorilor se efectuează de către conducătorul locului de muncă pe baza informaţiilor ş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ţiunilor de securitate şi sănătate în muncă, avînd drept scop reîmprospătarea şi actualizarea cunoştinţelor în domeniul securităţii şi sănătăţii în muncă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tervalul dintre două instruiri periodice va fi stabilit de angajator, în funcţie de condiţiile locului de muncă şi/sau ale postului de lucru, care nu va fi mai mare de 6 luni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nt 11 cazuri cînd instruirea periodică se efectuiază neordinar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79388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Obiectivul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400480"/>
            <a:ext cx="76532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izarea cu principalele aspecte teoretice privind s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curitatea și sănătatea în mun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cadrului legal privind 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atea și sănătatea în mun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m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lui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vind modul de cercetare a accidentelor de mun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2520" y="1432080"/>
            <a:ext cx="78595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4b859f"/>
                </a:solidFill>
                <a:latin typeface="Arial"/>
                <a:ea typeface="Times New Roman"/>
              </a:rPr>
              <a:t>Elaborarea instrucţiunilor de securitate şi sănătate în muncă</a:t>
            </a:r>
            <a:br>
              <a:rPr sz="2800"/>
            </a:b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5000" y="2346480"/>
            <a:ext cx="81421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ţiunile se elaborează pentru toate ocupaţiile şi lucrările desfăşurate în unitate, ţinînd seama de particularităţile acestora şi ale locurilor de muncă/posturilor de lucru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țiunile de securitate și sănătate în muncă vor conține următoarele </a:t>
            </a:r>
            <a:r>
              <a:rPr b="1" lang="ro-RO" sz="2200" spc="-1" strike="noStrike">
                <a:solidFill>
                  <a:srgbClr val="c80f0f"/>
                </a:solidFill>
                <a:latin typeface="Arial"/>
                <a:ea typeface="Times New Roman"/>
              </a:rPr>
              <a:t>capitol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rinţe generale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rinţe pînă la începerea lucrului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rinţe în timpul lucrului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rinţe în situaţii de avarie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rinţe după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nisarea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lucru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ţiunile se înregistrează într-un registru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ecuritatea și sănătatea în muncă</a:t>
            </a: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2840" y="2082960"/>
            <a:ext cx="801828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atarea </a:t>
            </a:r>
            <a:r>
              <a:rPr b="0" lang="vi-V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tării de pericol grav şi imediat de accidentare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vor lua imediat următoarele măsuri de securitate: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rirea echipamentului de lucru şi/sau activităţi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cuarea lucrătorilor din zona periculoasă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unţarea serviciilor specializate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unţarea conducătorilor ierarhic superiori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rea cauzelor care au condus la apariţia stării de pericol grav şi imediat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200" y="1654200"/>
            <a:ext cx="82551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4b859f"/>
                </a:solidFill>
                <a:latin typeface="Arial"/>
              </a:rPr>
              <a:t>REGULAMENT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4b859f"/>
                </a:solidFill>
                <a:latin typeface="Arial"/>
              </a:rPr>
              <a:t>privind modul de cercetare a accidentelor de muncă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Aproba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rin Hotărîrea Guvernului nr.1361  din   22 decembrie 2005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Monitorul Oficial al republicii Moldova 2006, nr.9-12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711360" y="2036880"/>
            <a:ext cx="777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CTIVITATEA ÎN GRUP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1096920" y="2970360"/>
            <a:ext cx="743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îte tipuri de accidente de muncă cunoaștem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4b859f"/>
                </a:solidFill>
                <a:latin typeface="Arial"/>
                <a:ea typeface="Times New Roman"/>
              </a:rPr>
              <a:t>Timp – 8 min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96920" y="4264200"/>
            <a:ext cx="4321080" cy="21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28480" y="16412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Accidentele se clasifică în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ccidente de muncă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ccidente în afara muncii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46a0a"/>
                </a:solidFill>
                <a:latin typeface="Arial"/>
              </a:rPr>
              <a:t>Accidentele de muncă şi accidentele în afara muncii se divizează în trei tipuri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produc incapacitate temporară de muncă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grave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rtale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a5a11"/>
                </a:solidFill>
                <a:latin typeface="Arial"/>
              </a:rPr>
              <a:t>Pe marginea claficărilor enumerate sunt accidente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dividuale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lective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8480" y="16412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5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98280" y="2338560"/>
            <a:ext cx="89535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ecuritatea și sănătatea în muncă</a:t>
            </a: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360" y="2269800"/>
            <a:ext cx="82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ăspunderea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vențională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vilă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iplinar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lvl="1" marL="358920" indent="-358920">
              <a:lnSpc>
                <a:spcPct val="100000"/>
              </a:lnSpc>
              <a:spcBef>
                <a:spcPts val="400"/>
              </a:spcBef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6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3040" y="1961640"/>
            <a:ext cx="825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EVALUAREA RISCURILOR PRIMUL PAS ÎN PREVENIREA ACCIDENTELOR DE MUNCĂ Ș</a:t>
            </a:r>
            <a:r>
              <a:rPr b="1" lang="en-GB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I 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ÎM</a:t>
            </a:r>
            <a:r>
              <a:rPr b="1" lang="en-GB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BOL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NĂV</a:t>
            </a:r>
            <a:r>
              <a:rPr b="1" lang="en-GB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I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RI</a:t>
            </a:r>
            <a:r>
              <a:rPr b="1" lang="en-GB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LOR PROFESIONAL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zintă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at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in care se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mensiunea abaterii sistemului de muncă de la starea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al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în care este exclusă orice posibilitate de accidentare sau îmbolnăvire profesional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și la menţinerea competitivităţii şi productivităţii întreprinderii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6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Runda întrebări răspunsuri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MULŢUMESC PENTRU ATENŢIE 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uvintele cheie a 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ate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ănătate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 de muncă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idente de muncă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re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7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78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9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0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0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191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80f0f"/>
                </a:solidFill>
                <a:latin typeface="Arial"/>
                <a:ea typeface="Times New Roman"/>
              </a:rPr>
              <a:t>Securitatea și sănătatea în muncă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2040" y="1972800"/>
            <a:ext cx="82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Securitatea şi sănătatea în munc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prezintă ansamblu de activităţi avînd ca scop asigurarea celor mai bune condiţii de lucru, apărarea vieţii, sănătăţii, integrităţii fizice şi psihice a lucrătorilor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tivităţ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e de securitate şi sănătate în muncă urmăresc prevenirea, diminuarea sau excluderea </a:t>
            </a: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factorilor de ris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rofesional aferenţi sistemului de munc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80f0f"/>
                </a:solidFill>
                <a:latin typeface="Arial"/>
                <a:ea typeface="Times New Roman"/>
              </a:rPr>
              <a:t>Securitatea și sănătatea în muncă</a:t>
            </a:r>
            <a:br>
              <a:rPr sz="3200"/>
            </a:b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855800" y="2201760"/>
            <a:ext cx="5811840" cy="38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ÎNTREBAREA 1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595440" y="2471760"/>
            <a:ext cx="79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 reglementări cunoaşteţi privind  s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uritatea și sănătatea în muncă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60880" y="388620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7160" y="1414440"/>
            <a:ext cx="78181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9840" y="1555920"/>
            <a:ext cx="849780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Cadrul Legal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venţiile Organizaţiei Internaţionale a Muncii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i Moldova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dul Muncii al Republicii Moldova nr. 154-XV din 28 martie 2003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urităţii şi sănătăţii în muncă nr. 186-XVI din 10 iulie 2008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gulamentul privind modul de organizare a activităților de protecție a lucrătorului la locul de muncă și prevenire a riscurilor profesionale aprobat prin Hotărîrea Guvernului nr. 95 din 05.02.2009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rințele minime de securitate și sănătate în muncă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egea asigurărilor pentru accidente de muncă şi boli profesionale nr. 756-XIV din 24 decembrie 1999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tărârea Guvernului nr. 1025 din 07.09.2016 pentru aprobarea Regulamentului sanitar privind supravegherea sănătăţii persoanelor expuse acţiunii factorilor profesionali de ris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39360" y="1555920"/>
            <a:ext cx="80089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Cerințe minime de securitate și sănătate în muncă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353 din 05.05.2010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603 din 11.08.2011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80 din 09.02.2012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ărîrea Guvernului nr. 244 din 08.04.2013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ărîrea Guvernului nr. 918 din 18.11.2013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ărîrea Guvernului nr. 362 din 27.05.2014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584 din 12.05.2016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589 din 12.05.2016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 819 din 01.07.2016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457200" indent="-457200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arirea Guvernului nr.1408 din 27.12.2016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05960" y="1761840"/>
            <a:ext cx="825516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Times New Roman"/>
                <a:ea typeface="Times New Roman"/>
              </a:rPr>
              <a:t>Cadrul Instituțional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PSF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S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M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SSSP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ia națională pentru consultări și negocieri colective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NPM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NSM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PP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PP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itetul pentru  securitate și sănătate în muncă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lariatul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ISM</cp:lastModifiedBy>
  <cp:lastPrinted>2012-07-19T10:16:59Z</cp:lastPrinted>
  <dcterms:modified xsi:type="dcterms:W3CDTF">2017-06-27T05:12:37Z</dcterms:modified>
  <cp:revision>104</cp:revision>
  <dc:subject/>
  <dc:title>PowerPoint-Präsentation</dc:title>
</cp:coreProperties>
</file>