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5145088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39E4-7906-4C0B-A7B9-47095015A0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06080" y="696960"/>
            <a:ext cx="619740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7ed9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F81D-0F36-4B51-9E68-1ACE610C1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DDA6-0B85-484D-8B38-1D7D904C1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2FB5-0681-4B47-BA6C-F25D017C7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7BC-80D1-4E71-8EB0-E587FBCE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820-6CC3-4154-A977-16F7B8B2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B4B-4477-4F43-B7D0-C8CEE0A7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E0F-35BA-4C51-937D-160F171E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7F4-3D6C-49C1-B90F-FA3810DD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C7C-26E5-440A-917B-4865F9B9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3C0-1AE5-4B85-8209-0A9C2156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EAD-86B6-40AB-B56C-6A7B7883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6880"/>
            <a:ext cx="739152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406-95E8-4B42-A691-514A38CF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F2B5-A4A7-4EAA-9886-8912127D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8FB-6DEE-42DB-8859-154C34B7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0A1A-090C-4F6E-A0F2-A7C5E78E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7ed9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5-26 / 11 /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47811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DD00-147C-4D1D-9654-80C2C3E526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rezentareAV-1pag.jpg"/>
          <p:cNvPicPr/>
          <p:nvPr/>
        </p:nvPicPr>
        <p:blipFill>
          <a:blip r:embed="rId1"/>
          <a:stretch/>
        </p:blipFill>
        <p:spPr>
          <a:xfrm>
            <a:off x="0" y="0"/>
            <a:ext cx="9167760" cy="5162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5638680" y="4640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5602320" y="325764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IFICAREA STRATEGICA A RESURSELOR UM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Plan integrat de dezvoltare a resurselor umane </a:t>
            </a:r>
            <a:br>
              <a:rPr sz="2000"/>
            </a:b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la nivelul intervalului de referinta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09120" y="1352520"/>
            <a:ext cx="2210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ctivitati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rmen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Elemente de monitorizar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Diagrama Gantt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07DA-24C8-4D67-B71F-393A9C04A3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819520" y="822240"/>
            <a:ext cx="4330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Detalierea rolurilor si responsabilitatilor </a:t>
            </a:r>
            <a:br>
              <a:rPr sz="2000"/>
            </a:b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la nivelul activitatilor specifice 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2120" y="894960"/>
            <a:ext cx="3581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Gestiunea personalului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Recrutarea si selectia personalului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ngajarea personalului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ntrenarea si motivarea personalului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Evaluarea personalului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Instruirea personalului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Promovarea si concedierea personalului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Informatizarea activitatilor de resurse uman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Consolidarea culturii organizationale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Obiective strategice detaliate la nivelul altor activitati specific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3D8E-41E1-4FFE-9E53-A537ED6D173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4038480" y="666720"/>
            <a:ext cx="426744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Concluzii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pic>
        <p:nvPicPr>
          <p:cNvPr id="91" name="Content Placeholder 4" descr=""/>
          <p:cNvPicPr/>
          <p:nvPr/>
        </p:nvPicPr>
        <p:blipFill>
          <a:blip r:embed="rId1"/>
          <a:stretch/>
        </p:blipFill>
        <p:spPr>
          <a:xfrm>
            <a:off x="1447920" y="743040"/>
            <a:ext cx="529740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7DC1-2D95-499C-B755-5BD41E9C6F8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prezentareAV-final.jpg"/>
          <p:cNvPicPr/>
          <p:nvPr/>
        </p:nvPicPr>
        <p:blipFill>
          <a:blip r:embed="rId1"/>
          <a:stretch/>
        </p:blipFill>
        <p:spPr>
          <a:xfrm>
            <a:off x="9360" y="0"/>
            <a:ext cx="9134640" cy="514368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4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5BF7-5AB0-4C4E-8214-426020E26E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638680" y="34099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7ed9"/>
                </a:solidFill>
                <a:latin typeface="Calibri"/>
              </a:rPr>
              <a:t>Vă mulțumi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7ed9"/>
                </a:solidFill>
                <a:latin typeface="Calibri"/>
              </a:rPr>
              <a:t>Argumentatie</a:t>
            </a: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Strategie de Resurse Umane 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reprezinta parte integranta a </a:t>
            </a: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Strategiei generale de dezvoltare 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 Societatii Comerciale APAVITAL – S.A. Iasi, fiind corelata in acelasi timp, cu documentele de formalizare a organizarii structurale si procesuale a Societatii (Regulamentul Intern, Regulamentul de Organizare si Functionare si Documentatia Sistemului de Management Integrat).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it-IT" sz="1400" spc="-1" strike="noStrike">
                <a:solidFill>
                  <a:srgbClr val="595959"/>
                </a:solidFill>
                <a:latin typeface="Calibri"/>
              </a:rPr>
              <a:t>Elaborarea Strategiei de resurse umane a Societatii vizeaza un </a:t>
            </a: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interval calendaristic de 4 ani</a:t>
            </a:r>
            <a:r>
              <a:rPr b="0" lang="it-IT" sz="1400" spc="-1" strike="noStrike">
                <a:solidFill>
                  <a:srgbClr val="595959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Strategia de resurse umane </a:t>
            </a:r>
            <a:r>
              <a:rPr b="0" lang="it-IT" sz="1400" spc="-1" strike="noStrike">
                <a:solidFill>
                  <a:srgbClr val="595959"/>
                </a:solidFill>
                <a:latin typeface="Calibri"/>
              </a:rPr>
              <a:t>reprezinta, impreuna cu </a:t>
            </a: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Strategia in domeniul investitiilor</a:t>
            </a:r>
            <a:r>
              <a:rPr b="0" lang="it-IT" sz="1400" spc="-1" strike="noStrike">
                <a:solidFill>
                  <a:srgbClr val="595959"/>
                </a:solidFill>
                <a:latin typeface="Calibri"/>
              </a:rPr>
              <a:t>, principalii piloni de sustinere ai </a:t>
            </a: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Strategiei globale de dezvoltare a societatii.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Strategia de resurse umane se constituie intr-un document integrator, care reglementeaza </a:t>
            </a:r>
            <a:r>
              <a:rPr b="0" lang="en-US" sz="1400" spc="-1" strike="noStrike" u="sng">
                <a:solidFill>
                  <a:srgbClr val="595959"/>
                </a:solidFill>
                <a:uFillTx/>
                <a:latin typeface="Calibri"/>
              </a:rPr>
              <a:t>obiectivele strategice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, </a:t>
            </a:r>
            <a:r>
              <a:rPr b="0" lang="en-US" sz="1400" spc="-1" strike="noStrike" u="sng">
                <a:solidFill>
                  <a:srgbClr val="595959"/>
                </a:solidFill>
                <a:uFillTx/>
                <a:latin typeface="Calibri"/>
              </a:rPr>
              <a:t>caile de actiune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, </a:t>
            </a:r>
            <a:r>
              <a:rPr b="0" lang="en-US" sz="1400" spc="-1" strike="noStrike" u="sng">
                <a:solidFill>
                  <a:srgbClr val="595959"/>
                </a:solidFill>
                <a:uFillTx/>
                <a:latin typeface="Calibri"/>
              </a:rPr>
              <a:t>resursele si termenele 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sociate implementarii strategiei de resurse umane, concomitent cu particularizarea acestor elemente la nivelul fiecarei activitati specifice de resurse umane (gestiunea personalului, recrutarea si selectia personalului, evaluarea personalului, cultura organizationala s.a.m.d.). 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24DA-1F05-4719-9390-C1C57D8145D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Cadrul formal de dezvoltare a strategiei </a:t>
            </a:r>
            <a:br>
              <a:rPr sz="2000"/>
            </a:b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in domeniul resurselor umane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830160"/>
            <a:ext cx="297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Strategia globala de dezvoltare a societatii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Contractul de Delegare a gestiunii serviciilor publice de alimentare cu apa si de canalizare 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Declaratia de politica in domeniul resurselor umane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Documentele de formalizare a structurii organizatorice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Proceduri si instructiuni specifice activitatilor de resurse umane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lte documente programatic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A595-9B7D-47E8-BDD2-EA6693BA6E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276720" y="811080"/>
            <a:ext cx="43830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177ed9"/>
                </a:solidFill>
                <a:latin typeface="Calibri"/>
              </a:rPr>
              <a:t> </a:t>
            </a:r>
            <a:r>
              <a:rPr b="1" lang="pt-BR" sz="2000" spc="-1" strike="noStrike">
                <a:solidFill>
                  <a:srgbClr val="177ed9"/>
                </a:solidFill>
                <a:latin typeface="Calibri"/>
              </a:rPr>
              <a:t>Cerinte privind dezvoltarea resurselor umane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3520" y="830160"/>
            <a:ext cx="279216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rmonizarea strategiei  de resurse umane cu misiunea, viziunea si identitatea societatii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Cerinte de natura socio-demografica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Cerinte de natura economico-financiara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Cerinte de natura tehnica si investitionala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lte categorii de cerinte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CD20-6F35-4112-A785-945236632F1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325680" y="977760"/>
            <a:ext cx="449604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177ed9"/>
                </a:solidFill>
                <a:latin typeface="Calibri"/>
              </a:rPr>
              <a:t>Obiective strategice globale in domeniul resurselor umane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09480" y="1352520"/>
            <a:ext cx="2286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Principii generale de management al resurselor uman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Obiective fundamental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Obiective derivat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CB73-B200-41DB-A596-2E00DD89397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673360" y="743040"/>
            <a:ext cx="4192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177ed9"/>
                </a:solidFill>
                <a:latin typeface="Calibri"/>
              </a:rPr>
              <a:t>Detalierea obiectivelor strategice la nivelul </a:t>
            </a:r>
            <a:br>
              <a:rPr sz="2000"/>
            </a:br>
            <a:r>
              <a:rPr b="1" lang="es-ES" sz="2000" spc="-1" strike="noStrike">
                <a:solidFill>
                  <a:srgbClr val="177ed9"/>
                </a:solidFill>
                <a:latin typeface="Calibri"/>
              </a:rPr>
              <a:t>activitatilor de resurse umane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160" y="971280"/>
            <a:ext cx="3276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Gestiunea personalului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Recrutarea si selectia personalului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ngajarea personalului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ntrenarea si motivarea personalului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Evaluarea personalului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Instruirea personalului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Promovarea si concedierea personalului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Informatizarea activitatilor de resurse uman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Consolidarea culturii organizational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Obiective strategice detaliate la nivelul altor activitati specific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3915-BC27-4C21-A512-B23E446B6F3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657600" y="800280"/>
            <a:ext cx="48006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Analiza optiunilor strategice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3160" y="838080"/>
            <a:ext cx="2514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Evaluarea situatiei existent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naliza corelatiei dintre optiunile strategice si obiectivelor strategic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Definirea optiunilor strategic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naliza factorilor de risc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0320-2958-4FC1-BC52-907ADE64DD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51609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177ed9"/>
                </a:solidFill>
                <a:latin typeface="Calibri"/>
              </a:rPr>
              <a:t>Indicatori de performanta si niveluri tinta la nivelul</a:t>
            </a:r>
            <a:br>
              <a:rPr sz="2000"/>
            </a:br>
            <a:r>
              <a:rPr b="1" lang="it-IT" sz="2000" spc="-1" strike="noStrike">
                <a:solidFill>
                  <a:srgbClr val="177ed9"/>
                </a:solidFill>
                <a:latin typeface="Calibri"/>
              </a:rPr>
              <a:t>intervalului de referinta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3520" y="971640"/>
            <a:ext cx="3124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Indicatori de resurse umane derivati din Contractul de Delegar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Indicatori de dezvoltare strategica a resurselor uman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Indicatori de echilibru al structurii de personal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Indicatori ai managementului resurselor uman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Indicatori aferenti claselor de activitati specifice resurselor uman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lti indicatori de performanta ai resurselor uman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6B82-45AA-4815-A38F-0EED78BFEFE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200400" y="1581120"/>
            <a:ext cx="5943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Resurse necesare pentru operationalizarea strategiei </a:t>
            </a:r>
            <a:br>
              <a:rPr sz="2000"/>
            </a:b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de resurse umane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120" y="1352520"/>
            <a:ext cx="2210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Resurse uman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Resurse material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Resurse financiar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Resurse informational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F3FF-086F-4B22-BDA5-B112083573E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743200" y="743040"/>
            <a:ext cx="44956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3:21:19Z</dcterms:created>
  <dc:creator/>
  <dc:description/>
  <dc:language>en-US</dc:language>
  <cp:lastModifiedBy/>
  <dcterms:modified xsi:type="dcterms:W3CDTF">2017-06-07T06:45:33Z</dcterms:modified>
  <cp:revision>1</cp:revision>
  <dc:subject/>
  <dc:title>Prezentare ApaVital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nul">
    <vt:lpwstr>;#2011;#</vt:lpwstr>
  </property>
  <property fmtid="{D5CDD505-2E9C-101B-9397-08002B2CF9AE}" pid="3" name="Expiră">
    <vt:lpwstr>2016-12-31T00:00:00Z</vt:lpwstr>
  </property>
  <property fmtid="{D5CDD505-2E9C-101B-9397-08002B2CF9AE}" pid="4" name="Geografic">
    <vt:lpwstr>;#Jud. Iași;#</vt:lpwstr>
  </property>
  <property fmtid="{D5CDD505-2E9C-101B-9397-08002B2CF9AE}" pid="5" name="Keywords0">
    <vt:lpwstr>prezentare, 2011, ApaVital</vt:lpwstr>
  </property>
  <property fmtid="{D5CDD505-2E9C-101B-9397-08002B2CF9AE}" pid="6" name="Language">
    <vt:lpwstr>Română</vt:lpwstr>
  </property>
  <property fmtid="{D5CDD505-2E9C-101B-9397-08002B2CF9AE}" pid="7" name="Partener">
    <vt:lpwstr>;#ApaVital;#</vt:lpwstr>
  </property>
  <property fmtid="{D5CDD505-2E9C-101B-9397-08002B2CF9AE}" pid="8" name="TaskStatus">
    <vt:lpwstr>Terminat</vt:lpwstr>
  </property>
  <property fmtid="{D5CDD505-2E9C-101B-9397-08002B2CF9AE}" pid="9" name="Topic">
    <vt:lpwstr>;#Management;#Raportare;#Simpozion;#</vt:lpwstr>
  </property>
  <property fmtid="{D5CDD505-2E9C-101B-9397-08002B2CF9AE}" pid="10" name="Trimis către">
    <vt:lpwstr>Orest Trofin, Ion Toma</vt:lpwstr>
  </property>
  <property fmtid="{D5CDD505-2E9C-101B-9397-08002B2CF9AE}" pid="11" name="_LCID">
    <vt:r8>1033</vt:r8>
  </property>
  <property fmtid="{D5CDD505-2E9C-101B-9397-08002B2CF9AE}" pid="12" name="_Version">
    <vt:lpwstr>12.0.4518</vt:lpwstr>
  </property>
  <property fmtid="{D5CDD505-2E9C-101B-9397-08002B2CF9AE}" pid="13" name="_dlc_DocId">
    <vt:lpwstr>U5FY2F32NNHV-160-822</vt:lpwstr>
  </property>
  <property fmtid="{D5CDD505-2E9C-101B-9397-08002B2CF9AE}" pid="14" name="_dlc_DocIdItemGuid">
    <vt:lpwstr>0e8b8882-ef37-4ebf-9998-b8afedf07e69</vt:lpwstr>
  </property>
  <property fmtid="{D5CDD505-2E9C-101B-9397-08002B2CF9AE}" pid="15" name="_dlc_DocIdUrl">
    <vt:lpwstr>http://intranet/dg/cml/_layouts/DocIdRedir.aspx?ID=U5FY2F32NNHV-160-822, U5FY2F32NNHV-160-822</vt:lpwstr>
  </property>
  <property fmtid="{D5CDD505-2E9C-101B-9397-08002B2CF9AE}" pid="16" name="dlc_EmailSentUTC">
    <vt:lpwstr>2011-05-20T09:45:00Z</vt:lpwstr>
  </property>
</Properties>
</file>