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49A-2573-438C-9CFF-5C026C8D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D76-3317-4844-A5DF-012FE6A1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57D-F63A-41AA-889E-B9ED11C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D83-F704-44C1-8F29-7AA99044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542-F8C5-493A-B628-C2EAE57F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6D4-4C02-41DE-84D3-BAFEEF3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4C6-6FF6-4986-9CB0-85D8396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4BB-C99B-4F20-9E5F-EC86583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8A3-4313-4F95-9CA2-7A0DCE3A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5C0-32BF-4C3B-8A25-3CB8CF29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2D8-15F0-4AA6-99EE-D19292B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6A2-C343-4AC7-9349-B230DD08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FC0-DDDA-4E09-B195-3376CC110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33720" y="183996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Sistem de evaluare a performant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76720" y="3287880"/>
            <a:ext cx="2895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S.C. APAVITAL – S.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010280" y="6448320"/>
            <a:ext cx="2133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500" spc="-1" strike="noStrike">
                <a:solidFill>
                  <a:srgbClr val="000000"/>
                </a:solidFill>
                <a:latin typeface="Tw Cen MT"/>
                <a:ea typeface="Arial"/>
              </a:rPr>
              <a:t>Chişinău, 12 Iunie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iagram 4" descr=""/>
          <p:cNvPicPr/>
          <p:nvPr/>
        </p:nvPicPr>
        <p:blipFill>
          <a:blip r:embed="rId1"/>
          <a:stretch/>
        </p:blipFill>
        <p:spPr>
          <a:xfrm>
            <a:off x="2425680" y="79200"/>
            <a:ext cx="6316560" cy="29689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4"/>
          <p:cNvGrpSpPr/>
          <p:nvPr/>
        </p:nvGrpSpPr>
        <p:grpSpPr>
          <a:xfrm>
            <a:off x="304920" y="4191120"/>
            <a:ext cx="8686800" cy="990360"/>
            <a:chOff x="304920" y="4191120"/>
            <a:chExt cx="8686800" cy="990360"/>
          </a:xfrm>
        </p:grpSpPr>
        <p:sp>
          <p:nvSpPr>
            <p:cNvPr id="178" name="TextBox 9"/>
            <p:cNvSpPr/>
            <p:nvPr/>
          </p:nvSpPr>
          <p:spPr>
            <a:xfrm>
              <a:off x="475920" y="4430520"/>
              <a:ext cx="1396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etod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0"/>
            <p:cNvSpPr/>
            <p:nvPr/>
          </p:nvSpPr>
          <p:spPr>
            <a:xfrm>
              <a:off x="2271960" y="4343400"/>
              <a:ext cx="220968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aportarea nivelurilor realizate la nivelurile tin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1"/>
            <p:cNvSpPr/>
            <p:nvPr/>
          </p:nvSpPr>
          <p:spPr>
            <a:xfrm>
              <a:off x="4953240" y="4343400"/>
              <a:ext cx="14475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roba scrisa/ Proba pract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2"/>
            <p:cNvSpPr/>
            <p:nvPr/>
          </p:nvSpPr>
          <p:spPr>
            <a:xfrm>
              <a:off x="7162920" y="4343400"/>
              <a:ext cx="14475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Chestionar evalu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1"/>
            <p:cNvSpPr/>
            <p:nvPr/>
          </p:nvSpPr>
          <p:spPr>
            <a:xfrm>
              <a:off x="304920" y="4191120"/>
              <a:ext cx="8686800" cy="990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2"/>
            <p:cNvSpPr/>
            <p:nvPr/>
          </p:nvSpPr>
          <p:spPr>
            <a:xfrm>
              <a:off x="2286000" y="4191120"/>
              <a:ext cx="2209680" cy="990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4496040" y="4191120"/>
              <a:ext cx="2133360" cy="990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45"/>
          <p:cNvGrpSpPr/>
          <p:nvPr/>
        </p:nvGrpSpPr>
        <p:grpSpPr>
          <a:xfrm>
            <a:off x="304920" y="5170320"/>
            <a:ext cx="8686800" cy="1243440"/>
            <a:chOff x="304920" y="5170320"/>
            <a:chExt cx="8686800" cy="1243440"/>
          </a:xfrm>
        </p:grpSpPr>
        <p:sp>
          <p:nvSpPr>
            <p:cNvPr id="186" name="TextBox 13"/>
            <p:cNvSpPr/>
            <p:nvPr/>
          </p:nvSpPr>
          <p:spPr>
            <a:xfrm>
              <a:off x="480600" y="5296320"/>
              <a:ext cx="15004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me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2438280" y="528048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In ultimul trimestru al fiecarui 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4998960" y="5170320"/>
              <a:ext cx="14475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e intreg parcursul anului, conform PL.E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7"/>
            <p:cNvSpPr/>
            <p:nvPr/>
          </p:nvSpPr>
          <p:spPr>
            <a:xfrm>
              <a:off x="7086960" y="5178600"/>
              <a:ext cx="14475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e intreg parcursul anului, conform PL.E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304920" y="5178240"/>
              <a:ext cx="868680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5"/>
            <p:cNvSpPr/>
            <p:nvPr/>
          </p:nvSpPr>
          <p:spPr>
            <a:xfrm>
              <a:off x="2286000" y="5178240"/>
              <a:ext cx="220968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6"/>
            <p:cNvSpPr/>
            <p:nvPr/>
          </p:nvSpPr>
          <p:spPr>
            <a:xfrm>
              <a:off x="4496040" y="5178240"/>
              <a:ext cx="213336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3"/>
          <p:cNvGrpSpPr/>
          <p:nvPr/>
        </p:nvGrpSpPr>
        <p:grpSpPr>
          <a:xfrm>
            <a:off x="304920" y="1676520"/>
            <a:ext cx="8686800" cy="2548440"/>
            <a:chOff x="304920" y="1676520"/>
            <a:chExt cx="8686800" cy="2548440"/>
          </a:xfrm>
        </p:grpSpPr>
        <p:sp>
          <p:nvSpPr>
            <p:cNvPr id="194" name="TextBox 5"/>
            <p:cNvSpPr/>
            <p:nvPr/>
          </p:nvSpPr>
          <p:spPr>
            <a:xfrm>
              <a:off x="457200" y="3430440"/>
              <a:ext cx="16002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esponsabi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6"/>
            <p:cNvSpPr/>
            <p:nvPr/>
          </p:nvSpPr>
          <p:spPr>
            <a:xfrm>
              <a:off x="2209680" y="3353040"/>
              <a:ext cx="220968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Sef ierarhic, Serviciul Resurse Umane, Serviciul Informatiz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7"/>
            <p:cNvSpPr/>
            <p:nvPr/>
          </p:nvSpPr>
          <p:spPr>
            <a:xfrm>
              <a:off x="4572000" y="3563280"/>
              <a:ext cx="220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ersonal specializ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8"/>
            <p:cNvSpPr/>
            <p:nvPr/>
          </p:nvSpPr>
          <p:spPr>
            <a:xfrm>
              <a:off x="6714000" y="3563280"/>
              <a:ext cx="220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Seful ierarh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"/>
            <p:cNvSpPr/>
            <p:nvPr/>
          </p:nvSpPr>
          <p:spPr>
            <a:xfrm>
              <a:off x="304920" y="3200400"/>
              <a:ext cx="8686800" cy="9907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9"/>
            <p:cNvSpPr/>
            <p:nvPr/>
          </p:nvSpPr>
          <p:spPr>
            <a:xfrm>
              <a:off x="2286000" y="3200400"/>
              <a:ext cx="2209680" cy="9907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0"/>
            <p:cNvSpPr/>
            <p:nvPr/>
          </p:nvSpPr>
          <p:spPr>
            <a:xfrm>
              <a:off x="4496040" y="3200400"/>
              <a:ext cx="2133360" cy="9907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2286000" y="1676520"/>
              <a:ext cx="2209680" cy="15238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4496040" y="1676520"/>
              <a:ext cx="2133360" cy="15238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9"/>
            <p:cNvSpPr/>
            <p:nvPr/>
          </p:nvSpPr>
          <p:spPr>
            <a:xfrm>
              <a:off x="6629760" y="1676520"/>
              <a:ext cx="2361960" cy="15238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34"/>
          <p:cNvSpPr/>
          <p:nvPr/>
        </p:nvSpPr>
        <p:spPr>
          <a:xfrm>
            <a:off x="1228680" y="6056280"/>
            <a:ext cx="185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6"/>
          <p:cNvGrpSpPr/>
          <p:nvPr/>
        </p:nvGrpSpPr>
        <p:grpSpPr>
          <a:xfrm>
            <a:off x="304920" y="5937120"/>
            <a:ext cx="8686800" cy="765360"/>
            <a:chOff x="304920" y="5937120"/>
            <a:chExt cx="8686800" cy="765360"/>
          </a:xfrm>
        </p:grpSpPr>
        <p:sp>
          <p:nvSpPr>
            <p:cNvPr id="206" name="TextBox 35"/>
            <p:cNvSpPr/>
            <p:nvPr/>
          </p:nvSpPr>
          <p:spPr>
            <a:xfrm>
              <a:off x="2438280" y="603864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de evaluare (EV1) + Calificati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6"/>
            <p:cNvSpPr/>
            <p:nvPr/>
          </p:nvSpPr>
          <p:spPr>
            <a:xfrm>
              <a:off x="4496040" y="603288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de evaluare (EV2) + Calificati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7"/>
            <p:cNvSpPr/>
            <p:nvPr/>
          </p:nvSpPr>
          <p:spPr>
            <a:xfrm>
              <a:off x="6768000" y="601884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de evaluare (EV3) + Calificati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304920" y="5937120"/>
              <a:ext cx="868680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2286000" y="5937120"/>
              <a:ext cx="220968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4496040" y="5937120"/>
              <a:ext cx="213336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1"/>
            <p:cNvSpPr/>
            <p:nvPr/>
          </p:nvSpPr>
          <p:spPr>
            <a:xfrm>
              <a:off x="479880" y="6095160"/>
              <a:ext cx="2110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Documentar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47"/>
          <p:cNvSpPr/>
          <p:nvPr/>
        </p:nvSpPr>
        <p:spPr>
          <a:xfrm>
            <a:off x="228600" y="152280"/>
            <a:ext cx="4191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2.1. Prezentarea sistemulu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47"/>
          <p:cNvGrpSpPr/>
          <p:nvPr/>
        </p:nvGrpSpPr>
        <p:grpSpPr>
          <a:xfrm>
            <a:off x="286200" y="1257480"/>
            <a:ext cx="8429040" cy="1590480"/>
            <a:chOff x="286200" y="1257480"/>
            <a:chExt cx="8429040" cy="1590480"/>
          </a:xfrm>
        </p:grpSpPr>
        <p:pic>
          <p:nvPicPr>
            <p:cNvPr id="215" name="Picture 5" descr=""/>
            <p:cNvPicPr/>
            <p:nvPr/>
          </p:nvPicPr>
          <p:blipFill>
            <a:blip r:embed="rId1"/>
            <a:stretch/>
          </p:blipFill>
          <p:spPr>
            <a:xfrm>
              <a:off x="2895840" y="1257480"/>
              <a:ext cx="58194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44"/>
            <p:cNvSpPr/>
            <p:nvPr/>
          </p:nvSpPr>
          <p:spPr>
            <a:xfrm>
              <a:off x="286200" y="1981440"/>
              <a:ext cx="2338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Evaluare 1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48"/>
          <p:cNvGrpSpPr/>
          <p:nvPr/>
        </p:nvGrpSpPr>
        <p:grpSpPr>
          <a:xfrm>
            <a:off x="268560" y="3009960"/>
            <a:ext cx="8494560" cy="984240"/>
            <a:chOff x="268560" y="3009960"/>
            <a:chExt cx="8494560" cy="984240"/>
          </a:xfrm>
        </p:grpSpPr>
        <p:pic>
          <p:nvPicPr>
            <p:cNvPr id="218" name="Picture 4" descr=""/>
            <p:cNvPicPr/>
            <p:nvPr/>
          </p:nvPicPr>
          <p:blipFill>
            <a:blip r:embed="rId2"/>
            <a:stretch/>
          </p:blipFill>
          <p:spPr>
            <a:xfrm>
              <a:off x="2841120" y="3009960"/>
              <a:ext cx="592200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45"/>
            <p:cNvSpPr/>
            <p:nvPr/>
          </p:nvSpPr>
          <p:spPr>
            <a:xfrm>
              <a:off x="268560" y="3276720"/>
              <a:ext cx="2338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Evaluare 2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9"/>
          <p:cNvGrpSpPr/>
          <p:nvPr/>
        </p:nvGrpSpPr>
        <p:grpSpPr>
          <a:xfrm>
            <a:off x="268560" y="4343400"/>
            <a:ext cx="8494560" cy="2233440"/>
            <a:chOff x="268560" y="4343400"/>
            <a:chExt cx="8494560" cy="2233440"/>
          </a:xfrm>
        </p:grpSpPr>
        <p:pic>
          <p:nvPicPr>
            <p:cNvPr id="221" name="Picture 2" descr="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58676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46"/>
            <p:cNvSpPr/>
            <p:nvPr/>
          </p:nvSpPr>
          <p:spPr>
            <a:xfrm>
              <a:off x="268560" y="4419360"/>
              <a:ext cx="2338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Evaluare 3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11"/>
          <p:cNvSpPr/>
          <p:nvPr/>
        </p:nvSpPr>
        <p:spPr>
          <a:xfrm>
            <a:off x="228600" y="1522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2.2. Exemplificare (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534000" cy="4724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28600" y="1522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2.2. Exemplificare (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br>
              <a:rPr sz="2000"/>
            </a:br>
            <a:r>
              <a:rPr b="0" lang="en-US" sz="2100" spc="-1" strike="noStrike">
                <a:solidFill>
                  <a:srgbClr val="000000"/>
                </a:solidFill>
                <a:latin typeface="Tw Cen MT"/>
                <a:ea typeface="Arial"/>
              </a:rPr>
              <a:t>2.2. Exemplificare (3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915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2133720" y="2097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Va multumim !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6324480" y="6448320"/>
            <a:ext cx="2819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w Cen MT"/>
                <a:ea typeface="Arial"/>
              </a:rPr>
              <a:t>Chi</a:t>
            </a:r>
            <a:r>
              <a:rPr b="0" i="1" lang="ro-RO" sz="1500" spc="-1" strike="noStrike">
                <a:solidFill>
                  <a:srgbClr val="000000"/>
                </a:solidFill>
                <a:latin typeface="Tw Cen MT"/>
                <a:ea typeface="Arial"/>
              </a:rPr>
              <a:t>şinău, </a:t>
            </a:r>
            <a:r>
              <a:rPr b="0" i="1" lang="en-US" sz="1500" spc="-1" strike="noStrike">
                <a:solidFill>
                  <a:srgbClr val="000000"/>
                </a:solidFill>
                <a:latin typeface="Tw Cen MT"/>
                <a:ea typeface="Arial"/>
              </a:rPr>
              <a:t>12</a:t>
            </a:r>
            <a:r>
              <a:rPr b="0" i="1" lang="ro-RO" sz="1500" spc="-1" strike="noStrike">
                <a:solidFill>
                  <a:srgbClr val="000000"/>
                </a:solidFill>
                <a:latin typeface="Tw Cen MT"/>
                <a:ea typeface="Arial"/>
              </a:rPr>
              <a:t> Iunie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457200" y="23605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1. Evaluarea performantelor </a:t>
            </a:r>
            <a:r>
              <a:rPr b="1" i="1" lang="ro-RO" sz="36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organizat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862520" y="23605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2. Evaluarea performantelor </a:t>
            </a:r>
            <a:r>
              <a:rPr b="1" i="1" lang="ro-RO" sz="36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personalu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4572000" y="1828800"/>
            <a:ext cx="0" cy="3124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rved Up Arrow 11"/>
          <p:cNvSpPr/>
          <p:nvPr/>
        </p:nvSpPr>
        <p:spPr>
          <a:xfrm>
            <a:off x="2666880" y="4724280"/>
            <a:ext cx="3962520" cy="1067040"/>
          </a:xfrm>
          <a:custGeom>
            <a:avLst/>
            <a:gdLst>
              <a:gd name="textAreaLeft" fmla="*/ 890640 w 3962520"/>
              <a:gd name="textAreaRight" fmla="*/ 2938680 w 396252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-3607627"/>
                <a:lnTo>
                  <a:pt x="21292" y="5400"/>
                </a:lnTo>
                <a:lnTo>
                  <a:pt x="20146" y="0"/>
                </a:lnTo>
                <a:lnTo>
                  <a:pt x="18384" y="5400"/>
                </a:lnTo>
                <a:lnTo>
                  <a:pt x="19111" y="5400"/>
                </a:lnTo>
                <a:arcTo wR="9710" hR="21600" stAng="1792373" swAng="3491640"/>
                <a:lnTo>
                  <a:pt x="10437" y="21539"/>
                </a:lnTo>
                <a:arcTo wR="9710" hR="21600" stAng="5515987" swAng="5284013"/>
                <a:close/>
              </a:path>
              <a:path fill="darkenLess"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115987"/>
                <a:lnTo>
                  <a:pt x="10437" y="21539"/>
                </a:lnTo>
                <a:arcTo wR="9710" hR="21600" stAng="5515987" swAng="528401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rved Up Arrow 12"/>
          <p:cNvSpPr/>
          <p:nvPr/>
        </p:nvSpPr>
        <p:spPr>
          <a:xfrm rot="10800000">
            <a:off x="2590920" y="1066320"/>
            <a:ext cx="3962160" cy="1067040"/>
          </a:xfrm>
          <a:custGeom>
            <a:avLst/>
            <a:gdLst>
              <a:gd name="textAreaLeft" fmla="*/ 890280 w 3962160"/>
              <a:gd name="textAreaRight" fmla="*/ 2938320 w 396216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-3607627"/>
                <a:lnTo>
                  <a:pt x="21292" y="5400"/>
                </a:lnTo>
                <a:lnTo>
                  <a:pt x="20146" y="0"/>
                </a:lnTo>
                <a:lnTo>
                  <a:pt x="18384" y="5400"/>
                </a:lnTo>
                <a:lnTo>
                  <a:pt x="19111" y="5400"/>
                </a:lnTo>
                <a:arcTo wR="9710" hR="21600" stAng="1792373" swAng="3491640"/>
                <a:lnTo>
                  <a:pt x="10437" y="21539"/>
                </a:lnTo>
                <a:arcTo wR="9710" hR="21600" stAng="5515987" swAng="5284013"/>
                <a:close/>
              </a:path>
              <a:path fill="darkenLess"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115987"/>
                <a:lnTo>
                  <a:pt x="10437" y="21539"/>
                </a:lnTo>
                <a:arcTo wR="9710" hR="21600" stAng="5515987" swAng="528401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300" spc="-1" strike="noStrike">
                <a:solidFill>
                  <a:srgbClr val="ff0000"/>
                </a:solidFill>
                <a:latin typeface="Tw Cen MT"/>
                <a:ea typeface="Arial"/>
              </a:rPr>
              <a:t>Componentele sistemului de evaluare profesional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2040" y="1687680"/>
            <a:ext cx="4092480" cy="3544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" y="2286000"/>
            <a:ext cx="39625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 şi-a propus să definească un </a:t>
            </a:r>
            <a:r>
              <a:rPr b="1" lang="ro-RO" sz="1800" spc="-1" strike="noStrike">
                <a:solidFill>
                  <a:srgbClr val="bc0000"/>
                </a:solidFill>
                <a:latin typeface="Arial"/>
              </a:rPr>
              <a:t>sistem de evaluare a performanțelor complet, complex și coeren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, care să înglobează următoarele compon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925800" cy="340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687920" y="1933560"/>
            <a:ext cx="300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Evaluare pe baza indicatorilor cheie de performanță (KP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87920" y="317664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valuare pe baza competențelor profesionale speci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21320" y="4267080"/>
            <a:ext cx="314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Evaluare pe baza capabilităților și aptitudinilor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28600" y="152280"/>
            <a:ext cx="60199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1. Structurarea sistemului de evalu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403280" y="2590920"/>
            <a:ext cx="1263600" cy="1036440"/>
            <a:chOff x="1403280" y="2590920"/>
            <a:chExt cx="1263600" cy="1036440"/>
          </a:xfrm>
        </p:grpSpPr>
        <p:sp>
          <p:nvSpPr>
            <p:cNvPr id="58" name="Isosceles Triangle 7"/>
            <p:cNvSpPr/>
            <p:nvPr/>
          </p:nvSpPr>
          <p:spPr>
            <a:xfrm>
              <a:off x="1403280" y="2590920"/>
              <a:ext cx="1251000" cy="1036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8"/>
            <p:cNvSpPr/>
            <p:nvPr/>
          </p:nvSpPr>
          <p:spPr>
            <a:xfrm>
              <a:off x="1415880" y="2979360"/>
              <a:ext cx="12510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o-RO" sz="17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ivel strate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20"/>
          <p:cNvSpPr/>
          <p:nvPr/>
        </p:nvSpPr>
        <p:spPr>
          <a:xfrm>
            <a:off x="4800600" y="3981600"/>
            <a:ext cx="1152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w Cen MT"/>
                <a:ea typeface="Arial"/>
              </a:rPr>
              <a:t>Planuri/Programe la nivel de arie function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4"/>
          <p:cNvGrpSpPr/>
          <p:nvPr/>
        </p:nvGrpSpPr>
        <p:grpSpPr>
          <a:xfrm>
            <a:off x="5952600" y="3981600"/>
            <a:ext cx="1468800" cy="520200"/>
            <a:chOff x="5952600" y="3981600"/>
            <a:chExt cx="1468800" cy="520200"/>
          </a:xfrm>
        </p:grpSpPr>
        <p:sp>
          <p:nvSpPr>
            <p:cNvPr id="62" name="TextBox 21"/>
            <p:cNvSpPr/>
            <p:nvPr/>
          </p:nvSpPr>
          <p:spPr>
            <a:xfrm>
              <a:off x="6269400" y="3981600"/>
              <a:ext cx="1152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 tac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traight Arrow Connector 38"/>
            <p:cNvCxnSpPr>
              <a:stCxn id="60" idx="3"/>
              <a:endCxn id="62" idx="1"/>
            </p:cNvCxnSpPr>
            <p:nvPr/>
          </p:nvCxnSpPr>
          <p:spPr>
            <a:xfrm>
              <a:off x="5952600" y="4466880"/>
              <a:ext cx="3164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4" name="Group 72"/>
          <p:cNvGrpSpPr/>
          <p:nvPr/>
        </p:nvGrpSpPr>
        <p:grpSpPr>
          <a:xfrm>
            <a:off x="7421040" y="3976560"/>
            <a:ext cx="1418040" cy="946440"/>
            <a:chOff x="7421040" y="3976560"/>
            <a:chExt cx="1418040" cy="946440"/>
          </a:xfrm>
        </p:grpSpPr>
        <p:sp>
          <p:nvSpPr>
            <p:cNvPr id="65" name="TextBox 22"/>
            <p:cNvSpPr/>
            <p:nvPr/>
          </p:nvSpPr>
          <p:spPr>
            <a:xfrm>
              <a:off x="7688160" y="3976560"/>
              <a:ext cx="1150920" cy="946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ffff"/>
                  </a:solidFill>
                  <a:latin typeface="Tw Cen MT"/>
                </a:rPr>
                <a:t>Indicatori veriga organizato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Straight Arrow Connector 41"/>
            <p:cNvCxnSpPr>
              <a:stCxn id="62" idx="3"/>
              <a:endCxn id="65" idx="1"/>
            </p:cNvCxnSpPr>
            <p:nvPr/>
          </p:nvCxnSpPr>
          <p:spPr>
            <a:xfrm flipV="1">
              <a:off x="7421040" y="4463640"/>
              <a:ext cx="26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7" name="TextBox 23"/>
          <p:cNvSpPr/>
          <p:nvPr/>
        </p:nvSpPr>
        <p:spPr>
          <a:xfrm>
            <a:off x="4815000" y="5361120"/>
            <a:ext cx="1150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w Cen MT"/>
                <a:ea typeface="Arial"/>
              </a:rPr>
              <a:t>Sarcini (Fisa po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5"/>
          <p:cNvGrpSpPr/>
          <p:nvPr/>
        </p:nvGrpSpPr>
        <p:grpSpPr>
          <a:xfrm>
            <a:off x="5965560" y="5354640"/>
            <a:ext cx="1435320" cy="520200"/>
            <a:chOff x="5965560" y="5354640"/>
            <a:chExt cx="1435320" cy="520200"/>
          </a:xfrm>
        </p:grpSpPr>
        <p:sp>
          <p:nvSpPr>
            <p:cNvPr id="69" name="TextBox 25"/>
            <p:cNvSpPr/>
            <p:nvPr/>
          </p:nvSpPr>
          <p:spPr>
            <a:xfrm>
              <a:off x="6247800" y="5354640"/>
              <a:ext cx="11530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 individu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Straight Arrow Connector 44"/>
            <p:cNvCxnSpPr>
              <a:stCxn id="67" idx="3"/>
              <a:endCxn id="69" idx="1"/>
            </p:cNvCxnSpPr>
            <p:nvPr/>
          </p:nvCxnSpPr>
          <p:spPr>
            <a:xfrm flipV="1">
              <a:off x="5965560" y="5839560"/>
              <a:ext cx="283320" cy="6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1" name="Group 76"/>
          <p:cNvGrpSpPr/>
          <p:nvPr/>
        </p:nvGrpSpPr>
        <p:grpSpPr>
          <a:xfrm>
            <a:off x="7400880" y="5353200"/>
            <a:ext cx="1438200" cy="520200"/>
            <a:chOff x="7400880" y="5353200"/>
            <a:chExt cx="1438200" cy="520200"/>
          </a:xfrm>
        </p:grpSpPr>
        <p:sp>
          <p:nvSpPr>
            <p:cNvPr id="72" name="TextBox 26"/>
            <p:cNvSpPr/>
            <p:nvPr/>
          </p:nvSpPr>
          <p:spPr>
            <a:xfrm>
              <a:off x="7688160" y="5353200"/>
              <a:ext cx="1150920" cy="52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ffff"/>
                  </a:solidFill>
                  <a:latin typeface="Tw Cen MT"/>
                </a:rPr>
                <a:t>Indicatori individu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49"/>
            <p:cNvCxnSpPr>
              <a:stCxn id="69" idx="3"/>
              <a:endCxn id="72" idx="1"/>
            </p:cNvCxnSpPr>
            <p:nvPr/>
          </p:nvCxnSpPr>
          <p:spPr>
            <a:xfrm flipV="1">
              <a:off x="7400880" y="5838480"/>
              <a:ext cx="288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4" name="Group 64"/>
          <p:cNvGrpSpPr/>
          <p:nvPr/>
        </p:nvGrpSpPr>
        <p:grpSpPr>
          <a:xfrm>
            <a:off x="228240" y="4495680"/>
            <a:ext cx="8624880" cy="2057400"/>
            <a:chOff x="228240" y="4495680"/>
            <a:chExt cx="8624880" cy="2057400"/>
          </a:xfrm>
        </p:grpSpPr>
        <p:grpSp>
          <p:nvGrpSpPr>
            <p:cNvPr id="75" name="Group 15"/>
            <p:cNvGrpSpPr/>
            <p:nvPr/>
          </p:nvGrpSpPr>
          <p:grpSpPr>
            <a:xfrm>
              <a:off x="228240" y="5257800"/>
              <a:ext cx="3429000" cy="1295280"/>
              <a:chOff x="228240" y="5257800"/>
              <a:chExt cx="3429000" cy="1295280"/>
            </a:xfrm>
          </p:grpSpPr>
          <p:sp>
            <p:nvSpPr>
              <p:cNvPr id="76" name="Flowchart: Manual Operation 11"/>
              <p:cNvSpPr/>
              <p:nvPr/>
            </p:nvSpPr>
            <p:spPr>
              <a:xfrm rot="10800000">
                <a:off x="228240" y="5257800"/>
                <a:ext cx="3429000" cy="1295280"/>
              </a:xfrm>
              <a:prstGeom prst="flowChartManualOperation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12"/>
              <p:cNvSpPr/>
              <p:nvPr/>
            </p:nvSpPr>
            <p:spPr>
              <a:xfrm>
                <a:off x="1030680" y="5734080"/>
                <a:ext cx="2014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o-RO" sz="17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Nivel operational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Straight Connector 31"/>
            <p:cNvSpPr/>
            <p:nvPr/>
          </p:nvSpPr>
          <p:spPr>
            <a:xfrm flipH="1">
              <a:off x="394920" y="510516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Curved Down Arrow 53"/>
            <p:cNvSpPr/>
            <p:nvPr/>
          </p:nvSpPr>
          <p:spPr>
            <a:xfrm rot="5400000">
              <a:off x="3009240" y="4838760"/>
              <a:ext cx="1219320" cy="533160"/>
            </a:xfrm>
            <a:custGeom>
              <a:avLst/>
              <a:gdLst>
                <a:gd name="textAreaLeft" fmla="*/ 254880 w 1219320"/>
                <a:gd name="textAreaRight" fmla="*/ 897840 w 1219320"/>
                <a:gd name="textAreaTop" fmla="*/ 71280 h 533160"/>
                <a:gd name="textAreaBottom" fmla="*/ 4618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28" hR="21600" stAng="10800000" swAng="5400000"/>
                  <a:lnTo>
                    <a:pt x="11391" y="0"/>
                  </a:lnTo>
                  <a:arcTo wR="9028" hR="21600" stAng="-5400000" swAng="3497645"/>
                  <a:lnTo>
                    <a:pt x="21313" y="16200"/>
                  </a:lnTo>
                  <a:lnTo>
                    <a:pt x="19238" y="21600"/>
                  </a:lnTo>
                  <a:lnTo>
                    <a:pt x="16588" y="16200"/>
                  </a:lnTo>
                  <a:lnTo>
                    <a:pt x="17769" y="16200"/>
                  </a:lnTo>
                  <a:arcTo wR="9028" hR="21600" stAng="-1902355" swAng="-3308164"/>
                  <a:lnTo>
                    <a:pt x="10210" y="186"/>
                  </a:lnTo>
                  <a:arcTo wR="9028" hR="21600" stAng="-5589481" swAng="-5210519"/>
                  <a:close/>
                </a:path>
                <a:path fill="darkenLess" w="21600" h="21600">
                  <a:moveTo>
                    <a:pt x="0" y="21600"/>
                  </a:moveTo>
                  <a:arcTo wR="9028" hR="21600" stAng="10800000" swAng="5400000"/>
                  <a:lnTo>
                    <a:pt x="9028" y="0"/>
                  </a:lnTo>
                  <a:arcTo wR="9028" hR="21600" stAng="-5400000" swAng="189481"/>
                  <a:lnTo>
                    <a:pt x="10210" y="186"/>
                  </a:lnTo>
                  <a:arcTo wR="9028" hR="21600" stAng="-5589481" swAng="-52105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63"/>
          <p:cNvGrpSpPr/>
          <p:nvPr/>
        </p:nvGrpSpPr>
        <p:grpSpPr>
          <a:xfrm>
            <a:off x="380520" y="3124080"/>
            <a:ext cx="8458200" cy="1771920"/>
            <a:chOff x="380520" y="3124080"/>
            <a:chExt cx="8458200" cy="1771920"/>
          </a:xfrm>
        </p:grpSpPr>
        <p:sp>
          <p:nvSpPr>
            <p:cNvPr id="81" name="Straight Connector 27"/>
            <p:cNvSpPr/>
            <p:nvPr/>
          </p:nvSpPr>
          <p:spPr>
            <a:xfrm flipH="1">
              <a:off x="380520" y="380988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62"/>
            <p:cNvGrpSpPr/>
            <p:nvPr/>
          </p:nvGrpSpPr>
          <p:grpSpPr>
            <a:xfrm>
              <a:off x="456840" y="3124080"/>
              <a:ext cx="2582280" cy="1771920"/>
              <a:chOff x="456840" y="3124080"/>
              <a:chExt cx="2582280" cy="1771920"/>
            </a:xfrm>
          </p:grpSpPr>
          <p:grpSp>
            <p:nvGrpSpPr>
              <p:cNvPr id="83" name="Group 14"/>
              <p:cNvGrpSpPr/>
              <p:nvPr/>
            </p:nvGrpSpPr>
            <p:grpSpPr>
              <a:xfrm>
                <a:off x="955080" y="4118400"/>
                <a:ext cx="2084040" cy="777600"/>
                <a:chOff x="955080" y="4118400"/>
                <a:chExt cx="2084040" cy="777600"/>
              </a:xfrm>
            </p:grpSpPr>
            <p:sp>
              <p:nvSpPr>
                <p:cNvPr id="84" name="Flowchart: Manual Operation 9"/>
                <p:cNvSpPr/>
                <p:nvPr/>
              </p:nvSpPr>
              <p:spPr>
                <a:xfrm rot="10800000">
                  <a:off x="955080" y="4118400"/>
                  <a:ext cx="2084040" cy="777600"/>
                </a:xfrm>
                <a:prstGeom prst="flowChartManualOperation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Box 10"/>
                <p:cNvSpPr/>
                <p:nvPr/>
              </p:nvSpPr>
              <p:spPr>
                <a:xfrm>
                  <a:off x="1384920" y="4313160"/>
                  <a:ext cx="125028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o-RO" sz="1700" spc="-1" strike="noStrike">
                      <a:solidFill>
                        <a:srgbClr val="000000"/>
                      </a:solidFill>
                      <a:latin typeface="Tw Cen MT"/>
                      <a:ea typeface="Arial"/>
                    </a:rPr>
                    <a:t>Nivel tactic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Curved Right Arrow 55"/>
              <p:cNvSpPr/>
              <p:nvPr/>
            </p:nvSpPr>
            <p:spPr>
              <a:xfrm>
                <a:off x="456840" y="3124080"/>
                <a:ext cx="533160" cy="1295640"/>
              </a:xfrm>
              <a:custGeom>
                <a:avLst/>
                <a:gdLst>
                  <a:gd name="textAreaLeft" fmla="*/ 71280 w 533160"/>
                  <a:gd name="textAreaRight" fmla="*/ 461880 w 533160"/>
                  <a:gd name="textAreaTop" fmla="*/ 273960 h 1295640"/>
                  <a:gd name="textAreaBottom" fmla="*/ 95508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9132" stAng="-5400000" swAng="-5400000"/>
                    <a:lnTo>
                      <a:pt x="0" y="11356"/>
                    </a:lnTo>
                    <a:arcTo wR="21600" hR="9132" stAng="10800000" swAng="-3515205"/>
                    <a:lnTo>
                      <a:pt x="16200" y="21310"/>
                    </a:lnTo>
                    <a:lnTo>
                      <a:pt x="21600" y="19376"/>
                    </a:lnTo>
                    <a:lnTo>
                      <a:pt x="16200" y="16862"/>
                    </a:lnTo>
                    <a:lnTo>
                      <a:pt x="16200" y="17974"/>
                    </a:lnTo>
                    <a:arcTo wR="21600" hR="9132" stAng="7284795" swAng="3337057"/>
                    <a:lnTo>
                      <a:pt x="161" y="10244"/>
                    </a:lnTo>
                    <a:arcTo wR="21600" hR="9132" stAng="-10621852" swAng="522185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9132" stAng="-5400000" swAng="-5400000"/>
                    <a:lnTo>
                      <a:pt x="0" y="9132"/>
                    </a:lnTo>
                    <a:arcTo wR="21600" hR="9132" stAng="10800000" swAng="-178148"/>
                    <a:lnTo>
                      <a:pt x="161" y="10244"/>
                    </a:lnTo>
                    <a:arcTo wR="21600" hR="9132" stAng="-10621852" swAng="5221852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68"/>
          <p:cNvGrpSpPr/>
          <p:nvPr/>
        </p:nvGrpSpPr>
        <p:grpSpPr>
          <a:xfrm>
            <a:off x="5952960" y="2160720"/>
            <a:ext cx="1743120" cy="1044720"/>
            <a:chOff x="5952960" y="2160720"/>
            <a:chExt cx="1743120" cy="1044720"/>
          </a:xfrm>
        </p:grpSpPr>
        <p:sp>
          <p:nvSpPr>
            <p:cNvPr id="88" name="TextBox 19"/>
            <p:cNvSpPr/>
            <p:nvPr/>
          </p:nvSpPr>
          <p:spPr>
            <a:xfrm>
              <a:off x="6248520" y="2685240"/>
              <a:ext cx="1151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 strateg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" name="Straight Arrow Connector 34"/>
            <p:cNvCxnSpPr>
              <a:stCxn id="90" idx="3"/>
              <a:endCxn id="88" idx="1"/>
            </p:cNvCxnSpPr>
            <p:nvPr/>
          </p:nvCxnSpPr>
          <p:spPr>
            <a:xfrm>
              <a:off x="5952960" y="3171600"/>
              <a:ext cx="29556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1" name="TextBox 58"/>
            <p:cNvSpPr/>
            <p:nvPr/>
          </p:nvSpPr>
          <p:spPr>
            <a:xfrm>
              <a:off x="6324840" y="2160720"/>
              <a:ext cx="137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9"/>
          <p:cNvGrpSpPr/>
          <p:nvPr/>
        </p:nvGrpSpPr>
        <p:grpSpPr>
          <a:xfrm>
            <a:off x="7400880" y="2133720"/>
            <a:ext cx="1743120" cy="1072440"/>
            <a:chOff x="7400880" y="2133720"/>
            <a:chExt cx="1743120" cy="1072440"/>
          </a:xfrm>
        </p:grpSpPr>
        <p:sp>
          <p:nvSpPr>
            <p:cNvPr id="93" name="TextBox 18"/>
            <p:cNvSpPr/>
            <p:nvPr/>
          </p:nvSpPr>
          <p:spPr>
            <a:xfrm>
              <a:off x="7688160" y="2685960"/>
              <a:ext cx="1150920" cy="52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ffff"/>
                  </a:solidFill>
                  <a:latin typeface="Tw Cen MT"/>
                </a:rPr>
                <a:t>Indicatori gener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Straight Arrow Connector 35"/>
            <p:cNvCxnSpPr>
              <a:stCxn id="88" idx="3"/>
              <a:endCxn id="93" idx="1"/>
            </p:cNvCxnSpPr>
            <p:nvPr/>
          </p:nvCxnSpPr>
          <p:spPr>
            <a:xfrm>
              <a:off x="7400880" y="3171600"/>
              <a:ext cx="28800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5" name="TextBox 59"/>
            <p:cNvSpPr/>
            <p:nvPr/>
          </p:nvSpPr>
          <p:spPr>
            <a:xfrm>
              <a:off x="7772760" y="2133720"/>
              <a:ext cx="137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Indicat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7"/>
          <p:cNvGrpSpPr/>
          <p:nvPr/>
        </p:nvGrpSpPr>
        <p:grpSpPr>
          <a:xfrm>
            <a:off x="2541600" y="990720"/>
            <a:ext cx="3630600" cy="2215080"/>
            <a:chOff x="2541600" y="990720"/>
            <a:chExt cx="3630600" cy="2215080"/>
          </a:xfrm>
        </p:grpSpPr>
        <p:sp>
          <p:nvSpPr>
            <p:cNvPr id="90" name="TextBox 17"/>
            <p:cNvSpPr/>
            <p:nvPr/>
          </p:nvSpPr>
          <p:spPr>
            <a:xfrm>
              <a:off x="4800240" y="2685600"/>
              <a:ext cx="1152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Strategie dezvolt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57"/>
            <p:cNvSpPr/>
            <p:nvPr/>
          </p:nvSpPr>
          <p:spPr>
            <a:xfrm>
              <a:off x="4800240" y="2176200"/>
              <a:ext cx="137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Document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61"/>
            <p:cNvGrpSpPr/>
            <p:nvPr/>
          </p:nvGrpSpPr>
          <p:grpSpPr>
            <a:xfrm>
              <a:off x="2541600" y="990720"/>
              <a:ext cx="1953720" cy="1143000"/>
              <a:chOff x="2541600" y="990720"/>
              <a:chExt cx="1953720" cy="1143000"/>
            </a:xfrm>
          </p:grpSpPr>
          <p:sp>
            <p:nvSpPr>
              <p:cNvPr id="99" name="TextBox 16"/>
              <p:cNvSpPr/>
              <p:nvPr/>
            </p:nvSpPr>
            <p:spPr>
              <a:xfrm>
                <a:off x="2541600" y="1219320"/>
                <a:ext cx="1752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Contract Delegare, Master Plan, Plan Financiar et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lowchart: Multidocument 60"/>
              <p:cNvSpPr/>
              <p:nvPr/>
            </p:nvSpPr>
            <p:spPr>
              <a:xfrm>
                <a:off x="2590560" y="990720"/>
                <a:ext cx="1904760" cy="1143000"/>
              </a:xfrm>
              <a:prstGeom prst="flowChartMultidocumen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1" name="Shape 66"/>
            <p:cNvCxnSpPr>
              <a:stCxn id="99" idx="2"/>
              <a:endCxn id="90" idx="1"/>
            </p:cNvCxnSpPr>
            <p:nvPr/>
          </p:nvCxnSpPr>
          <p:spPr>
            <a:xfrm flipH="1" rot="16200000">
              <a:off x="3501000" y="1872720"/>
              <a:ext cx="1215000" cy="1383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228600" y="152280"/>
            <a:ext cx="60199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1. Structurarea sistemului de evaluare (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4"/>
          <p:cNvGrpSpPr/>
          <p:nvPr/>
        </p:nvGrpSpPr>
        <p:grpSpPr>
          <a:xfrm>
            <a:off x="151920" y="1382760"/>
            <a:ext cx="3124800" cy="4642560"/>
            <a:chOff x="151920" y="1382760"/>
            <a:chExt cx="3124800" cy="4642560"/>
          </a:xfrm>
        </p:grpSpPr>
        <p:grpSp>
          <p:nvGrpSpPr>
            <p:cNvPr id="104" name="Group 72"/>
            <p:cNvGrpSpPr/>
            <p:nvPr/>
          </p:nvGrpSpPr>
          <p:grpSpPr>
            <a:xfrm>
              <a:off x="1539360" y="4129920"/>
              <a:ext cx="1418400" cy="946440"/>
              <a:chOff x="1539360" y="4129920"/>
              <a:chExt cx="1418400" cy="946440"/>
            </a:xfrm>
          </p:grpSpPr>
          <p:sp>
            <p:nvSpPr>
              <p:cNvPr id="105" name="TextBox 22"/>
              <p:cNvSpPr/>
              <p:nvPr/>
            </p:nvSpPr>
            <p:spPr>
              <a:xfrm>
                <a:off x="1806480" y="4129920"/>
                <a:ext cx="1151280" cy="9464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veriga organizator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Straight Arrow Connector 41"/>
              <p:cNvCxnSpPr>
                <a:endCxn id="105" idx="1"/>
              </p:cNvCxnSpPr>
              <p:nvPr/>
            </p:nvCxnSpPr>
            <p:spPr>
              <a:xfrm flipV="1">
                <a:off x="1539360" y="4616280"/>
                <a:ext cx="2671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07" name="Group 76"/>
            <p:cNvGrpSpPr/>
            <p:nvPr/>
          </p:nvGrpSpPr>
          <p:grpSpPr>
            <a:xfrm>
              <a:off x="1532880" y="5505120"/>
              <a:ext cx="1438920" cy="520200"/>
              <a:chOff x="1532880" y="5505120"/>
              <a:chExt cx="1438920" cy="520200"/>
            </a:xfrm>
          </p:grpSpPr>
          <p:sp>
            <p:nvSpPr>
              <p:cNvPr id="108" name="TextBox 26"/>
              <p:cNvSpPr/>
              <p:nvPr/>
            </p:nvSpPr>
            <p:spPr>
              <a:xfrm>
                <a:off x="1820160" y="5505120"/>
                <a:ext cx="115164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individu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Straight Arrow Connector 49"/>
              <p:cNvCxnSpPr>
                <a:endCxn id="108" idx="1"/>
              </p:cNvCxnSpPr>
              <p:nvPr/>
            </p:nvCxnSpPr>
            <p:spPr>
              <a:xfrm flipV="1">
                <a:off x="1532880" y="5990760"/>
                <a:ext cx="2880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10" name="Group 69"/>
            <p:cNvGrpSpPr/>
            <p:nvPr/>
          </p:nvGrpSpPr>
          <p:grpSpPr>
            <a:xfrm>
              <a:off x="1532880" y="2286000"/>
              <a:ext cx="1743840" cy="1072440"/>
              <a:chOff x="1532880" y="2286000"/>
              <a:chExt cx="1743840" cy="1072440"/>
            </a:xfrm>
          </p:grpSpPr>
          <p:sp>
            <p:nvSpPr>
              <p:cNvPr id="111" name="TextBox 18"/>
              <p:cNvSpPr/>
              <p:nvPr/>
            </p:nvSpPr>
            <p:spPr>
              <a:xfrm>
                <a:off x="1820160" y="2838240"/>
                <a:ext cx="115164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gener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Straight Arrow Connector 35"/>
              <p:cNvCxnSpPr>
                <a:endCxn id="111" idx="1"/>
              </p:cNvCxnSpPr>
              <p:nvPr/>
            </p:nvCxnSpPr>
            <p:spPr>
              <a:xfrm>
                <a:off x="1532880" y="3323880"/>
                <a:ext cx="288000" cy="10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13" name="TextBox 59"/>
              <p:cNvSpPr/>
              <p:nvPr/>
            </p:nvSpPr>
            <p:spPr>
              <a:xfrm>
                <a:off x="1904400" y="2286000"/>
                <a:ext cx="13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o-RO" sz="16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Indicator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Straight Connector 48"/>
            <p:cNvSpPr/>
            <p:nvPr/>
          </p:nvSpPr>
          <p:spPr>
            <a:xfrm>
              <a:off x="1523880" y="18907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50"/>
            <p:cNvSpPr/>
            <p:nvPr/>
          </p:nvSpPr>
          <p:spPr>
            <a:xfrm flipH="1">
              <a:off x="151920" y="1869840"/>
              <a:ext cx="274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63"/>
            <p:cNvSpPr/>
            <p:nvPr/>
          </p:nvSpPr>
          <p:spPr>
            <a:xfrm>
              <a:off x="304560" y="1382760"/>
              <a:ext cx="25149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Arhitectura siste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65"/>
          <p:cNvGrpSpPr/>
          <p:nvPr/>
        </p:nvGrpSpPr>
        <p:grpSpPr>
          <a:xfrm>
            <a:off x="6172200" y="1382760"/>
            <a:ext cx="3124080" cy="4642560"/>
            <a:chOff x="6172200" y="1382760"/>
            <a:chExt cx="3124080" cy="4642560"/>
          </a:xfrm>
        </p:grpSpPr>
        <p:grpSp>
          <p:nvGrpSpPr>
            <p:cNvPr id="118" name="Group 72"/>
            <p:cNvGrpSpPr/>
            <p:nvPr/>
          </p:nvGrpSpPr>
          <p:grpSpPr>
            <a:xfrm>
              <a:off x="7559280" y="4129920"/>
              <a:ext cx="1418400" cy="946440"/>
              <a:chOff x="7559280" y="4129920"/>
              <a:chExt cx="1418400" cy="946440"/>
            </a:xfrm>
          </p:grpSpPr>
          <p:sp>
            <p:nvSpPr>
              <p:cNvPr id="119" name="TextBox 78"/>
              <p:cNvSpPr/>
              <p:nvPr/>
            </p:nvSpPr>
            <p:spPr>
              <a:xfrm>
                <a:off x="7826400" y="4129920"/>
                <a:ext cx="1151280" cy="9464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veriga organizator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Straight Arrow Connector 79"/>
              <p:cNvCxnSpPr>
                <a:endCxn id="119" idx="1"/>
              </p:cNvCxnSpPr>
              <p:nvPr/>
            </p:nvCxnSpPr>
            <p:spPr>
              <a:xfrm flipV="1">
                <a:off x="7559280" y="4616280"/>
                <a:ext cx="2671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21" name="Group 76"/>
            <p:cNvGrpSpPr/>
            <p:nvPr/>
          </p:nvGrpSpPr>
          <p:grpSpPr>
            <a:xfrm>
              <a:off x="7552800" y="5505120"/>
              <a:ext cx="1438560" cy="520200"/>
              <a:chOff x="7552800" y="5505120"/>
              <a:chExt cx="1438560" cy="520200"/>
            </a:xfrm>
          </p:grpSpPr>
          <p:sp>
            <p:nvSpPr>
              <p:cNvPr id="122" name="TextBox 76"/>
              <p:cNvSpPr/>
              <p:nvPr/>
            </p:nvSpPr>
            <p:spPr>
              <a:xfrm>
                <a:off x="7840080" y="5505120"/>
                <a:ext cx="115128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individu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Straight Arrow Connector 77"/>
              <p:cNvCxnSpPr>
                <a:endCxn id="122" idx="1"/>
              </p:cNvCxnSpPr>
              <p:nvPr/>
            </p:nvCxnSpPr>
            <p:spPr>
              <a:xfrm flipV="1">
                <a:off x="7552800" y="5990760"/>
                <a:ext cx="2880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24" name="Group 69"/>
            <p:cNvGrpSpPr/>
            <p:nvPr/>
          </p:nvGrpSpPr>
          <p:grpSpPr>
            <a:xfrm>
              <a:off x="7552800" y="2286000"/>
              <a:ext cx="1743480" cy="1072440"/>
              <a:chOff x="7552800" y="2286000"/>
              <a:chExt cx="1743480" cy="1072440"/>
            </a:xfrm>
          </p:grpSpPr>
          <p:sp>
            <p:nvSpPr>
              <p:cNvPr id="125" name="TextBox 73"/>
              <p:cNvSpPr/>
              <p:nvPr/>
            </p:nvSpPr>
            <p:spPr>
              <a:xfrm>
                <a:off x="7840080" y="2838240"/>
                <a:ext cx="115128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gener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" name="Straight Arrow Connector 74"/>
              <p:cNvCxnSpPr>
                <a:endCxn id="125" idx="1"/>
              </p:cNvCxnSpPr>
              <p:nvPr/>
            </p:nvCxnSpPr>
            <p:spPr>
              <a:xfrm>
                <a:off x="7552800" y="3323880"/>
                <a:ext cx="288000" cy="10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7" name="TextBox 75"/>
              <p:cNvSpPr/>
              <p:nvPr/>
            </p:nvSpPr>
            <p:spPr>
              <a:xfrm>
                <a:off x="7924320" y="2286000"/>
                <a:ext cx="137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o-RO" sz="16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Indicator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Straight Connector 70"/>
            <p:cNvSpPr/>
            <p:nvPr/>
          </p:nvSpPr>
          <p:spPr>
            <a:xfrm>
              <a:off x="7543800" y="18907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71"/>
            <p:cNvSpPr/>
            <p:nvPr/>
          </p:nvSpPr>
          <p:spPr>
            <a:xfrm flipH="1">
              <a:off x="6172200" y="18698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72"/>
            <p:cNvSpPr/>
            <p:nvPr/>
          </p:nvSpPr>
          <p:spPr>
            <a:xfrm>
              <a:off x="6324480" y="1382760"/>
              <a:ext cx="25146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Arhitectura siste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81"/>
          <p:cNvSpPr/>
          <p:nvPr/>
        </p:nvSpPr>
        <p:spPr>
          <a:xfrm>
            <a:off x="5257800" y="3048120"/>
            <a:ext cx="1828800" cy="7916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w Cen MT"/>
                <a:ea typeface="Arial"/>
              </a:rPr>
              <a:t>Populatia deservita per angaj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35"/>
          <p:cNvGrpSpPr/>
          <p:nvPr/>
        </p:nvGrpSpPr>
        <p:grpSpPr>
          <a:xfrm>
            <a:off x="3124080" y="3627360"/>
            <a:ext cx="5673960" cy="1585800"/>
            <a:chOff x="3124080" y="3627360"/>
            <a:chExt cx="5673960" cy="1585800"/>
          </a:xfrm>
        </p:grpSpPr>
        <p:sp>
          <p:nvSpPr>
            <p:cNvPr id="133" name="TextBox 82"/>
            <p:cNvSpPr/>
            <p:nvPr/>
          </p:nvSpPr>
          <p:spPr>
            <a:xfrm>
              <a:off x="3124080" y="4212360"/>
              <a:ext cx="1295280" cy="7916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ata personalului TE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83"/>
            <p:cNvSpPr/>
            <p:nvPr/>
          </p:nvSpPr>
          <p:spPr>
            <a:xfrm>
              <a:off x="4724280" y="4191120"/>
              <a:ext cx="129528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Indicele mediu de progres al investitii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84"/>
            <p:cNvSpPr/>
            <p:nvPr/>
          </p:nvSpPr>
          <p:spPr>
            <a:xfrm>
              <a:off x="6172200" y="4191120"/>
              <a:ext cx="148248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ata de bransare la nivelul judetul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88"/>
            <p:cNvSpPr/>
            <p:nvPr/>
          </p:nvSpPr>
          <p:spPr>
            <a:xfrm>
              <a:off x="7315560" y="4350240"/>
              <a:ext cx="148248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6"/>
            <p:cNvSpPr/>
            <p:nvPr/>
          </p:nvSpPr>
          <p:spPr>
            <a:xfrm flipH="1">
              <a:off x="3809880" y="3627360"/>
              <a:ext cx="23623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97"/>
            <p:cNvSpPr/>
            <p:nvPr/>
          </p:nvSpPr>
          <p:spPr>
            <a:xfrm flipH="1">
              <a:off x="5371920" y="3627360"/>
              <a:ext cx="799920" cy="56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100"/>
            <p:cNvSpPr/>
            <p:nvPr/>
          </p:nvSpPr>
          <p:spPr>
            <a:xfrm>
              <a:off x="6172200" y="3627360"/>
              <a:ext cx="741240" cy="56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103"/>
            <p:cNvSpPr/>
            <p:nvPr/>
          </p:nvSpPr>
          <p:spPr>
            <a:xfrm>
              <a:off x="6172200" y="3627360"/>
              <a:ext cx="188424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36"/>
          <p:cNvGrpSpPr/>
          <p:nvPr/>
        </p:nvGrpSpPr>
        <p:grpSpPr>
          <a:xfrm>
            <a:off x="3200400" y="5008680"/>
            <a:ext cx="5715000" cy="1800720"/>
            <a:chOff x="3200400" y="5008680"/>
            <a:chExt cx="5715000" cy="1800720"/>
          </a:xfrm>
        </p:grpSpPr>
        <p:sp>
          <p:nvSpPr>
            <p:cNvPr id="142" name="TextBox 85"/>
            <p:cNvSpPr/>
            <p:nvPr/>
          </p:nvSpPr>
          <p:spPr>
            <a:xfrm>
              <a:off x="4190760" y="5441400"/>
              <a:ext cx="914400" cy="7916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r. angaj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86"/>
            <p:cNvSpPr/>
            <p:nvPr/>
          </p:nvSpPr>
          <p:spPr>
            <a:xfrm>
              <a:off x="3200400" y="5479920"/>
              <a:ext cx="1004400" cy="7916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r. pension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87"/>
            <p:cNvSpPr/>
            <p:nvPr/>
          </p:nvSpPr>
          <p:spPr>
            <a:xfrm>
              <a:off x="4114800" y="6137280"/>
              <a:ext cx="53316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9"/>
            <p:cNvSpPr/>
            <p:nvPr/>
          </p:nvSpPr>
          <p:spPr>
            <a:xfrm>
              <a:off x="4952880" y="5715720"/>
              <a:ext cx="114300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Valoare decontata ramburs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90"/>
            <p:cNvSpPr/>
            <p:nvPr/>
          </p:nvSpPr>
          <p:spPr>
            <a:xfrm>
              <a:off x="6095880" y="5486760"/>
              <a:ext cx="108072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Valoare corectii financiare aplic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91"/>
            <p:cNvSpPr/>
            <p:nvPr/>
          </p:nvSpPr>
          <p:spPr>
            <a:xfrm>
              <a:off x="6095880" y="6477840"/>
              <a:ext cx="38088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92"/>
            <p:cNvSpPr/>
            <p:nvPr/>
          </p:nvSpPr>
          <p:spPr>
            <a:xfrm>
              <a:off x="7391520" y="5410800"/>
              <a:ext cx="1523880" cy="5612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r. contracte n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93"/>
            <p:cNvSpPr/>
            <p:nvPr/>
          </p:nvSpPr>
          <p:spPr>
            <a:xfrm>
              <a:off x="7162920" y="5791680"/>
              <a:ext cx="167616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Buget actiuni 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94"/>
            <p:cNvSpPr/>
            <p:nvPr/>
          </p:nvSpPr>
          <p:spPr>
            <a:xfrm>
              <a:off x="7239240" y="6060960"/>
              <a:ext cx="129528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106"/>
            <p:cNvSpPr/>
            <p:nvPr/>
          </p:nvSpPr>
          <p:spPr>
            <a:xfrm flipH="1">
              <a:off x="3701880" y="5029200"/>
              <a:ext cx="698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109"/>
            <p:cNvSpPr/>
            <p:nvPr/>
          </p:nvSpPr>
          <p:spPr>
            <a:xfrm>
              <a:off x="3771720" y="5029200"/>
              <a:ext cx="8762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112"/>
            <p:cNvSpPr/>
            <p:nvPr/>
          </p:nvSpPr>
          <p:spPr>
            <a:xfrm>
              <a:off x="3771720" y="5029200"/>
              <a:ext cx="60948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16"/>
            <p:cNvSpPr/>
            <p:nvPr/>
          </p:nvSpPr>
          <p:spPr>
            <a:xfrm>
              <a:off x="5371920" y="5008680"/>
              <a:ext cx="15228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19"/>
            <p:cNvSpPr/>
            <p:nvPr/>
          </p:nvSpPr>
          <p:spPr>
            <a:xfrm>
              <a:off x="5371920" y="5008680"/>
              <a:ext cx="126360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122"/>
            <p:cNvSpPr/>
            <p:nvPr/>
          </p:nvSpPr>
          <p:spPr>
            <a:xfrm>
              <a:off x="5371920" y="5008680"/>
              <a:ext cx="914400" cy="14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126"/>
            <p:cNvSpPr/>
            <p:nvPr/>
          </p:nvSpPr>
          <p:spPr>
            <a:xfrm>
              <a:off x="6913440" y="5008680"/>
              <a:ext cx="12398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129"/>
            <p:cNvSpPr/>
            <p:nvPr/>
          </p:nvSpPr>
          <p:spPr>
            <a:xfrm>
              <a:off x="6913440" y="5008680"/>
              <a:ext cx="47772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132"/>
            <p:cNvSpPr/>
            <p:nvPr/>
          </p:nvSpPr>
          <p:spPr>
            <a:xfrm>
              <a:off x="6913440" y="5008680"/>
              <a:ext cx="325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228600" y="152280"/>
            <a:ext cx="7315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2. Documentarea si clasificarea indicatorilor de performan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1719360"/>
            <a:ext cx="9175680" cy="5022720"/>
          </a:xfrm>
          <a:prstGeom prst="rect">
            <a:avLst/>
          </a:prstGeom>
          <a:ln w="0">
            <a:noFill/>
          </a:ln>
        </p:spPr>
      </p:pic>
      <p:sp>
        <p:nvSpPr>
          <p:cNvPr id="162" name="Oval 13"/>
          <p:cNvSpPr/>
          <p:nvPr/>
        </p:nvSpPr>
        <p:spPr>
          <a:xfrm>
            <a:off x="1752480" y="251460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2666880" y="3962520"/>
            <a:ext cx="9907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00200" y="380988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3"/>
          <p:cNvSpPr/>
          <p:nvPr/>
        </p:nvSpPr>
        <p:spPr>
          <a:xfrm>
            <a:off x="4648320" y="396252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4"/>
          <p:cNvSpPr/>
          <p:nvPr/>
        </p:nvSpPr>
        <p:spPr>
          <a:xfrm>
            <a:off x="1676520" y="266688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6"/>
          <p:cNvSpPr/>
          <p:nvPr/>
        </p:nvSpPr>
        <p:spPr>
          <a:xfrm>
            <a:off x="4724280" y="4114800"/>
            <a:ext cx="83844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7"/>
          <p:cNvSpPr/>
          <p:nvPr/>
        </p:nvSpPr>
        <p:spPr>
          <a:xfrm>
            <a:off x="1600200" y="349092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8"/>
          <p:cNvSpPr/>
          <p:nvPr/>
        </p:nvSpPr>
        <p:spPr>
          <a:xfrm>
            <a:off x="6019920" y="4979880"/>
            <a:ext cx="31240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1"/>
          <p:cNvSpPr/>
          <p:nvPr/>
        </p:nvSpPr>
        <p:spPr>
          <a:xfrm>
            <a:off x="228600" y="15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3 Structura indicato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428480" y="1523880"/>
            <a:ext cx="716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1102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de performanta la nivelul celor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Direct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17% 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indicatori la nivel de verig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83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individual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33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calitati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24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corelati cu obiectivele Contractului de Deleg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32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cheie de performa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19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de dezvolt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8% 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indicatori financia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8% 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indicatori orientati catre cli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65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de pro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1" i="1" lang="vi-VN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 pe baza capabilităților </a:t>
            </a: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s</a:t>
            </a:r>
            <a:r>
              <a:rPr b="1" i="1" lang="vi-VN" sz="2300" spc="-1" strike="noStrike">
                <a:solidFill>
                  <a:srgbClr val="000000"/>
                </a:solidFill>
                <a:latin typeface="Tw Cen MT"/>
                <a:ea typeface="Arial"/>
              </a:rPr>
              <a:t>i aptitudinilor generale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289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458040" cy="22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hai Cioc</dc:creator>
  <dc:description/>
  <dc:language>en-US</dc:language>
  <cp:lastModifiedBy>Vicu GRASU</cp:lastModifiedBy>
  <dcterms:modified xsi:type="dcterms:W3CDTF">2017-06-07T11:48:09Z</dcterms:modified>
  <cp:revision>51</cp:revision>
  <dc:subject/>
  <dc:title>Slide 1</dc:title>
</cp:coreProperties>
</file>