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31E-FF5C-4A94-93BB-C995E2DC82E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0F0F-14CD-46A1-8B54-50EA6307E83C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BD0B-2237-429E-9996-941E6101A3A7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D9B-37E3-4FE3-AC0C-A6BDBBECA13B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73D6-1D67-4551-ACB5-34833AC1CC87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845-FCF8-429B-8EFD-7AC246D7BA9F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636-5B19-4674-91EE-6E884A553661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B63-5E2E-4A31-B9A3-B4F5078A8046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D72D-AB26-4A2A-BF12-7E46B4CBCCF1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798560" indent="-3585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301EA126-EC55-4234-8FD5-76854B770A37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3553-8583-476A-A9DC-E7B4A36E211C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3DB-6A9B-4AD1-8358-6F85B614040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урс повышения квалификации для работников</a:t>
            </a:r>
            <a:br>
              <a:rPr sz="2400"/>
            </a:b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дул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12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еджмент человеческих ресурсов в области операторов поставщиков воды и канализационных систем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сия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дивидуальный трудовой договор. Дисциплина труда и дисциплинарная ответственность.</a:t>
            </a:r>
            <a:br>
              <a:rPr sz="2000"/>
            </a:b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МАНДАШ Николае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ктор юридических наук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нь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шинэу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66B0-8A7D-43B0-95C2-D0DD57402EA0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582480" y="1555920"/>
            <a:ext cx="793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0f0f"/>
                </a:solidFill>
                <a:latin typeface="Arial"/>
                <a:ea typeface="Arial"/>
              </a:rPr>
              <a:t>Классификационные критерии условии заключения индивидуального трудового договора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2457360"/>
          <a:ext cx="2752560" cy="689040"/>
        </p:xfrm>
        <a:graphic>
          <a:graphicData uri="http://schemas.openxmlformats.org/drawingml/2006/table">
            <a:tbl>
              <a:tblPr/>
              <a:tblGrid>
                <a:gridCol w="275256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волеизъявления и содержания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24200" y="3262320"/>
          <a:ext cx="2582640" cy="517680"/>
        </p:xfrm>
        <a:graphic>
          <a:graphicData uri="http://schemas.openxmlformats.org/drawingml/2006/table">
            <a:tbl>
              <a:tblPr/>
              <a:tblGrid>
                <a:gridCol w="25826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е условия применяемые и к другим типам контрактов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30320" y="5153040"/>
          <a:ext cx="2576520" cy="546120"/>
        </p:xfrm>
        <a:graphic>
          <a:graphicData uri="http://schemas.openxmlformats.org/drawingml/2006/table">
            <a:tbl>
              <a:tblPr/>
              <a:tblGrid>
                <a:gridCol w="2576520"/>
              </a:tblGrid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енные условия ИТД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106960" y="2752560"/>
          <a:ext cx="1438200" cy="427320"/>
        </p:xfrm>
        <a:graphic>
          <a:graphicData uri="http://schemas.openxmlformats.org/drawingml/2006/table">
            <a:tbl>
              <a:tblPr/>
              <a:tblGrid>
                <a:gridCol w="1438200"/>
              </a:tblGrid>
              <a:tr h="42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дическая дееспособность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088040" y="2484360"/>
          <a:ext cx="1419480" cy="268200"/>
        </p:xfrm>
        <a:graphic>
          <a:graphicData uri="http://schemas.openxmlformats.org/drawingml/2006/table">
            <a:tbl>
              <a:tblPr/>
              <a:tblGrid>
                <a:gridCol w="1419480"/>
              </a:tblGrid>
              <a:tr h="268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а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088040" y="3029040"/>
          <a:ext cx="1419480" cy="342720"/>
        </p:xfrm>
        <a:graphic>
          <a:graphicData uri="http://schemas.openxmlformats.org/drawingml/2006/table">
            <a:tbl>
              <a:tblPr/>
              <a:tblGrid>
                <a:gridCol w="1419480"/>
              </a:tblGrid>
              <a:tr h="34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дателя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06960" y="3308400"/>
          <a:ext cx="1438200" cy="415800"/>
        </p:xfrm>
        <a:graphic>
          <a:graphicData uri="http://schemas.openxmlformats.org/drawingml/2006/table">
            <a:tbl>
              <a:tblPr/>
              <a:tblGrid>
                <a:gridCol w="1438200"/>
              </a:tblGrid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изъявление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113440" y="4249800"/>
          <a:ext cx="1390680" cy="593640"/>
        </p:xfrm>
        <a:graphic>
          <a:graphicData uri="http://schemas.openxmlformats.org/drawingml/2006/table">
            <a:tbl>
              <a:tblPr/>
              <a:tblGrid>
                <a:gridCol w="139068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 основание договора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093080" y="3621240"/>
          <a:ext cx="1414440" cy="930240"/>
        </p:xfrm>
        <a:graphic>
          <a:graphicData uri="http://schemas.openxmlformats.org/drawingml/2006/table">
            <a:tbl>
              <a:tblPr/>
              <a:tblGrid>
                <a:gridCol w="14144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о заключении действительного юридического акта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154480" y="5214960"/>
          <a:ext cx="1306800" cy="426960"/>
        </p:xfrm>
        <a:graphic>
          <a:graphicData uri="http://schemas.openxmlformats.org/drawingml/2006/table">
            <a:tbl>
              <a:tblPr/>
              <a:tblGrid>
                <a:gridCol w="130680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здоровья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59520" y="5856120"/>
          <a:ext cx="1306440" cy="428760"/>
        </p:xfrm>
        <a:graphic>
          <a:graphicData uri="http://schemas.openxmlformats.org/drawingml/2006/table">
            <a:tbl>
              <a:tblPr/>
              <a:tblGrid>
                <a:gridCol w="130644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, трудовой стаж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113600" y="5765760"/>
          <a:ext cx="1393920" cy="593640"/>
        </p:xfrm>
        <a:graphic>
          <a:graphicData uri="http://schemas.openxmlformats.org/drawingml/2006/table">
            <a:tbl>
              <a:tblPr/>
              <a:tblGrid>
                <a:gridCol w="139392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три закон о образовании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107120" y="4799160"/>
          <a:ext cx="1422360" cy="930240"/>
        </p:xfrm>
        <a:graphic>
          <a:graphicData uri="http://schemas.openxmlformats.org/drawingml/2006/table">
            <a:tbl>
              <a:tblPr/>
              <a:tblGrid>
                <a:gridCol w="142236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тентным органом в данной области является ККМ и ЭК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2" name="Прямая со стрелкой 17"/>
          <p:cNvCxnSpPr/>
          <p:nvPr/>
        </p:nvCxnSpPr>
        <p:spPr>
          <a:xfrm flipV="1">
            <a:off x="6437160" y="2617560"/>
            <a:ext cx="65160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Прямая со стрелкой 19"/>
          <p:cNvCxnSpPr/>
          <p:nvPr/>
        </p:nvCxnSpPr>
        <p:spPr>
          <a:xfrm>
            <a:off x="6437160" y="3029040"/>
            <a:ext cx="65160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Прямая со стрелкой 21"/>
          <p:cNvCxnSpPr/>
          <p:nvPr/>
        </p:nvCxnSpPr>
        <p:spPr>
          <a:xfrm>
            <a:off x="6437160" y="3546360"/>
            <a:ext cx="65664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Стрелка вправо 11272"/>
          <p:cNvSpPr/>
          <p:nvPr/>
        </p:nvSpPr>
        <p:spPr>
          <a:xfrm flipV="1">
            <a:off x="6461280" y="5343480"/>
            <a:ext cx="626760" cy="115920"/>
          </a:xfrm>
          <a:prstGeom prst="rightArrow">
            <a:avLst>
              <a:gd name="adj1" fmla="val 50000"/>
              <a:gd name="adj2" fmla="val 4931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Стрелка вправо 11273"/>
          <p:cNvSpPr/>
          <p:nvPr/>
        </p:nvSpPr>
        <p:spPr>
          <a:xfrm>
            <a:off x="6461280" y="6008760"/>
            <a:ext cx="652320" cy="1238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Стрелка вправо 11275"/>
          <p:cNvSpPr/>
          <p:nvPr/>
        </p:nvSpPr>
        <p:spPr>
          <a:xfrm>
            <a:off x="4506840" y="3349800"/>
            <a:ext cx="604800" cy="252360"/>
          </a:xfrm>
          <a:prstGeom prst="rightArrow">
            <a:avLst>
              <a:gd name="adj1" fmla="val 50000"/>
              <a:gd name="adj2" fmla="val 4984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Стрелка вниз 11276"/>
          <p:cNvSpPr/>
          <p:nvPr/>
        </p:nvSpPr>
        <p:spPr>
          <a:xfrm>
            <a:off x="5688000" y="3164040"/>
            <a:ext cx="219240" cy="13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Стрелка вниз 11277"/>
          <p:cNvSpPr/>
          <p:nvPr/>
        </p:nvSpPr>
        <p:spPr>
          <a:xfrm>
            <a:off x="5673600" y="3749760"/>
            <a:ext cx="233640" cy="493560"/>
          </a:xfrm>
          <a:prstGeom prst="downArrow">
            <a:avLst>
              <a:gd name="adj1" fmla="val 50000"/>
              <a:gd name="adj2" fmla="val 501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0" name="Стрелка вниз 11278"/>
          <p:cNvSpPr/>
          <p:nvPr/>
        </p:nvSpPr>
        <p:spPr>
          <a:xfrm>
            <a:off x="5697360" y="4849920"/>
            <a:ext cx="177840" cy="360360"/>
          </a:xfrm>
          <a:prstGeom prst="downArrow">
            <a:avLst>
              <a:gd name="adj1" fmla="val 50000"/>
              <a:gd name="adj2" fmla="val 503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Стрелка вниз 11279"/>
          <p:cNvSpPr/>
          <p:nvPr/>
        </p:nvSpPr>
        <p:spPr>
          <a:xfrm>
            <a:off x="5708520" y="5641920"/>
            <a:ext cx="176400" cy="228600"/>
          </a:xfrm>
          <a:prstGeom prst="downArrow">
            <a:avLst>
              <a:gd name="adj1" fmla="val 50000"/>
              <a:gd name="adj2" fmla="val 502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Стрелка вправо 11280"/>
          <p:cNvSpPr/>
          <p:nvPr/>
        </p:nvSpPr>
        <p:spPr>
          <a:xfrm>
            <a:off x="4521240" y="5288040"/>
            <a:ext cx="590400" cy="245880"/>
          </a:xfrm>
          <a:prstGeom prst="rightArrow">
            <a:avLst>
              <a:gd name="adj1" fmla="val 50000"/>
              <a:gd name="adj2" fmla="val 4979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F1A-D5C9-42B9-8073-0AFEF5B24A10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496800" y="1368360"/>
          <a:ext cx="2752920" cy="689040"/>
        </p:xfrm>
        <a:graphic>
          <a:graphicData uri="http://schemas.openxmlformats.org/drawingml/2006/table">
            <a:tbl>
              <a:tblPr/>
              <a:tblGrid>
                <a:gridCol w="275292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содержания ИТД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20760" y="2833560"/>
          <a:ext cx="2584440" cy="516240"/>
        </p:xfrm>
        <a:graphic>
          <a:graphicData uri="http://schemas.openxmlformats.org/drawingml/2006/table">
            <a:tbl>
              <a:tblPr/>
              <a:tblGrid>
                <a:gridCol w="2584440"/>
              </a:tblGrid>
              <a:tr h="51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законные условия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228680" y="3841920"/>
          <a:ext cx="2576520" cy="545760"/>
        </p:xfrm>
        <a:graphic>
          <a:graphicData uri="http://schemas.openxmlformats.org/drawingml/2006/table">
            <a:tbl>
              <a:tblPr/>
              <a:tblGrid>
                <a:gridCol w="2576520"/>
              </a:tblGrid>
              <a:tr h="545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ативные условия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099040" y="2724120"/>
          <a:ext cx="2567160" cy="795240"/>
        </p:xfrm>
        <a:graphic>
          <a:graphicData uri="http://schemas.openxmlformats.org/drawingml/2006/table">
            <a:tbl>
              <a:tblPr/>
              <a:tblGrid>
                <a:gridCol w="2567160"/>
              </a:tblGrid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от соблюдения которых зависит действительность индивидуального трудового договора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70600" y="3713040"/>
          <a:ext cx="2595600" cy="1096920"/>
        </p:xfrm>
        <a:graphic>
          <a:graphicData uri="http://schemas.openxmlformats.org/drawingml/2006/table">
            <a:tbl>
              <a:tblPr/>
              <a:tblGrid>
                <a:gridCol w="259560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предусмотренные законом, но не влияющие на действительность индивидуального трудового договора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084640" y="4968720"/>
          <a:ext cx="2595600" cy="1265400"/>
        </p:xfrm>
        <a:graphic>
          <a:graphicData uri="http://schemas.openxmlformats.org/drawingml/2006/table">
            <a:tbl>
              <a:tblPr/>
              <a:tblGrid>
                <a:gridCol w="2595600"/>
              </a:tblGrid>
              <a:tr h="143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говоренные и принятые между сторонами условия, с соблюдением требований закона о противоречии договорных  условии и условии коллективного трудового договора и коллективной конвенции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Стрелка вправо 46"/>
          <p:cNvSpPr/>
          <p:nvPr/>
        </p:nvSpPr>
        <p:spPr>
          <a:xfrm>
            <a:off x="3790800" y="2984400"/>
            <a:ext cx="1279800" cy="27792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Стрелка вправо 51"/>
          <p:cNvSpPr/>
          <p:nvPr/>
        </p:nvSpPr>
        <p:spPr>
          <a:xfrm>
            <a:off x="3798720" y="3965400"/>
            <a:ext cx="1278000" cy="274680"/>
          </a:xfrm>
          <a:prstGeom prst="rightArrow">
            <a:avLst>
              <a:gd name="adj1" fmla="val 50000"/>
              <a:gd name="adj2" fmla="val 4973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74760" y="4968720"/>
          <a:ext cx="2540160" cy="60984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ные условия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Стрелка вправо 4"/>
          <p:cNvSpPr/>
          <p:nvPr/>
        </p:nvSpPr>
        <p:spPr>
          <a:xfrm flipV="1">
            <a:off x="3805200" y="5122800"/>
            <a:ext cx="1265400" cy="303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Стрелка вниз 28"/>
          <p:cNvSpPr/>
          <p:nvPr/>
        </p:nvSpPr>
        <p:spPr>
          <a:xfrm>
            <a:off x="2411280" y="3349800"/>
            <a:ext cx="266760" cy="49212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6" name="Стрелка вниз 52"/>
          <p:cNvSpPr/>
          <p:nvPr/>
        </p:nvSpPr>
        <p:spPr>
          <a:xfrm>
            <a:off x="2411280" y="4387680"/>
            <a:ext cx="266760" cy="581040"/>
          </a:xfrm>
          <a:prstGeom prst="downArrow">
            <a:avLst>
              <a:gd name="adj1" fmla="val 50000"/>
              <a:gd name="adj2" fmla="val 502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0807-4B33-4398-A6DC-B8E6010B50FE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711360" y="1338120"/>
            <a:ext cx="777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1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 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- 8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617400" y="2387520"/>
            <a:ext cx="8253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ин Панков представил все необходимые документы для трудоустройства на предприятие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„Edlen”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качестве слесаря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я предприятия назначила 2 месячный испытательный срок. Гражданин Панков возразил по поводу испытательного срока, на основании которого администрация отказала в приеме на работу. Гражданин Панков обратился в судебную инстанцию, считая что отказ в трудоустройстве является необоснованным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859f"/>
                </a:solidFill>
                <a:latin typeface="Arial"/>
                <a:ea typeface="Arial"/>
              </a:rPr>
              <a:t>Являются ли законными действия работодателя? Аргументируйте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7360" y="1590840"/>
            <a:ext cx="8064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Изменение индивидуального трудового договора</a:t>
            </a: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DAC0-E1C3-4320-97A2-7349E54B045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6200" y="2541600"/>
            <a:ext cx="80996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859f"/>
                </a:solidFill>
                <a:latin typeface="Arial"/>
              </a:rPr>
              <a:t>Изменением индивидуального трудового догов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смена рабочего места на другое или изменение деятельности работника на определенный, или же неопределенный срок.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861-601F-4A4D-BFD7-DB645BFF1A60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98640" y="1422360"/>
          <a:ext cx="7129440" cy="10908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090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работника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ет собой возможность изменения рабочего места на постоянной основе, основанной на производственной необходимости или же на основании письменного заявления представленного работником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998640" y="2722680"/>
          <a:ext cx="2968560" cy="1433520"/>
        </p:xfrm>
        <a:graphic>
          <a:graphicData uri="http://schemas.openxmlformats.org/drawingml/2006/table">
            <a:tbl>
              <a:tblPr/>
              <a:tblGrid>
                <a:gridCol w="2968560"/>
              </a:tblGrid>
              <a:tr h="1433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юбом из предвиденных законодательством или же сторонами случаев ,перевода работника, осуществляемого на основании индивидуального трудового договора, необходимо письменное согласие обеих сторон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тника и работодателя)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794120" y="2722680"/>
          <a:ext cx="3333960" cy="1110960"/>
        </p:xfrm>
        <a:graphic>
          <a:graphicData uri="http://schemas.openxmlformats.org/drawingml/2006/table">
            <a:tbl>
              <a:tblPr/>
              <a:tblGrid>
                <a:gridCol w="3333960"/>
              </a:tblGrid>
              <a:tr h="111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 ст.74 пкт.(2) ТК РМ, работнику, на основании медицинского заключения, необходимо предоставление более легкого труда, должен быть переведен на другую более легкую работу, возможно только с его письменного согласия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93600" y="4602240"/>
          <a:ext cx="2973600" cy="1022400"/>
        </p:xfrm>
        <a:graphic>
          <a:graphicData uri="http://schemas.openxmlformats.org/drawingml/2006/table">
            <a:tbl>
              <a:tblPr/>
              <a:tblGrid>
                <a:gridCol w="2973600"/>
              </a:tblGrid>
              <a:tr h="102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личие с командированием, временным изменением рабочего места и специфики труда, перевод, представляет изменение положения индивидуального трудового договора на постоянной основе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794120" y="4014720"/>
          <a:ext cx="3333960" cy="2606760"/>
        </p:xfrm>
        <a:graphic>
          <a:graphicData uri="http://schemas.openxmlformats.org/drawingml/2006/table">
            <a:tbl>
              <a:tblPr/>
              <a:tblGrid>
                <a:gridCol w="3333960"/>
              </a:tblGrid>
              <a:tr h="260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перевода на другую постоянную работу в другое предприятие, индивидуальный трудовой договор прежнего работника становится недействительным, и имеет место заключение нового договора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вух выше указанных случаях перевод (переход работника на другую работу, в рамках того же предприятия или же переезд  работника в другую местность вместе с предприятием, индивидуальный трудовой договор, остается действительным, с соблюдением необходимых внесений в индивидуальный трудовой договор на основании юридического акта изданного работодателем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59" name="Прямая со стрелкой 8"/>
          <p:cNvCxnSpPr/>
          <p:nvPr/>
        </p:nvCxnSpPr>
        <p:spPr>
          <a:xfrm>
            <a:off x="4377960" y="2512800"/>
            <a:ext cx="1080" cy="26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Прямая со стрелкой 10"/>
          <p:cNvCxnSpPr/>
          <p:nvPr/>
        </p:nvCxnSpPr>
        <p:spPr>
          <a:xfrm>
            <a:off x="3967200" y="3438000"/>
            <a:ext cx="41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Прямая со стрелкой 12"/>
          <p:cNvCxnSpPr/>
          <p:nvPr/>
        </p:nvCxnSpPr>
        <p:spPr>
          <a:xfrm flipH="1">
            <a:off x="4377600" y="3438000"/>
            <a:ext cx="41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Прямая со стрелкой 14"/>
          <p:cNvCxnSpPr/>
          <p:nvPr/>
        </p:nvCxnSpPr>
        <p:spPr>
          <a:xfrm>
            <a:off x="3967200" y="5113080"/>
            <a:ext cx="41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Прямая со стрелкой 16"/>
          <p:cNvCxnSpPr/>
          <p:nvPr/>
        </p:nvCxnSpPr>
        <p:spPr>
          <a:xfrm flipH="1">
            <a:off x="4377600" y="5113080"/>
            <a:ext cx="41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546-D2A8-49DF-B506-4F37E21902B0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50880" y="1278000"/>
          <a:ext cx="5958000" cy="63972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изменений условий индивидуального трудового договора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3360" y="2281320"/>
          <a:ext cx="3284280" cy="2225520"/>
        </p:xfrm>
        <a:graphic>
          <a:graphicData uri="http://schemas.openxmlformats.org/drawingml/2006/table">
            <a:tbl>
              <a:tblPr/>
              <a:tblGrid>
                <a:gridCol w="328428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от изменяемых условиях индивидуального трудового договора, различаем изменения относящиеся к 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року действия договор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ему месту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и труд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оплаты труд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работы и отдыха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зация, профессия, квалификация, функция; 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компенсационных выплат установленных сторонами при заключении итд, выплачиваемых работодателем работнику (бонусы, премии)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089680" y="2281320"/>
          <a:ext cx="3536640" cy="1790640"/>
        </p:xfrm>
        <a:graphic>
          <a:graphicData uri="http://schemas.openxmlformats.org/drawingml/2006/table">
            <a:tbl>
              <a:tblPr/>
              <a:tblGrid>
                <a:gridCol w="3536640"/>
              </a:tblGrid>
              <a:tr h="179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еобходимости волеизъявления работника, различаем, изменения на основании которых 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волеизъявление работника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ование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омандирование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Волеизъявление не требуется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ое изменение рабочего места и специфики труд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03360" y="4667400"/>
          <a:ext cx="3316320" cy="1752480"/>
        </p:xfrm>
        <a:graphic>
          <a:graphicData uri="http://schemas.openxmlformats.org/drawingml/2006/table">
            <a:tbl>
              <a:tblPr/>
              <a:tblGrid>
                <a:gridCol w="3316320"/>
              </a:tblGrid>
              <a:tr h="1752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ризнаку длительности изменения, различаем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Временное изменение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овк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ая смена рабочего мест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омандирование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Постоянное изменение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омандирование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089680" y="4651200"/>
          <a:ext cx="3565440" cy="1311480"/>
        </p:xfrm>
        <a:graphic>
          <a:graphicData uri="http://schemas.openxmlformats.org/drawingml/2006/table">
            <a:tbl>
              <a:tblPr/>
              <a:tblGrid>
                <a:gridCol w="35654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интереса необходимости внесения изменений в итд: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Персональные интересы работника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Нужды работодателя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Социально-экономические или производственные нужды;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Для наилучшей организованности труда на предприятии.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4" name="Прямая со стрелкой 8"/>
          <p:cNvCxnSpPr/>
          <p:nvPr/>
        </p:nvCxnSpPr>
        <p:spPr>
          <a:xfrm>
            <a:off x="4460400" y="1917720"/>
            <a:ext cx="11880" cy="319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Прямая со стрелкой 10"/>
          <p:cNvCxnSpPr/>
          <p:nvPr/>
        </p:nvCxnSpPr>
        <p:spPr>
          <a:xfrm flipV="1">
            <a:off x="4460400" y="3037680"/>
            <a:ext cx="678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Прямая со стрелкой 15"/>
          <p:cNvCxnSpPr/>
          <p:nvPr/>
        </p:nvCxnSpPr>
        <p:spPr>
          <a:xfrm>
            <a:off x="4465440" y="5119200"/>
            <a:ext cx="648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Прямая со стрелкой 19"/>
          <p:cNvCxnSpPr/>
          <p:nvPr/>
        </p:nvCxnSpPr>
        <p:spPr>
          <a:xfrm flipH="1">
            <a:off x="3885840" y="30380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Прямая со стрелкой 22"/>
          <p:cNvCxnSpPr/>
          <p:nvPr/>
        </p:nvCxnSpPr>
        <p:spPr>
          <a:xfrm flipH="1">
            <a:off x="3891960" y="5116320"/>
            <a:ext cx="579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18D-2702-4ED4-9A1E-C7278A57ED6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533600" y="1792440"/>
          <a:ext cx="6178320" cy="563400"/>
        </p:xfrm>
        <a:graphic>
          <a:graphicData uri="http://schemas.openxmlformats.org/drawingml/2006/table">
            <a:tbl>
              <a:tblPr/>
              <a:tblGrid>
                <a:gridCol w="6178320"/>
              </a:tblGrid>
              <a:tr h="563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еревода работников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49120" y="3029040"/>
          <a:ext cx="2291040" cy="2070000"/>
        </p:xfrm>
        <a:graphic>
          <a:graphicData uri="http://schemas.openxmlformats.org/drawingml/2006/table">
            <a:tbl>
              <a:tblPr/>
              <a:tblGrid>
                <a:gridCol w="2291040"/>
              </a:tblGrid>
              <a:tr h="2070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работника на другую постоянную работу в рамках другого предприятия</a:t>
                      </a:r>
                      <a:endParaRPr b="1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357720" y="3029040"/>
          <a:ext cx="2382840" cy="2070000"/>
        </p:xfrm>
        <a:graphic>
          <a:graphicData uri="http://schemas.openxmlformats.org/drawingml/2006/table">
            <a:tbl>
              <a:tblPr/>
              <a:tblGrid>
                <a:gridCol w="2382840"/>
              </a:tblGrid>
              <a:tr h="2070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работника на другую постоянную работу в рамках того же предприятия, с последующим изменением условий итд на основании ст.68 ТК РМ</a:t>
                      </a:r>
                      <a:endParaRPr b="1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558120" y="3029040"/>
          <a:ext cx="2143080" cy="20700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2070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работника вместе с предприятием в другую местность.</a:t>
                      </a:r>
                      <a:endParaRPr b="1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5" name="Прямая со стрелкой 7"/>
          <p:cNvCxnSpPr/>
          <p:nvPr/>
        </p:nvCxnSpPr>
        <p:spPr>
          <a:xfrm flipH="1">
            <a:off x="1809360" y="2355840"/>
            <a:ext cx="81360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Прямая со стрелкой 9"/>
          <p:cNvCxnSpPr/>
          <p:nvPr/>
        </p:nvCxnSpPr>
        <p:spPr>
          <a:xfrm>
            <a:off x="4494240" y="2355840"/>
            <a:ext cx="864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Прямая со стрелкой 11"/>
          <p:cNvCxnSpPr/>
          <p:nvPr/>
        </p:nvCxnSpPr>
        <p:spPr>
          <a:xfrm>
            <a:off x="6558120" y="2355840"/>
            <a:ext cx="107208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5D3-80BF-4F95-8D79-F757FC6A478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0360" y="1425600"/>
            <a:ext cx="78901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</a:rPr>
              <a:t>Изменение условий индивидуального трудового договора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работника на другое рабочее место, или же перевод работника вместе с предприятием в другую местность, временно или на постоянной основе, возможно, и  производится с последующим внесением изменений в основные условия индивидуального трудового договора работника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условий ИТД, не знает определенных границ, единственным необходимым условием в данной процедуре является соблюдение обязательства установленного ст.49 пкт.(3) ТК РМ- которая устанавливает законные условия предъявляемые к действительности ИТД. 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ст.68 ТК РМ, индивидуальный трудовой договор, не может быть изменен, как только посредством дополнительного соглашения подписанного сторонами, прилагаемого к договору.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8D2-F07D-41A7-9B39-F00D6CDB91E1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</a:rPr>
              <a:t>Изменение условий индивидуального трудового договора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оответствии с ст. 68 пкт.(2) ТК РМ, изменением условий индивидуального трудового договора, считаются изменения относящиеся к: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оку догово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ему мест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жиму работы и отдыха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фики тру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ру оплаты тру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, профессия, квалификация, функц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компенсационных выплат установленных сторонами при заключении итд, выплачиваемых работодателем работнику (бонусы, премии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3BE-1FFD-45DC-8D6B-E2D261CC196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</a:rPr>
              <a:t>Изменение условий индивидуального трудового договора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859f"/>
                </a:solidFill>
                <a:latin typeface="Arial"/>
              </a:rPr>
              <a:t>Исключение</a:t>
            </a:r>
            <a:r>
              <a:rPr b="1" lang="fr-FR" sz="3200" spc="-1" strike="noStrike">
                <a:solidFill>
                  <a:srgbClr val="4b859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я 68 пкт.(3) ТК Р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атривает возможность одностороннего внесения изменений работодателем, индивидуального трудового договора- только в экстренных случаях регламентированных Трудовым кодексом. В данных  случаях работник будет письменно ознакомлен с необходимостью одностороннего изменения условии договора.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DFA-8D98-4D98-BB7F-9AD728412D8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и сессии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071800"/>
            <a:ext cx="820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амиллиаризация с содержанием и формой индивидуального трудового договора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главных аспектов при заключении индивидуального трудового договора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возможностей изменения/дополнения индивидуального трудового договора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возможностей приостановления индивидуального трудового договора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возможностей прекращения индивидуального трудового договора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амиллиаризация с основными аспектами дисциплины труда и дисциплинарной ответственности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735A-F330-4016-8BB2-1E951B1D4EA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9" name="Заголовок 1"/>
          <p:cNvSpPr/>
          <p:nvPr/>
        </p:nvSpPr>
        <p:spPr>
          <a:xfrm>
            <a:off x="711360" y="1120680"/>
            <a:ext cx="7775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2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 -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617400" y="2030400"/>
            <a:ext cx="8253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ка Аврам была допущена к выполнению работ в качестве секретаря в О.О.О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Virtute“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ез заключения индивидуального трудового договора. По истечению 3 месяцев работы, работница была уволена работодателем на основании не осведомления работодателя о своей беременности (зная данную информацию работодатель при приеме на работу, отказал бы в трудоустройстве).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рам обратилась в судебную инстанцию с заявлением о восстановлении в трудовой области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859f"/>
                </a:solidFill>
                <a:latin typeface="Arial"/>
                <a:ea typeface="Arial"/>
              </a:rPr>
              <a:t>Определите юридический статус каждого субъекта. Определите законность появившегося юридического отношения между сторонами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13C-2F4E-4F17-9B3A-12DBFF9204C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809720" y="254160"/>
          <a:ext cx="5541840" cy="731520"/>
        </p:xfrm>
        <a:graphic>
          <a:graphicData uri="http://schemas.openxmlformats.org/drawingml/2006/table">
            <a:tbl>
              <a:tblPr/>
              <a:tblGrid>
                <a:gridCol w="5541840"/>
              </a:tblGrid>
              <a:tr h="73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0f0f"/>
                          </a:solidFill>
                          <a:latin typeface="Arial"/>
                        </a:rPr>
                        <a:t>Временная смена рабочего места и специфики труда – как возможность внесения изменений в индивидуальный трудовой договор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25520" y="1192320"/>
          <a:ext cx="3360600" cy="1449360"/>
        </p:xfrm>
        <a:graphic>
          <a:graphicData uri="http://schemas.openxmlformats.org/drawingml/2006/table">
            <a:tbl>
              <a:tblPr/>
              <a:tblGrid>
                <a:gridCol w="3360600"/>
              </a:tblGrid>
              <a:tr h="14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ет собой исключением установленнымст.50 ТК РМ, которая предусматривает, что работодатель не имеет права требовать от работника выполнения работы непредусмотренной  в индивидуальном трудовом договоре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25520" y="2835360"/>
          <a:ext cx="3360600" cy="639720"/>
        </p:xfrm>
        <a:graphic>
          <a:graphicData uri="http://schemas.openxmlformats.org/drawingml/2006/table">
            <a:tbl>
              <a:tblPr/>
              <a:tblGrid>
                <a:gridCol w="33606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окончании периода временной смены работы, работник возвращается на прежнее рабочее место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57200" y="3906720"/>
          <a:ext cx="3362400" cy="1920960"/>
        </p:xfrm>
        <a:graphic>
          <a:graphicData uri="http://schemas.openxmlformats.org/drawingml/2006/table">
            <a:tbl>
              <a:tblPr/>
              <a:tblGrid>
                <a:gridCol w="3362400"/>
              </a:tblGrid>
              <a:tr h="209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же представляется исключением от ст.68 пкт.(1) ТК РМ, которая предусматривает, что внесение изменений, имеет за основу общее волеизъявление работника, в форме дополнительного соглашения к итд. В соответствии с ст.73 ТК РМ, работодатель в праве временно изменить рабочее место и специфику труда работника, без его собственного волеизъявления и без внесения изменений в положения итд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68880" y="1071720"/>
          <a:ext cx="3471840" cy="968040"/>
        </p:xfrm>
        <a:graphic>
          <a:graphicData uri="http://schemas.openxmlformats.org/drawingml/2006/table">
            <a:tbl>
              <a:tblPr/>
              <a:tblGrid>
                <a:gridCol w="3471840"/>
              </a:tblGrid>
              <a:tr h="96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ость разрешенная законом, в случае временного изменения рабочего места и специфики труда, составляет один месяц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168880" y="2125800"/>
          <a:ext cx="3471840" cy="1738080"/>
        </p:xfrm>
        <a:graphic>
          <a:graphicData uri="http://schemas.openxmlformats.org/drawingml/2006/table">
            <a:tbl>
              <a:tblPr/>
              <a:tblGrid>
                <a:gridCol w="3471840"/>
              </a:tblGrid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 перешедшие на другую  временную работу, обязаны выполнять в точности трудовые обязанности нового рабочего. Они обязаны соблюдать установленную трудовую дисциплину, будучи ответственны за любые допущенные нарушения установленные законом, должностными инструкциями и распоряжениями работодателя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149800" y="3970440"/>
          <a:ext cx="3473640" cy="277488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293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ое изменение разрешено только в экстренных случаях, предусмотренных ст.104 пкт.(2), б. (а) и (б) ТК РМ: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для выполнения работ связанных с национальной безопасностью, для предотвращения производственной аварии или работ по ликвидации последствий производственной аварии или последствий стихийных бедствий;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для выполнения работ связанных с появлением ситуации, на основании которых нарушается нормальное функционирование услуг поставок воды и электроэнергии, канализации, почты, телекоммуникационных ,информационных, коммуникационных связей, транспорта, заправочных станций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1" name="Прямая со стрелкой 11"/>
          <p:cNvCxnSpPr/>
          <p:nvPr/>
        </p:nvCxnSpPr>
        <p:spPr>
          <a:xfrm>
            <a:off x="4447800" y="985680"/>
            <a:ext cx="18360" cy="481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Прямая со стрелкой 16"/>
          <p:cNvCxnSpPr/>
          <p:nvPr/>
        </p:nvCxnSpPr>
        <p:spPr>
          <a:xfrm flipH="1">
            <a:off x="3758760" y="189360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479840" y="162504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Прямая со стрелкой 22"/>
          <p:cNvCxnSpPr/>
          <p:nvPr/>
        </p:nvCxnSpPr>
        <p:spPr>
          <a:xfrm>
            <a:off x="4457880" y="3119040"/>
            <a:ext cx="692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Прямая со стрелкой 24"/>
          <p:cNvCxnSpPr/>
          <p:nvPr/>
        </p:nvCxnSpPr>
        <p:spPr>
          <a:xfrm flipH="1">
            <a:off x="3758400" y="3119040"/>
            <a:ext cx="66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Прямая со стрелкой 26"/>
          <p:cNvCxnSpPr/>
          <p:nvPr/>
        </p:nvCxnSpPr>
        <p:spPr>
          <a:xfrm flipV="1">
            <a:off x="4448160" y="5043240"/>
            <a:ext cx="721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Прямая со стрелкой 28"/>
          <p:cNvCxnSpPr/>
          <p:nvPr/>
        </p:nvCxnSpPr>
        <p:spPr>
          <a:xfrm flipH="1">
            <a:off x="3772800" y="4774680"/>
            <a:ext cx="69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2B51-D8F0-4F0F-BF81-C1BCB177A1FE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974960" y="338040"/>
          <a:ext cx="5405400" cy="1005120"/>
        </p:xfrm>
        <a:graphic>
          <a:graphicData uri="http://schemas.openxmlformats.org/drawingml/2006/table">
            <a:tbl>
              <a:tblPr/>
              <a:tblGrid>
                <a:gridCol w="5405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является временной сменой рабочего места( в определенных случаях и специфики работы) на основании приказа работодателя (названного работодатель уступчик), с письменного согласия работника, к другому работодателю (названного приемщик) с целью выполнения определенных работ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29480" y="1536840"/>
          <a:ext cx="2819160" cy="76176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од перемещения, ИТД заключенный с работодателем уступчик, приостанавливает свое действие (ст.78 пкт.(2) ТК РМ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813280" y="2440080"/>
          <a:ext cx="2851200" cy="761760"/>
        </p:xfrm>
        <a:graphic>
          <a:graphicData uri="http://schemas.openxmlformats.org/drawingml/2006/table">
            <a:tbl>
              <a:tblPr/>
              <a:tblGrid>
                <a:gridCol w="28512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сновании ст.71 пкт.1 ТК РМ перемещение может быть допущено только с письменного согласия работника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813280" y="3341520"/>
          <a:ext cx="2895840" cy="49068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 о перемещении работника выполняется в письменной форме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845320" y="3971880"/>
          <a:ext cx="2863800" cy="593640"/>
        </p:xfrm>
        <a:graphic>
          <a:graphicData uri="http://schemas.openxmlformats.org/drawingml/2006/table">
            <a:tbl>
              <a:tblPr/>
              <a:tblGrid>
                <a:gridCol w="28638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ному работнику сохраняется статус работника на прежнем предприятии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829480" y="4657680"/>
          <a:ext cx="2895480" cy="210348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 носит временный характер. В соответствии с ст.71 ТК РМ, перемещение может быть допущено не более одного года, с возможностью продления, на максимальный срок одного года. Как исключение из вышеуказанного, для определенных категории работников на основании ст.302, период перемещения может быть более одного года, например: дипломатические и консульские делегации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739800" y="1555920"/>
          <a:ext cx="2319480" cy="930240"/>
        </p:xfrm>
        <a:graphic>
          <a:graphicData uri="http://schemas.openxmlformats.org/drawingml/2006/table">
            <a:tbl>
              <a:tblPr/>
              <a:tblGrid>
                <a:gridCol w="231948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 является отправкой работника к другому работодателю (приемщик) с целью выполнения определенных заданий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39800" y="2646360"/>
          <a:ext cx="2319480" cy="1096920"/>
        </p:xfrm>
        <a:graphic>
          <a:graphicData uri="http://schemas.openxmlformats.org/drawingml/2006/table">
            <a:tbl>
              <a:tblPr/>
              <a:tblGrid>
                <a:gridCol w="231948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 ст.71 пкт.(5) ТК РМ, на основании перемещения, может быть изменена специфика труда, только с письменного согласия работника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28640" y="3716280"/>
          <a:ext cx="2341440" cy="1463760"/>
        </p:xfrm>
        <a:graphic>
          <a:graphicData uri="http://schemas.openxmlformats.org/drawingml/2006/table">
            <a:tbl>
              <a:tblPr/>
              <a:tblGrid>
                <a:gridCol w="23414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- представляется выполнением обязательного решения администрации работником. В случае невыполнения данных требовании работником, последуют применения дисциплинарных санкции, и расторжение индивидуального трудового договора.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728640" y="5145120"/>
          <a:ext cx="2341440" cy="1616040"/>
        </p:xfrm>
        <a:graphic>
          <a:graphicData uri="http://schemas.openxmlformats.org/drawingml/2006/table">
            <a:tbl>
              <a:tblPr/>
              <a:tblGrid>
                <a:gridCol w="2341440"/>
              </a:tblGrid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сновании перемещения происходит временный обмен работниками, между работодателями, основанных на взаимных производственных отношениях. Единственным условием в данном случае считается наличие вакантного места для перемещенного работника.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30" name="Straight Arrow Connector 13"/>
          <p:cNvCxnSpPr/>
          <p:nvPr/>
        </p:nvCxnSpPr>
        <p:spPr>
          <a:xfrm>
            <a:off x="4397040" y="1287000"/>
            <a:ext cx="1080" cy="53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Straight Arrow Connector 15"/>
          <p:cNvCxnSpPr/>
          <p:nvPr/>
        </p:nvCxnSpPr>
        <p:spPr>
          <a:xfrm>
            <a:off x="4405320" y="1917360"/>
            <a:ext cx="142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Straight Arrow Connector 19"/>
          <p:cNvCxnSpPr/>
          <p:nvPr/>
        </p:nvCxnSpPr>
        <p:spPr>
          <a:xfrm flipH="1">
            <a:off x="3070080" y="1917360"/>
            <a:ext cx="131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Straight Arrow Connector 21"/>
          <p:cNvCxnSpPr/>
          <p:nvPr/>
        </p:nvCxnSpPr>
        <p:spPr>
          <a:xfrm>
            <a:off x="4430880" y="2820600"/>
            <a:ext cx="138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Straight Arrow Connector 23"/>
          <p:cNvCxnSpPr/>
          <p:nvPr/>
        </p:nvCxnSpPr>
        <p:spPr>
          <a:xfrm flipH="1" flipV="1">
            <a:off x="3058560" y="3193560"/>
            <a:ext cx="1338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Straight Arrow Connector 25"/>
          <p:cNvCxnSpPr/>
          <p:nvPr/>
        </p:nvCxnSpPr>
        <p:spPr>
          <a:xfrm>
            <a:off x="4424400" y="3585960"/>
            <a:ext cx="138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Straight Arrow Connector 27"/>
          <p:cNvCxnSpPr/>
          <p:nvPr/>
        </p:nvCxnSpPr>
        <p:spPr>
          <a:xfrm flipH="1">
            <a:off x="3069360" y="4565160"/>
            <a:ext cx="13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Straight Arrow Connector 29"/>
          <p:cNvCxnSpPr/>
          <p:nvPr/>
        </p:nvCxnSpPr>
        <p:spPr>
          <a:xfrm>
            <a:off x="4397400" y="4136760"/>
            <a:ext cx="143280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Straight Arrow Connector 13311"/>
          <p:cNvCxnSpPr/>
          <p:nvPr/>
        </p:nvCxnSpPr>
        <p:spPr>
          <a:xfrm flipV="1">
            <a:off x="4404960" y="5595120"/>
            <a:ext cx="13755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Straight Arrow Connector 13314"/>
          <p:cNvCxnSpPr/>
          <p:nvPr/>
        </p:nvCxnSpPr>
        <p:spPr>
          <a:xfrm flipH="1">
            <a:off x="3070080" y="5952600"/>
            <a:ext cx="131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095-DC6D-4508-8EDE-F5B1B075F1E1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4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2852640" y="666720"/>
          <a:ext cx="3265560" cy="1006560"/>
        </p:xfrm>
        <a:graphic>
          <a:graphicData uri="http://schemas.openxmlformats.org/drawingml/2006/table">
            <a:tbl>
              <a:tblPr/>
              <a:tblGrid>
                <a:gridCol w="3265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йствительность перемещен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еремещение считается необоснованным в случае необоснованного решения и нарушение юридических норм, относящихся к институции перемещения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31800" y="2587680"/>
          <a:ext cx="2960640" cy="148104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йствительность считаетс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й-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нарушения законодательства,  на основании которого невозможно осуществление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не существует свободного рабочего места, на основании которого возможно перемещение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246640" y="2602080"/>
          <a:ext cx="3299040" cy="1479240"/>
        </p:xfrm>
        <a:graphic>
          <a:graphicData uri="http://schemas.openxmlformats.org/drawingml/2006/table">
            <a:tbl>
              <a:tblPr/>
              <a:tblGrid>
                <a:gridCol w="3299040"/>
              </a:tblGrid>
              <a:tr h="14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йствительность считаетс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сле того как противоречащее условие было исключено, перемещение может быть выполнено частично- в условиях законодательства. 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5" name="Straight Arrow Connector 10"/>
          <p:cNvCxnSpPr/>
          <p:nvPr/>
        </p:nvCxnSpPr>
        <p:spPr>
          <a:xfrm flipH="1">
            <a:off x="1719360" y="1673280"/>
            <a:ext cx="2657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Straight Arrow Connector 12"/>
          <p:cNvCxnSpPr/>
          <p:nvPr/>
        </p:nvCxnSpPr>
        <p:spPr>
          <a:xfrm>
            <a:off x="4386240" y="1679040"/>
            <a:ext cx="295200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724F-7B48-4BF8-9001-A53BE842C99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855720" y="8967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"/>
          <p:cNvSpPr/>
          <p:nvPr/>
        </p:nvSpPr>
        <p:spPr>
          <a:xfrm>
            <a:off x="617400" y="1922400"/>
            <a:ext cx="825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устранения последствий производственной аварии, администрация приняла решение о переводе токаря 5-ой категории г-на Гросу на 2 недельный срок, для выполнения данных работ. Работник Гросу отказался выполнять решение администрации, на основании чего ему было применено дисциплинарное взыскание в форме строгого выговора, с повторным предложением выполнения решения администрации. Работник Гросу вновь отказал в выполнении вышеуказанных работ, в последствии которого последовало его увольнение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Был ли вправе работодатель уволить работника Гросу?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акова должна быть позиция Государственной инспекции труда по данному случаю?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3858-FE2E-442C-B351-7187CA1F350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450720" y="2236680"/>
            <a:ext cx="815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Arial"/>
              </a:rPr>
              <a:t>Приостановление индивидуального трудового договор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по сути, приостановление основных эффектов, заключающихся в выполнении работ и выплаты заработной платы. Приостановление отличается от расторжения индивидуального трудового договора, тем что последняя останавливает навсегда  производимые эффекты данного договора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BAF-0ADB-4893-867F-320D03A6524B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979560" y="1357200"/>
          <a:ext cx="7277040" cy="914400"/>
        </p:xfrm>
        <a:graphic>
          <a:graphicData uri="http://schemas.openxmlformats.org/drawingml/2006/table">
            <a:tbl>
              <a:tblPr/>
              <a:tblGrid>
                <a:gridCol w="72770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становление индивидуального трудового договора, представляется прекращением выполнения работы работником и выплаты денежных прав (зарплаты, премий) работодателем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7240" y="2709720"/>
          <a:ext cx="1884600" cy="1189080"/>
        </p:xfrm>
        <a:graphic>
          <a:graphicData uri="http://schemas.openxmlformats.org/drawingml/2006/table">
            <a:tbl>
              <a:tblPr/>
              <a:tblGrid>
                <a:gridCol w="1884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эффекту закона (права), в соответствии с ст.76 ТК РМ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532320" y="2709720"/>
          <a:ext cx="2004840" cy="1189080"/>
        </p:xfrm>
        <a:graphic>
          <a:graphicData uri="http://schemas.openxmlformats.org/drawingml/2006/table">
            <a:tbl>
              <a:tblPr/>
              <a:tblGrid>
                <a:gridCol w="20048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ию сторон, в соответствии с ст.77 ТК РМ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49800" y="2701800"/>
          <a:ext cx="2022480" cy="1189080"/>
        </p:xfrm>
        <a:graphic>
          <a:graphicData uri="http://schemas.openxmlformats.org/drawingml/2006/table">
            <a:tbl>
              <a:tblPr/>
              <a:tblGrid>
                <a:gridCol w="20224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нициативе одной из сторон, в соответствии с ст.78 ТК РМ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13400" y="4321080"/>
          <a:ext cx="1838160" cy="406440"/>
        </p:xfrm>
        <a:graphic>
          <a:graphicData uri="http://schemas.openxmlformats.org/drawingml/2006/table">
            <a:tbl>
              <a:tblPr/>
              <a:tblGrid>
                <a:gridCol w="1838160"/>
              </a:tblGrid>
              <a:tr h="406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а 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513400" y="5256360"/>
          <a:ext cx="1838160" cy="406080"/>
        </p:xfrm>
        <a:graphic>
          <a:graphicData uri="http://schemas.openxmlformats.org/drawingml/2006/table">
            <a:tbl>
              <a:tblPr/>
              <a:tblGrid>
                <a:gridCol w="1838160"/>
              </a:tblGrid>
              <a:tr h="406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дателя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3" name="Прямая со стрелкой 9"/>
          <p:cNvCxnSpPr/>
          <p:nvPr/>
        </p:nvCxnSpPr>
        <p:spPr>
          <a:xfrm flipH="1">
            <a:off x="1629720" y="2252160"/>
            <a:ext cx="64692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11"/>
          <p:cNvCxnSpPr/>
          <p:nvPr/>
        </p:nvCxnSpPr>
        <p:spPr>
          <a:xfrm flipH="1">
            <a:off x="4534920" y="227124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Прямая со стрелкой 13"/>
          <p:cNvCxnSpPr/>
          <p:nvPr/>
        </p:nvCxnSpPr>
        <p:spPr>
          <a:xfrm>
            <a:off x="6762600" y="2262240"/>
            <a:ext cx="59760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Прямая со стрелкой 15"/>
          <p:cNvCxnSpPr/>
          <p:nvPr/>
        </p:nvCxnSpPr>
        <p:spPr>
          <a:xfrm flipH="1">
            <a:off x="7815960" y="3857760"/>
            <a:ext cx="10440" cy="19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Прямая со стрелкой 17"/>
          <p:cNvCxnSpPr/>
          <p:nvPr/>
        </p:nvCxnSpPr>
        <p:spPr>
          <a:xfrm flipH="1" flipV="1">
            <a:off x="7351200" y="4523760"/>
            <a:ext cx="4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Прямая со стрелкой 19"/>
          <p:cNvCxnSpPr/>
          <p:nvPr/>
        </p:nvCxnSpPr>
        <p:spPr>
          <a:xfrm flipH="1">
            <a:off x="7350840" y="5459040"/>
            <a:ext cx="47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46A-961B-4AB3-8BD0-C8143D25F4CD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7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909800" y="977760"/>
          <a:ext cx="5191200" cy="64152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становление ИТД по инициативе одной из сторон (ст.78 ТК РМ)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224000" y="2125800"/>
          <a:ext cx="2170080" cy="365040"/>
        </p:xfrm>
        <a:graphic>
          <a:graphicData uri="http://schemas.openxmlformats.org/drawingml/2006/table">
            <a:tbl>
              <a:tblPr/>
              <a:tblGrid>
                <a:gridCol w="2170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а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914400" y="2825640"/>
          <a:ext cx="2789280" cy="397080"/>
        </p:xfrm>
        <a:graphic>
          <a:graphicData uri="http://schemas.openxmlformats.org/drawingml/2006/table">
            <a:tbl>
              <a:tblPr/>
              <a:tblGrid>
                <a:gridCol w="278928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уск по уходу за больным ребенком в возрасте до 6 лет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14400" y="3405240"/>
          <a:ext cx="2798640" cy="549360"/>
        </p:xfrm>
        <a:graphic>
          <a:graphicData uri="http://schemas.openxmlformats.org/drawingml/2006/table">
            <a:tbl>
              <a:tblPr/>
              <a:tblGrid>
                <a:gridCol w="279864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уск по уходу за больным членом семьи, сроком до одного года, на основании представленного больничного листа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923760" y="4076640"/>
          <a:ext cx="2789280" cy="549360"/>
        </p:xfrm>
        <a:graphic>
          <a:graphicData uri="http://schemas.openxmlformats.org/drawingml/2006/table">
            <a:tbl>
              <a:tblPr/>
              <a:tblGrid>
                <a:gridCol w="278928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ождение одного курса по повышению профессиональной квалификации, за пределами предприятия 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914400" y="4710240"/>
          <a:ext cx="2817720" cy="549000"/>
        </p:xfrm>
        <a:graphic>
          <a:graphicData uri="http://schemas.openxmlformats.org/drawingml/2006/table">
            <a:tbl>
              <a:tblPr/>
              <a:tblGrid>
                <a:gridCol w="2817720"/>
              </a:tblGrid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е публичной функции в органах местного и публичного управления, профсоюзных организациях, патронатах.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14400" y="5367240"/>
          <a:ext cx="2825640" cy="397080"/>
        </p:xfrm>
        <a:graphic>
          <a:graphicData uri="http://schemas.openxmlformats.org/drawingml/2006/table">
            <a:tbl>
              <a:tblPr/>
              <a:tblGrid>
                <a:gridCol w="282564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ые условия труда, в соответствии с условиями защиты труда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914400" y="5892840"/>
          <a:ext cx="2825640" cy="669960"/>
        </p:xfrm>
        <a:graphic>
          <a:graphicData uri="http://schemas.openxmlformats.org/drawingml/2006/table">
            <a:tbl>
              <a:tblPr/>
              <a:tblGrid>
                <a:gridCol w="2825640"/>
              </a:tblGrid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ругих случаях предусмотренных законодательством</a:t>
                      </a: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764320" y="2124000"/>
          <a:ext cx="2031840" cy="408240"/>
        </p:xfrm>
        <a:graphic>
          <a:graphicData uri="http://schemas.openxmlformats.org/drawingml/2006/table">
            <a:tbl>
              <a:tblPr/>
              <a:tblGrid>
                <a:gridCol w="2031840"/>
              </a:tblGrid>
              <a:tr h="40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дателя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818320" y="2967120"/>
          <a:ext cx="1977840" cy="110952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1109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ремя служебного расследования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865840" y="4540320"/>
          <a:ext cx="1930320" cy="1025280"/>
        </p:xfrm>
        <a:graphic>
          <a:graphicData uri="http://schemas.openxmlformats.org/drawingml/2006/table">
            <a:tbl>
              <a:tblPr/>
              <a:tblGrid>
                <a:gridCol w="1930320"/>
              </a:tblGrid>
              <a:tr h="102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ругих случаях предусмотренных законодательством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82" name="Прямая со стрелкой 14"/>
          <p:cNvCxnSpPr/>
          <p:nvPr/>
        </p:nvCxnSpPr>
        <p:spPr>
          <a:xfrm flipH="1">
            <a:off x="2936520" y="1599840"/>
            <a:ext cx="776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Прямая со стрелкой 16"/>
          <p:cNvCxnSpPr/>
          <p:nvPr/>
        </p:nvCxnSpPr>
        <p:spPr>
          <a:xfrm>
            <a:off x="5352840" y="1609560"/>
            <a:ext cx="82116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Стрелка вниз 21"/>
          <p:cNvSpPr/>
          <p:nvPr/>
        </p:nvSpPr>
        <p:spPr>
          <a:xfrm>
            <a:off x="2235240" y="2532240"/>
            <a:ext cx="230040" cy="276120"/>
          </a:xfrm>
          <a:prstGeom prst="downArrow">
            <a:avLst>
              <a:gd name="adj1" fmla="val 50000"/>
              <a:gd name="adj2" fmla="val 50141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5" name="Стрелка вниз 22"/>
          <p:cNvSpPr/>
          <p:nvPr/>
        </p:nvSpPr>
        <p:spPr>
          <a:xfrm>
            <a:off x="2271600" y="3235320"/>
            <a:ext cx="157320" cy="16992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6" name="Стрелка вниз 23"/>
          <p:cNvSpPr/>
          <p:nvPr/>
        </p:nvSpPr>
        <p:spPr>
          <a:xfrm>
            <a:off x="2262240" y="3984480"/>
            <a:ext cx="176040" cy="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7" name="Стрелка вниз 24"/>
          <p:cNvSpPr/>
          <p:nvPr/>
        </p:nvSpPr>
        <p:spPr>
          <a:xfrm>
            <a:off x="2271600" y="4633920"/>
            <a:ext cx="155520" cy="6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8" name="Стрелка вниз 25"/>
          <p:cNvSpPr/>
          <p:nvPr/>
        </p:nvSpPr>
        <p:spPr>
          <a:xfrm>
            <a:off x="2271600" y="5281560"/>
            <a:ext cx="119160" cy="8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9" name="Стрелка вниз 26"/>
          <p:cNvSpPr/>
          <p:nvPr/>
        </p:nvSpPr>
        <p:spPr>
          <a:xfrm>
            <a:off x="2270160" y="5783400"/>
            <a:ext cx="138240" cy="9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0" name="Стрелка вниз 27"/>
          <p:cNvSpPr/>
          <p:nvPr/>
        </p:nvSpPr>
        <p:spPr>
          <a:xfrm>
            <a:off x="6696000" y="2532240"/>
            <a:ext cx="179640" cy="434880"/>
          </a:xfrm>
          <a:prstGeom prst="downArrow">
            <a:avLst>
              <a:gd name="adj1" fmla="val 50000"/>
              <a:gd name="adj2" fmla="val 49851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1" name="Стрелка вниз 28"/>
          <p:cNvSpPr/>
          <p:nvPr/>
        </p:nvSpPr>
        <p:spPr>
          <a:xfrm>
            <a:off x="6696000" y="4076640"/>
            <a:ext cx="179640" cy="463680"/>
          </a:xfrm>
          <a:prstGeom prst="downArrow">
            <a:avLst>
              <a:gd name="adj1" fmla="val 50000"/>
              <a:gd name="adj2" fmla="val 49855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C25-DD1E-4D7E-A8B8-5820ABE53B1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3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855720" y="8967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9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617400" y="1922400"/>
            <a:ext cx="8253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жданка Мэгэляса устроившись на работу в охранное агентст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Justar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заключив срочный индивидуальный трудовой договор на срок - 1 года, проходившая специализированную медицинскую комиссию, была  заключением которой, была признана трудоспособн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 двух месяцев работы, последствием несчастного случая, комиссией по экспертизе жизнеспособности, была признана инвалидом с присвоением группы, на основании рекомендаций компетентного органа, основываясь на вышеуказанные последствия несчастного случая, работница, просила о переводе на более легкую работу, на просьбу которой работодатель отказал, мотивируя тем что не располагает свободными рабочими местами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859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4b859f"/>
                </a:solidFill>
                <a:latin typeface="Arial"/>
                <a:ea typeface="Arial"/>
              </a:rPr>
              <a:t>Определите законность действий работодателя. Каким образом должна разрешиться ситуация?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1F5-57DD-461E-BA7E-E3149596A95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9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1560600" y="1144440"/>
          <a:ext cx="5672160" cy="641520"/>
        </p:xfrm>
        <a:graphic>
          <a:graphicData uri="http://schemas.openxmlformats.org/drawingml/2006/table">
            <a:tbl>
              <a:tblPr/>
              <a:tblGrid>
                <a:gridCol w="567216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щение, представляет собой расторжение ИТД, в случаях независящих от воли сторон, как изъявления инициативы одной из сторон и представляет полное прекращение действия ИТД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42800" y="1986120"/>
          <a:ext cx="2365560" cy="701640"/>
        </p:xfrm>
        <a:graphic>
          <a:graphicData uri="http://schemas.openxmlformats.org/drawingml/2006/table">
            <a:tbl>
              <a:tblPr/>
              <a:tblGrid>
                <a:gridCol w="23655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я прекращения действий ИТД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81 ТК РМ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338800" y="1967040"/>
          <a:ext cx="2244600" cy="739800"/>
        </p:xfrm>
        <a:graphic>
          <a:graphicData uri="http://schemas.openxmlformats.org/drawingml/2006/table">
            <a:tbl>
              <a:tblPr/>
              <a:tblGrid>
                <a:gridCol w="224460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ы прекращения действии ИТД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770520" y="3094200"/>
          <a:ext cx="1982880" cy="590400"/>
        </p:xfrm>
        <a:graphic>
          <a:graphicData uri="http://schemas.openxmlformats.org/drawingml/2006/table">
            <a:tbl>
              <a:tblPr/>
              <a:tblGrid>
                <a:gridCol w="1982880"/>
              </a:tblGrid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ая 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йствительность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444920" y="3094200"/>
          <a:ext cx="1836720" cy="59040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йствительность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770520" y="3879720"/>
          <a:ext cx="1982880" cy="1737000"/>
        </p:xfrm>
        <a:graphic>
          <a:graphicData uri="http://schemas.openxmlformats.org/drawingml/2006/table">
            <a:tbl>
              <a:tblPr/>
              <a:tblGrid>
                <a:gridCol w="198288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ая недействительность ИТД, может быть предотвращена, посредством соответствующих условии установленных ТК РМ, (ст.84 пкт.3 ТК РМ)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395960" y="3889440"/>
          <a:ext cx="2046240" cy="2409840"/>
        </p:xfrm>
        <a:graphic>
          <a:graphicData uri="http://schemas.openxmlformats.org/drawingml/2006/table">
            <a:tbl>
              <a:tblPr/>
              <a:tblGrid>
                <a:gridCol w="2046240"/>
              </a:tblGrid>
              <a:tr h="240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недействительность ИТД, не может быть дополнена нормами трудового права, и является недействительной с самого начала, так как противоречит императивным нормам трудового права, что ведет к прекращению действий ИТД.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95200" y="3214800"/>
          <a:ext cx="1209600" cy="1722240"/>
        </p:xfrm>
        <a:graphic>
          <a:graphicData uri="http://schemas.openxmlformats.org/drawingml/2006/table">
            <a:tbl>
              <a:tblPr/>
              <a:tblGrid>
                <a:gridCol w="1209600"/>
              </a:tblGrid>
              <a:tr h="172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условиях независящих от воли  сторон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.82,305 и 310 ТК РМ)</a:t>
                      </a:r>
                      <a:endParaRPr b="1" lang="en-US" sz="1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814400" y="3205080"/>
          <a:ext cx="1282680" cy="1731960"/>
        </p:xfrm>
        <a:graphic>
          <a:graphicData uri="http://schemas.openxmlformats.org/drawingml/2006/table">
            <a:tbl>
              <a:tblPr/>
              <a:tblGrid>
                <a:gridCol w="1282680"/>
              </a:tblGrid>
              <a:tr h="1731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нициативе одной из сторон (ст.85, 86 ТК РМ)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Прямая соединительная линия 13"/>
          <p:cNvSpPr/>
          <p:nvPr/>
        </p:nvSpPr>
        <p:spPr>
          <a:xfrm flipH="1">
            <a:off x="2262240" y="17859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0" name="Прямая соединительная линия 15"/>
          <p:cNvSpPr/>
          <p:nvPr/>
        </p:nvSpPr>
        <p:spPr>
          <a:xfrm>
            <a:off x="6281640" y="17859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1" name="Прямая соединительная линия 17"/>
          <p:cNvSpPr/>
          <p:nvPr/>
        </p:nvSpPr>
        <p:spPr>
          <a:xfrm flipH="1">
            <a:off x="5362560" y="2687760"/>
            <a:ext cx="65880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Прямая соединительная линия 19"/>
          <p:cNvSpPr/>
          <p:nvPr/>
        </p:nvSpPr>
        <p:spPr>
          <a:xfrm>
            <a:off x="7151760" y="2722680"/>
            <a:ext cx="757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Прямая соединительная линия 21"/>
          <p:cNvSpPr/>
          <p:nvPr/>
        </p:nvSpPr>
        <p:spPr>
          <a:xfrm flipH="1">
            <a:off x="750600" y="2701800"/>
            <a:ext cx="27612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Прямая соединительная линия 25"/>
          <p:cNvSpPr/>
          <p:nvPr/>
        </p:nvSpPr>
        <p:spPr>
          <a:xfrm>
            <a:off x="2138400" y="2687760"/>
            <a:ext cx="3920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5" name="Стрелка вниз 27"/>
          <p:cNvSpPr/>
          <p:nvPr/>
        </p:nvSpPr>
        <p:spPr>
          <a:xfrm>
            <a:off x="5261040" y="3703680"/>
            <a:ext cx="15696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6" name="Стрелка вниз 28"/>
          <p:cNvSpPr/>
          <p:nvPr/>
        </p:nvSpPr>
        <p:spPr>
          <a:xfrm>
            <a:off x="7669080" y="3711600"/>
            <a:ext cx="18576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0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21EA-F973-40BA-8AE1-B4EBE693474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лючевые слова сессии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ективный трудовой договор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договора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остановление договора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кращение действия договора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сциплина труда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сциплинарная ответственность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200"/>
            </a:b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3F09-F0C9-42E5-AA5F-85128F7626E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1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19" name="Схема 118" descr=""/>
          <p:cNvPicPr/>
          <p:nvPr/>
        </p:nvPicPr>
        <p:blipFill>
          <a:blip r:embed="rId2"/>
          <a:stretch/>
        </p:blipFill>
        <p:spPr>
          <a:xfrm>
            <a:off x="590400" y="1274760"/>
            <a:ext cx="8175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C5B2-60F6-4E14-8212-8ABC02A9146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2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22" name="Схема 116" descr=""/>
          <p:cNvPicPr/>
          <p:nvPr/>
        </p:nvPicPr>
        <p:blipFill>
          <a:blip r:embed="rId2"/>
          <a:stretch/>
        </p:blipFill>
        <p:spPr>
          <a:xfrm>
            <a:off x="676440" y="1542960"/>
            <a:ext cx="7864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361C-114C-4AC6-9904-8DF73E3C7141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2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25" name="Схема 117" descr=""/>
          <p:cNvPicPr/>
          <p:nvPr/>
        </p:nvPicPr>
        <p:blipFill>
          <a:blip r:embed="rId2"/>
          <a:stretch/>
        </p:blipFill>
        <p:spPr>
          <a:xfrm>
            <a:off x="560520" y="1542960"/>
            <a:ext cx="79372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FAA0-432E-4990-B2C3-C6E96C3E5CD1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2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28" name="Схема 114" descr=""/>
          <p:cNvPicPr/>
          <p:nvPr/>
        </p:nvPicPr>
        <p:blipFill>
          <a:blip r:embed="rId2"/>
          <a:stretch/>
        </p:blipFill>
        <p:spPr>
          <a:xfrm>
            <a:off x="500040" y="1547640"/>
            <a:ext cx="836928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8BD8-F5A2-4ADE-9ED8-A99B496F6E6C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3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31" name="Схема 113" descr=""/>
          <p:cNvPicPr/>
          <p:nvPr/>
        </p:nvPicPr>
        <p:blipFill>
          <a:blip r:embed="rId2"/>
          <a:stretch/>
        </p:blipFill>
        <p:spPr>
          <a:xfrm>
            <a:off x="622440" y="1176480"/>
            <a:ext cx="829620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33D1-C038-4324-8A0F-8A96C9E95BF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3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34" name="Схема 112" descr=""/>
          <p:cNvPicPr/>
          <p:nvPr/>
        </p:nvPicPr>
        <p:blipFill>
          <a:blip r:embed="rId2"/>
          <a:stretch/>
        </p:blipFill>
        <p:spPr>
          <a:xfrm>
            <a:off x="476280" y="1547640"/>
            <a:ext cx="820404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DB62-3A23-4001-9A38-3012E6A35FE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3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337" name="Схема 111" descr=""/>
          <p:cNvPicPr/>
          <p:nvPr/>
        </p:nvPicPr>
        <p:blipFill>
          <a:blip r:embed="rId2"/>
          <a:stretch/>
        </p:blipFill>
        <p:spPr>
          <a:xfrm>
            <a:off x="512640" y="1212840"/>
            <a:ext cx="826632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4680-C6FE-4D96-A941-E78A7DC2B4C7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0" name="Заголовок 1"/>
          <p:cNvSpPr/>
          <p:nvPr/>
        </p:nvSpPr>
        <p:spPr>
          <a:xfrm>
            <a:off x="855720" y="1287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4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617400" y="1922400"/>
            <a:ext cx="82537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Гражданка Чебану, находясь в медицинском отпуске, была уволена с рабочего места. Обратившись к работодателю, получила ответ что, она была уволена на основании статьи 86 б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ТК РМ, так как работница не находится в законном медицинском отпуске, предоставляемого на основании больничного листа, выданного медицинским учреждением. 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  <a:ea typeface="Arial"/>
              </a:rPr>
              <a:t>Проанализируйте возможность разрешения данной ситуации, опираясь на то что ранее было установлено что работница беременна на период увольнения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  <a:ea typeface="Arial"/>
              </a:rPr>
              <a:t>Определите законны ли  действия работодателя </a:t>
            </a:r>
            <a:r>
              <a:rPr b="0" lang="vi-VN" sz="2100" spc="-1" strike="noStrike">
                <a:solidFill>
                  <a:srgbClr val="00b0f0"/>
                </a:solidFill>
                <a:latin typeface="Arial"/>
                <a:ea typeface="Arial"/>
              </a:rPr>
              <a:t>?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66D7-B219-44B9-865A-D0CEF8EB0985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4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</a:rPr>
              <a:t>Дисциплинарная ответственность</a:t>
            </a:r>
            <a:r>
              <a:rPr b="1" lang="vi-VN" sz="28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независимым видом ответственности в сравнении с другими формами юридической ответственности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ым основанием дисциплинарной ответственности, является дисциплинарное нарушение (проступок), которой представляется умышленным нарушением работником, независимо от занимаемой должности, функции - трудовых обязанностей и норм поведения на предприятии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8960" y="1494000"/>
            <a:ext cx="78184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Arial"/>
              </a:rPr>
              <a:t>Нормативные акты применяемые к Дисциплине труда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B10C-C427-4371-AE24-EDAE13CFEEE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69600" y="2178000"/>
            <a:ext cx="819612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я Республики Молдова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ая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2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юля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994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овой кодекс Республики Молдов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ый Законом РМ № 154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28.03.2003 // Официальный Монитор Республики Молдова № 159-162 от 29.07.2003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о профсоюза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29-XIV/2000 /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фициальный Монитор РМ №130-132 от 2000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ламент о трудовой дисциплине работников воздушного транспорт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ый Постановлением Правительства РМ № 39-41 от 11.03.200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6e6452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34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Индивидуальный трудовой договор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265A-3826-443A-9C72-B10EA19CDABE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0800" y="2236320"/>
            <a:ext cx="819648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индивидуального трудового догов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ализуется гармоничное совмещение личных интересов каждого работника, с интересами предприятия (организации, учреждения) в которой работает и в конечном счете с интересами общества в целом.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CEC-EC74-44C7-B7B2-ACD952EE687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974960" y="1812960"/>
          <a:ext cx="4946400" cy="646200"/>
        </p:xfrm>
        <a:graphic>
          <a:graphicData uri="http://schemas.openxmlformats.org/drawingml/2006/table">
            <a:tbl>
              <a:tblPr/>
              <a:tblGrid>
                <a:gridCol w="4946400"/>
              </a:tblGrid>
              <a:tr h="64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ановления трудовой дисциплины на предприятии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65280" y="3176640"/>
          <a:ext cx="2871720" cy="1463760"/>
        </p:xfrm>
        <a:graphic>
          <a:graphicData uri="http://schemas.openxmlformats.org/drawingml/2006/table">
            <a:tbl>
              <a:tblPr/>
              <a:tblGrid>
                <a:gridCol w="28717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организационных и предупредительных инструментов в процессе труда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5433840" y="3176640"/>
          <a:ext cx="3011760" cy="1441440"/>
        </p:xfrm>
        <a:graphic>
          <a:graphicData uri="http://schemas.openxmlformats.org/drawingml/2006/table">
            <a:tbl>
              <a:tblPr/>
              <a:tblGrid>
                <a:gridCol w="3011760"/>
              </a:tblGrid>
              <a:tr h="1441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дисциплинарных санкции в процессе труда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56" name="Прямая со стрелкой 5"/>
          <p:cNvCxnSpPr/>
          <p:nvPr/>
        </p:nvCxnSpPr>
        <p:spPr>
          <a:xfrm>
            <a:off x="4447800" y="2458800"/>
            <a:ext cx="108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Прямая со стрелкой 7"/>
          <p:cNvCxnSpPr/>
          <p:nvPr/>
        </p:nvCxnSpPr>
        <p:spPr>
          <a:xfrm flipH="1">
            <a:off x="3536640" y="3723840"/>
            <a:ext cx="90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Прямая со стрелкой 9"/>
          <p:cNvCxnSpPr/>
          <p:nvPr/>
        </p:nvCxnSpPr>
        <p:spPr>
          <a:xfrm flipV="1">
            <a:off x="4448160" y="3723480"/>
            <a:ext cx="98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07A-D68E-4524-9C73-215380F544B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6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65280" y="1874880"/>
          <a:ext cx="3870360" cy="517320"/>
        </p:xfrm>
        <a:graphic>
          <a:graphicData uri="http://schemas.openxmlformats.org/drawingml/2006/table">
            <a:tbl>
              <a:tblPr/>
              <a:tblGrid>
                <a:gridCol w="387036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ощрения за успехи в труде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3112920" y="2706840"/>
          <a:ext cx="2900520" cy="433080"/>
        </p:xfrm>
        <a:graphic>
          <a:graphicData uri="http://schemas.openxmlformats.org/drawingml/2006/table">
            <a:tbl>
              <a:tblPr/>
              <a:tblGrid>
                <a:gridCol w="2900520"/>
              </a:tblGrid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и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159000" y="3490920"/>
          <a:ext cx="2826000" cy="444600"/>
        </p:xfrm>
        <a:graphic>
          <a:graphicData uri="http://schemas.openxmlformats.org/drawingml/2006/table">
            <a:tbl>
              <a:tblPr/>
              <a:tblGrid>
                <a:gridCol w="2826000"/>
              </a:tblGrid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мии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159000" y="4303800"/>
          <a:ext cx="2835360" cy="461880"/>
        </p:xfrm>
        <a:graphic>
          <a:graphicData uri="http://schemas.openxmlformats.org/drawingml/2006/table">
            <a:tbl>
              <a:tblPr/>
              <a:tblGrid>
                <a:gridCol w="2835360"/>
              </a:tblGrid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подарки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149640" y="5126040"/>
          <a:ext cx="2835360" cy="415800"/>
        </p:xfrm>
        <a:graphic>
          <a:graphicData uri="http://schemas.openxmlformats.org/drawingml/2006/table">
            <a:tbl>
              <a:tblPr/>
              <a:tblGrid>
                <a:gridCol w="2835360"/>
              </a:tblGrid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ые грамоты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67" name="Прямая со стрелкой 7"/>
          <p:cNvCxnSpPr/>
          <p:nvPr/>
        </p:nvCxnSpPr>
        <p:spPr>
          <a:xfrm>
            <a:off x="1828440" y="2392200"/>
            <a:ext cx="1080" cy="325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Прямая со стрелкой 9"/>
          <p:cNvCxnSpPr/>
          <p:nvPr/>
        </p:nvCxnSpPr>
        <p:spPr>
          <a:xfrm>
            <a:off x="1819080" y="2841120"/>
            <a:ext cx="129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Прямая со стрелкой 11"/>
          <p:cNvCxnSpPr/>
          <p:nvPr/>
        </p:nvCxnSpPr>
        <p:spPr>
          <a:xfrm>
            <a:off x="1819080" y="3712680"/>
            <a:ext cx="1340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Прямая со стрелкой 13"/>
          <p:cNvCxnSpPr/>
          <p:nvPr/>
        </p:nvCxnSpPr>
        <p:spPr>
          <a:xfrm flipV="1">
            <a:off x="1847880" y="4534920"/>
            <a:ext cx="131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Прямая со стрелкой 15"/>
          <p:cNvCxnSpPr/>
          <p:nvPr/>
        </p:nvCxnSpPr>
        <p:spPr>
          <a:xfrm>
            <a:off x="1847880" y="5263920"/>
            <a:ext cx="130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6BF-489B-4439-A54C-1D620EE2A8F5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7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375" name="Схема 120" descr=""/>
          <p:cNvPicPr/>
          <p:nvPr/>
        </p:nvPicPr>
        <p:blipFill>
          <a:blip r:embed="rId2"/>
          <a:stretch/>
        </p:blipFill>
        <p:spPr>
          <a:xfrm>
            <a:off x="1060560" y="1762200"/>
            <a:ext cx="764532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31F-351E-4420-99F7-B41CF4BB7FC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77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711360" y="965160"/>
            <a:ext cx="7775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 -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7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"/>
          <p:cNvSpPr/>
          <p:nvPr/>
        </p:nvSpPr>
        <p:spPr>
          <a:xfrm>
            <a:off x="617400" y="1922400"/>
            <a:ext cx="82537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одителю Негру, за необоснованное отсутствие на работе, был вынесен строгий выговор; помимо вышеуказанного, тем же приказом, работнику Негру был уменьшен ежегодный отпуск, на один календарный день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Запрограммированный ежегодный отпуск работника Негру был перенесен с летнего периода на осенний. Также был лишен ежемесячной премии, дополнительной платы по возрастному показателю. 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осчитав незаконным приказ, работник Негру, обратился в Территориальную инспекцию труда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b859f"/>
                </a:solidFill>
                <a:latin typeface="Arial"/>
                <a:ea typeface="Arial"/>
              </a:rPr>
              <a:t>Каково будет содержание ответа Территориальной инспекции труда? Составьте этот ответ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7A5-3660-415C-B1D0-B0FDE6ED492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f0f"/>
                </a:solidFill>
                <a:latin typeface="Arial"/>
              </a:rPr>
              <a:t>РУБРИКА: Вопросы, Ответы?</a:t>
            </a: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</a:rPr>
              <a:t>Контактные данные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нзарь Витали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.тел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82E3-3A43-4161-BF7C-24D3AAB593B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f0f"/>
                </a:solidFill>
                <a:latin typeface="Arial"/>
              </a:rPr>
              <a:t>БЛАГОДАРЮ ЗА ВНИМАНИЕ</a:t>
            </a: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</a:rPr>
              <a:t>Контактные данные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ндаш Никола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romandas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.те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509375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0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7819-4598-44AF-B2BA-715C6D3B3AA2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1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  <a:ea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  <a:ea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2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3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  <a:ea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94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395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6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  <a:ea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97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522-2A9C-44D6-B37E-38C45B63D092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0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406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07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09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Индивидуальный трудовой договор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CC4-A51B-4600-8FC2-C206CE225D4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8320" y="2082960"/>
            <a:ext cx="81964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</a:rPr>
              <a:t>Индивидуальный трудово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договоренностью между работником и патроном (администрацией) на основании которого работник возлагает на себя обязанность выполнять работу в соответствии с  занимаемой рабочей функцией (на основании профессиональной специализации, квалификации и функции), подчиняясь внутреннему трудовому распорядку (режиму), а патрон в свою очередь, обязуется предоставить необходимые условия труда и своевременно оплачивать заработную плату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1080" y="1500120"/>
            <a:ext cx="78184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0f0f"/>
                </a:solidFill>
                <a:latin typeface="Arial"/>
                <a:ea typeface="Arial"/>
              </a:rPr>
              <a:t>Законодательная база индивидуального трудового договора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E11E-AAC7-4D81-B158-4EF0E69EE60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2080" y="2079720"/>
            <a:ext cx="81961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итуция Республики Молд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ая 29 июля 1994 // Официальный Монитор Республики Молдова №1 от 18.08.1994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удовой Кодекс Республики Молдова, принятый на основании Закона РМ № 154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28.03.2003// Официальный Монитор РМ №159-162 от 29.07.2003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о профсоюза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129-XIV/2000 //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фициальный Монитор РМ №130-132 от 2000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М №923/2001 о трудоустройстве выпускников высших государственных учебных заведений Официальный Монитор РМ №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108-109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09.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жение об организации и прохождении обязательного медицинского обследования эмигрантов и эмигрирующих граждан за границу с целью временного трудоустройства Официальный Монитор РМ № 109-111 от 31.08.2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DA3E-3FAE-4945-9DAB-CD0A1DBE5DFB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60240" y="1555560"/>
            <a:ext cx="8196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78" name="Схема 3" descr=""/>
          <p:cNvPicPr/>
          <p:nvPr/>
        </p:nvPicPr>
        <p:blipFill>
          <a:blip r:embed="rId2"/>
          <a:stretch/>
        </p:blipFill>
        <p:spPr>
          <a:xfrm>
            <a:off x="536400" y="1189080"/>
            <a:ext cx="78328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2C1-7D39-471E-83D5-DB750DA422F4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2"/>
          <a:stretch/>
        </p:blipFill>
        <p:spPr>
          <a:xfrm>
            <a:off x="633240" y="2182680"/>
            <a:ext cx="7828200" cy="40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E4F-FBD5-4D17-BC74-33092A7E588E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582480" y="1555920"/>
            <a:ext cx="79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0f0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c80f0f"/>
                </a:solidFill>
                <a:latin typeface="Arial"/>
                <a:ea typeface="Arial"/>
              </a:rPr>
              <a:t>Классификационные критерии условии заключения индивидуального трудового договора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95400" y="2687760"/>
          <a:ext cx="3003480" cy="684000"/>
        </p:xfrm>
        <a:graphic>
          <a:graphicData uri="http://schemas.openxmlformats.org/drawingml/2006/table">
            <a:tbl>
              <a:tblPr/>
              <a:tblGrid>
                <a:gridCol w="3003480"/>
              </a:tblGrid>
              <a:tr h="68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формы и содержания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163520" y="3949560"/>
          <a:ext cx="2670120" cy="914400"/>
        </p:xfrm>
        <a:graphic>
          <a:graphicData uri="http://schemas.openxmlformats.org/drawingml/2006/table">
            <a:tbl>
              <a:tblPr/>
              <a:tblGrid>
                <a:gridCol w="26701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предъявляемые к содержанию ИТД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63520" y="5014800"/>
          <a:ext cx="2687760" cy="914400"/>
        </p:xfrm>
        <a:graphic>
          <a:graphicData uri="http://schemas.openxmlformats.org/drawingml/2006/table">
            <a:tbl>
              <a:tblPr/>
              <a:tblGrid>
                <a:gridCol w="26877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предъявляемые к форме ИТД</a:t>
                      </a:r>
                      <a:endParaRPr b="1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57880" y="4295880"/>
          <a:ext cx="2031840" cy="342720"/>
        </p:xfrm>
        <a:graphic>
          <a:graphicData uri="http://schemas.openxmlformats.org/drawingml/2006/table">
            <a:tbl>
              <a:tblPr/>
              <a:tblGrid>
                <a:gridCol w="2031840"/>
              </a:tblGrid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ая справка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57880" y="5261040"/>
          <a:ext cx="2806560" cy="517320"/>
        </p:xfrm>
        <a:graphic>
          <a:graphicData uri="http://schemas.openxmlformats.org/drawingml/2006/table">
            <a:tbl>
              <a:tblPr/>
              <a:tblGrid>
                <a:gridCol w="28065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е ИТД в письменной унифицированной форме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357880" y="3581280"/>
          <a:ext cx="2049480" cy="51768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абочего места</a:t>
                      </a:r>
                      <a:endParaRPr b="1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1" name="Прямая со стрелкой 12"/>
          <p:cNvCxnSpPr/>
          <p:nvPr/>
        </p:nvCxnSpPr>
        <p:spPr>
          <a:xfrm flipV="1">
            <a:off x="3814920" y="3839760"/>
            <a:ext cx="154368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>
            <a:off x="3814920" y="4159080"/>
            <a:ext cx="154368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Стрелка вниз 23"/>
          <p:cNvSpPr/>
          <p:nvPr/>
        </p:nvSpPr>
        <p:spPr>
          <a:xfrm>
            <a:off x="2362320" y="3386160"/>
            <a:ext cx="171360" cy="563400"/>
          </a:xfrm>
          <a:prstGeom prst="downArrow">
            <a:avLst>
              <a:gd name="adj1" fmla="val 50000"/>
              <a:gd name="adj2" fmla="val 49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Выгнутая влево стрелка 24"/>
          <p:cNvSpPr/>
          <p:nvPr/>
        </p:nvSpPr>
        <p:spPr>
          <a:xfrm>
            <a:off x="679320" y="4413240"/>
            <a:ext cx="484200" cy="888840"/>
          </a:xfrm>
          <a:custGeom>
            <a:avLst/>
            <a:gdLst>
              <a:gd name="textAreaLeft" fmla="*/ 64800 w 484200"/>
              <a:gd name="textAreaRight" fmla="*/ 419400 w 484200"/>
              <a:gd name="textAreaTop" fmla="*/ 176760 h 888840"/>
              <a:gd name="textAreaBottom" fmla="*/ 651600 h 88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92" stAng="-5400000" swAng="-5400000"/>
                <a:lnTo>
                  <a:pt x="0" y="11536"/>
                </a:lnTo>
                <a:arcTo wR="21600" hR="8592" stAng="10800000" swAng="-3420736"/>
                <a:lnTo>
                  <a:pt x="16200" y="21327"/>
                </a:lnTo>
                <a:lnTo>
                  <a:pt x="21600" y="18656"/>
                </a:lnTo>
                <a:lnTo>
                  <a:pt x="16200" y="15439"/>
                </a:lnTo>
                <a:lnTo>
                  <a:pt x="16200" y="16911"/>
                </a:lnTo>
                <a:arcTo wR="21600" hR="8592" stAng="7379264" swAng="3183322"/>
                <a:lnTo>
                  <a:pt x="319" y="10064"/>
                </a:lnTo>
                <a:arcTo wR="21600" hR="8592" stAng="-10562586" swAng="5162586"/>
                <a:close/>
              </a:path>
              <a:path fill="darkenLess" w="21600" h="21600">
                <a:moveTo>
                  <a:pt x="21600" y="0"/>
                </a:moveTo>
                <a:arcTo wR="21600" hR="8592" stAng="-5400000" swAng="-5400000"/>
                <a:lnTo>
                  <a:pt x="0" y="8592"/>
                </a:lnTo>
                <a:arcTo wR="21600" hR="8592" stAng="10800000" swAng="-237414"/>
                <a:lnTo>
                  <a:pt x="319" y="10064"/>
                </a:lnTo>
                <a:arcTo wR="21600" hR="8592" stAng="-10562586" swAng="5162586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cxnSp>
        <p:nvCxnSpPr>
          <p:cNvPr id="95" name="Соединительная линия уступом 26"/>
          <p:cNvCxnSpPr/>
          <p:nvPr/>
        </p:nvCxnSpPr>
        <p:spPr>
          <a:xfrm>
            <a:off x="3833640" y="5393880"/>
            <a:ext cx="1524960" cy="1263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User</cp:lastModifiedBy>
  <cp:lastPrinted>2012-07-19T10:16:59Z</cp:lastPrinted>
  <dcterms:modified xsi:type="dcterms:W3CDTF">2017-07-11T10:08:23Z</dcterms:modified>
  <cp:revision>212</cp:revision>
  <dc:subject/>
  <dc:title>PowerPoint-Präsentation</dc:title>
</cp:coreProperties>
</file>