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91F-227F-4A20-9DAE-777B139747CE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CB09-3C09-4EA1-9E07-E7A43AD6AE13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EEA1-BC0E-4DAC-9216-187C36AE473C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33D-9251-47B3-BA67-156BE8E45320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28B-B1F1-4229-A2B8-06C8FE06AD10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1119-A43A-4522-94EE-7F0460084ED6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3AE2-6770-4D19-8CC4-52E9432774A4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08520" indent="-3085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1" marL="61848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2" marL="92844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3" marL="1238400" indent="-3085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4" marL="1546560" indent="-30816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5" marL="1546560" indent="-3081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lvl="6" marL="1546560" indent="-30816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84A5569A-F006-455F-8555-67C2779872B8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25C-2F1E-4430-9412-C10D08C8038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31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iz.de/" TargetMode="External"/><Relationship Id="rId2" Type="http://schemas.openxmlformats.org/officeDocument/2006/relationships/hyperlink" Target="http://www.serviciilocale.md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480" y="1562040"/>
            <a:ext cx="8839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urs de instruire pentru angajaţii operatorilor „Apă-Canal”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ul 12: Management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resurselor uman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n cadrul operatorilor serviciilor de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limentare cu apă și canalizare</a:t>
            </a:r>
            <a:br>
              <a:rPr sz="2400"/>
            </a:br>
            <a:br>
              <a:rPr sz="2400"/>
            </a:b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esiunea 1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дзор и контроль за соблюдением трудового законодательства. </a:t>
            </a:r>
            <a:br>
              <a:rPr sz="2000"/>
            </a:br>
            <a:br>
              <a:rPr sz="2000"/>
            </a:b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Bînzari V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alie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inspector principal, Inspectoratul de Stat al Muncii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27-28-29 iunie 20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hișinău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мер контроля, применяемых в контроле представлены в следующих уровнях нарушений: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ые;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ьезно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серьезно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9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4200" y="1440000"/>
            <a:ext cx="7942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31-XIX в 08.06.2012 о государственном контроле предпринимательской деятельности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3252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е нарушения могут быть выданы только предписание, в соответствии с которым рекомендуемым и указанными способами устранения нарушений, но не могут быть наказаны в соответствии с законом, правилами и административными или другими ограничительными мерами, не могут быть применены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18960" indent="-31896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серьезных нарушений, в прошлом и предоставление рекомендаций по устранению этого термина, в котором устранить нарушения могут быть санкционированы, но не могут быть применены ограничительные меры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marL="318960" indent="-31896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серьезные нарушения показано, как удалить, применять санкции и / или ограничительные меры в соответствии с законом, в зависимости от обстоятельств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4200" y="1440000"/>
            <a:ext cx="7942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31-XIX в 08.06.2012 о государственном контроле предпринимательской деятельности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260172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целей настоящего Закона воспринимает два вида контроля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овый контроль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запный контроль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4200" y="1440000"/>
            <a:ext cx="7942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31-XIX в 08.06.2012 о государственном контроле предпринимательской деятельности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44120" y="1555920"/>
            <a:ext cx="77756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овый контроль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единственный орган управления не имеет права на проведение аудита планируется более чем один раз в календарный год на одного человека.  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тельный орган представляет ежегодный план проверок на следующий год.  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 управления посылает копию лица контролируемой делегации контроля, так что между фактическим получением копии и управления пуском пройти не менее 5 рабочих дней, но не более чем на 15 дней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08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600" y="1555920"/>
            <a:ext cx="777564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запный контроль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тельный орган может принять решение о проведении выборочных проверок на человеке, на основе оценки рисков и управления инспектором миссии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необъявленный аудита можно контролировать только вопросы стали основой для начала контроля.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 для инициирования прямого запроса может служить необъявленную проверку личности подвергаться контролю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1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3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711360" y="1603440"/>
            <a:ext cx="777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ГРУППЫ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15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1096920" y="2970360"/>
            <a:ext cx="743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ите пять условий инспектор имеет право начать организацию управления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я - 10 минут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89120" y="1555920"/>
            <a:ext cx="77752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контроля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находится под делегации за подписью руководителя органа, наделенного контролем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пектор имеет право начать контроль в следующих условиях: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карты;  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учая делегации контрольного образца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оказательств, свидетельствующих о наличии одного или нескольких оснований в случае выборочных проверок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ечение уведомления о запланированных контролей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регистрации делегирования в государственных контрольных регистров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2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7520" y="1555560"/>
            <a:ext cx="77770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длительностью  Какой бы ни была причина, на которые ссылается и тип управления, это не может быть сделано делегацией контроля становится недействительным по истечении 5 рабочих дней.  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контроля заканчивается, и подготовить отчет об инспекции, если ясно, что возможности для осуществления контроля инспектора были исчерпаны, хотя срок, установленный в делегации еще не истек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2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5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7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1069920" y="2471760"/>
            <a:ext cx="743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знаете о Государственной инспекции труда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260880" y="423864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482840"/>
            <a:ext cx="8064720" cy="7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40-XV от 10.05.2001 о государственной инспекции труда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360" y="2461680"/>
            <a:ext cx="777528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контроль за соблюдением законов и иных нормативных актов о труде, здоровья и безопасности труда направлена ​​на: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ить работодатель соблюдать трудовое право, здоровье и безопасность на рабочем месте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тивную и методологическую помощь работодателю определить пути реализации эффективного законодательства и предотвращения нарушений и нарушений ликвидации, если их создание;  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принятия мер воздействия найдено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3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54040" y="1793880"/>
            <a:ext cx="77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сессии: 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54040" y="2400480"/>
            <a:ext cx="8204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омство с нормативно-правовой базы надзора и контроля за соблюдением трудового законодательства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нормативно-правовой базы по государственному контролю за предпринимательской деятельностью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нормативно-правовой базы по государственной инспекции труда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9840" y="2304720"/>
            <a:ext cx="77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ой инспектор проверяет правовые положения, касающиеся: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й трудовой договор и коллективный договор; рабочее время и время отдыха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аграждение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ые нормы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рантии и компенсации, связанные с трудовыми отношениями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ая дисциплина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, учет и учебное пособие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регулирования труда отдельных категорий работников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3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495360" y="1409760"/>
            <a:ext cx="810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кон № 140-XV от 10.05.2001 о государственной инспекции труда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4400" y="1458720"/>
            <a:ext cx="77774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териальная ответственность в соответствии с трудовым законодательством; 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умное размещение на рабочем месте для людей с ограниченными возможностями; 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я или резервирования рабочих мест и занятий / занятости людей с ограниченными возможностями в соответствии с действующим законодательством;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EA адрес представления работодателями, отчеты о создании рабочих мест и / или зарезервированы в своих учреждениях для людей с ограниченными возможностями, а также занимающие эти места лиц с ограниченными возможностями, в соответствии с действующим законодательством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0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АЯ ИНФОРМАЦИЯ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6360" y="2328480"/>
            <a:ext cx="8124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rsc.gov.md - Государственный реестр средств управления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ism.gov.md - Государственная инспекция труда;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controale.gov.md - Государственный реестр средств управления; приоритеты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ого списка, что инспектора труда должны уточнить при контрольных посещениях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4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еты на вопросы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46280" y="1349280"/>
            <a:ext cx="8037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6e6452"/>
                </a:solidFill>
                <a:latin typeface="Arial"/>
              </a:rPr>
              <a:t>СПАСИБО!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</a:rPr>
              <a:t>Datele de contact :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înzari Vital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nzarivitalie@mail.ru 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l. mob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079816991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21463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4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5" name="Inhaltsplatzhalter 7"/>
          <p:cNvSpPr/>
          <p:nvPr/>
        </p:nvSpPr>
        <p:spPr>
          <a:xfrm>
            <a:off x="684360" y="2108160"/>
            <a:ext cx="44812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În calitate de entitate federală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GIZ sprijină atingerea obiectivelor Guvernului Germaniei de cooperare internațională și dezvoltare durabilă.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Publicat de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Deutsche </a:t>
            </a: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Gesellschaft für</a:t>
            </a:r>
            <a:br>
              <a:rPr sz="1000"/>
            </a:br>
            <a:r>
              <a:rPr b="0" lang="de-DE" sz="1000" spc="-1" strike="noStrike">
                <a:solidFill>
                  <a:srgbClr val="534b3e"/>
                </a:solidFill>
                <a:latin typeface="Arial"/>
              </a:rPr>
              <a:t>Internationale Zusammenarbeit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(GIZ) GmbH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Oficii înregistrat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Bonn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ș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Eschborn, German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ia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Proiectul ”Modernizarea serviciilor publice locale în Republica Moldova”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Chișinău,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str. 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Bernardazzi </a:t>
            </a:r>
            <a:r>
              <a:rPr b="0" lang="ro-RO" sz="1000" spc="-1" strike="noStrike">
                <a:solidFill>
                  <a:srgbClr val="534b3e"/>
                </a:solidFill>
                <a:latin typeface="Arial"/>
              </a:rPr>
              <a:t>66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T  + 373 22 22-83-19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F  + 373 22 00-02-38</a:t>
            </a:r>
            <a:br>
              <a:rPr sz="1000"/>
            </a:b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I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giz.de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,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serviciilocale.md</a:t>
            </a:r>
            <a:r>
              <a:rPr b="0" lang="en-GB" sz="1000" spc="-1" strike="noStrike">
                <a:solidFill>
                  <a:srgbClr val="534b3e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6" name="Inhaltsplatzhalter 8"/>
          <p:cNvSpPr/>
          <p:nvPr/>
        </p:nvSpPr>
        <p:spPr>
          <a:xfrm>
            <a:off x="5467320" y="2108160"/>
            <a:ext cx="3005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34b3e"/>
                </a:solidFill>
                <a:latin typeface="Arial"/>
              </a:rPr>
              <a:t>Autor</a:t>
            </a:r>
            <a:r>
              <a:rPr b="1" lang="ro-RO" sz="1000" spc="-1" strike="noStrike">
                <a:solidFill>
                  <a:srgbClr val="534b3e"/>
                </a:solidFill>
                <a:latin typeface="Arial"/>
              </a:rPr>
              <a:t>i Bînzari Vitalie</a:t>
            </a:r>
            <a:br>
              <a:rPr sz="1000"/>
            </a:b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7" name="Textfeld 9"/>
          <p:cNvSpPr/>
          <p:nvPr/>
        </p:nvSpPr>
        <p:spPr>
          <a:xfrm>
            <a:off x="495360" y="471816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Proiect cofinanțat de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8" name="Picture 2" descr="D:\docs\desktop\ELdZ_Mol_cmyk_rum.jpg"/>
          <p:cNvPicPr/>
          <p:nvPr/>
        </p:nvPicPr>
        <p:blipFill>
          <a:blip r:embed="rId3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0" name="Textfeld 9"/>
          <p:cNvSpPr/>
          <p:nvPr/>
        </p:nvSpPr>
        <p:spPr>
          <a:xfrm>
            <a:off x="5556240" y="3908520"/>
            <a:ext cx="11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534b3e"/>
                </a:solidFill>
                <a:latin typeface="Arial"/>
              </a:rPr>
              <a:t>În cooperare cu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1" name="Picture 2" descr="2"/>
          <p:cNvPicPr/>
          <p:nvPr/>
        </p:nvPicPr>
        <p:blipFill>
          <a:blip r:embed="rId4"/>
          <a:stretch/>
        </p:blipFill>
        <p:spPr>
          <a:xfrm>
            <a:off x="5738760" y="598176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rcRect l="58955" t="9308" r="0" b="18240"/>
          <a:stretch/>
        </p:blipFill>
        <p:spPr>
          <a:xfrm>
            <a:off x="5645160" y="4368960"/>
            <a:ext cx="1569960" cy="64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6"/>
          <a:stretch/>
        </p:blipFill>
        <p:spPr>
          <a:xfrm>
            <a:off x="2511360" y="5305320"/>
            <a:ext cx="1252440" cy="911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7"/>
          <a:stretch/>
        </p:blipFill>
        <p:spPr>
          <a:xfrm>
            <a:off x="7419960" y="41562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statia2\Desktop\SDC-Rom_CMYK_hoch_pos.jpg"/>
          <p:cNvPicPr/>
          <p:nvPr/>
        </p:nvPicPr>
        <p:blipFill>
          <a:blip r:embed="rId8"/>
          <a:stretch/>
        </p:blipFill>
        <p:spPr>
          <a:xfrm>
            <a:off x="260280" y="5214960"/>
            <a:ext cx="1984320" cy="115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C:\Users\Stela\Desktop\Logou nou UTM\Logo_inscript_horizontal (1).png"/>
          <p:cNvPicPr/>
          <p:nvPr/>
        </p:nvPicPr>
        <p:blipFill>
          <a:blip r:embed="rId9"/>
          <a:stretch/>
        </p:blipFill>
        <p:spPr>
          <a:xfrm>
            <a:off x="5592600" y="5167440"/>
            <a:ext cx="263700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ußzeilenplatzhalter 2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e6452"/>
                </a:solidFill>
                <a:latin typeface="Arial Narrow"/>
              </a:rPr>
              <a:t>XXX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6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15" descr="Gopa Log MS cmyk RZ"/>
          <p:cNvPicPr/>
          <p:nvPr/>
        </p:nvPicPr>
        <p:blipFill>
          <a:blip r:embed="rId2"/>
          <a:stretch/>
        </p:blipFill>
        <p:spPr>
          <a:xfrm>
            <a:off x="1405080" y="2792520"/>
            <a:ext cx="282708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5"/>
          <p:cNvSpPr/>
          <p:nvPr/>
        </p:nvSpPr>
        <p:spPr>
          <a:xfrm>
            <a:off x="5396040" y="242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n numel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3"/>
          <a:stretch/>
        </p:blipFill>
        <p:spPr>
          <a:xfrm>
            <a:off x="5396040" y="2792520"/>
            <a:ext cx="34002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54040" y="155592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слова Сессия: </a:t>
            </a:r>
            <a:br>
              <a:rPr sz="2400"/>
            </a:b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54040" y="2116080"/>
            <a:ext cx="761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овый контроль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запный контроль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ие на контроль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рафы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069920" y="2471760"/>
            <a:ext cx="743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 знаете правила по надзору и контролю за соблюдением трудового законодательства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60880" y="423864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55920"/>
            <a:ext cx="78184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и контроль СООТВЕТСТВИИ С ТРУДОВОГО ПРАВА </a:t>
            </a:r>
            <a:br>
              <a:rPr sz="2000"/>
            </a:b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2405160"/>
            <a:ext cx="82756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база: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МОТ. 81 - инспекции труда в промышленности и торговле   Женева, 11.07.1947, ратифицированной Законом №. 593-ХIII от 09.26.1995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МОТ. 129 - инспекции труда в сельском хозяйстве,   Женева   06.25.1969, ратифицированной Законом №. 1330-ХIII от 26.09.1997.  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 131-XIX от 08.06.2012 о государственном контроле над деловая активность;  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 140-XV от 10.05.2001 о государственной инспекции труда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рганизации и функционирования Инспекции государственного   Труда, утвержденным Постановлением Правительства №. 788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 7 октября 2013 года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7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4" name="Textfeld 5"/>
          <p:cNvSpPr/>
          <p:nvPr/>
        </p:nvSpPr>
        <p:spPr>
          <a:xfrm>
            <a:off x="7419960" y="3142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Implementat d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731880" y="1606680"/>
            <a:ext cx="777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6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1069920" y="2471760"/>
            <a:ext cx="743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ля достижения контроля за соблюдением трудового законодательства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60880" y="4238640"/>
            <a:ext cx="3848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0800" y="1788840"/>
            <a:ext cx="78534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31-XIX в 08.06.2012 о государственном контроле предпринимательской деятельности 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93440" y="2502000"/>
            <a:ext cx="790884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ю этого закона является укрепление правовой и институциональной основы создания государственного контроля над предпринимательской деятельностью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320" y="1482840"/>
            <a:ext cx="79419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31-XIX в 08.06.2012 о государственном контроле предпринимательской деятельности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525760"/>
            <a:ext cx="7775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нятия: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- все действия для проверки соответствия, контролируемых правовыми нормами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й контроль - контроль с участием контроллеров одновременно из двух или более органов управления;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запный контроль - контроль, который не входит в ежегодный план и проводится проверка с целью проверки соблюдения требований, установленных законодательством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й контроль - проверка в соответствии с годовым планом контроля в анализе и оценке критериев риска;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 algn="just"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е на контроль - действовать в соответствии с которым контроль посвящаемым плановых и / или внеплановых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89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</a:rPr>
              <a:t>27.06.20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000" y="2447640"/>
            <a:ext cx="8018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о знать: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й контроль осуществляется в течение первых трех лет деятельности по государственной регистрации лица, заниматься предпринимательским консультативным характером и не приведет к санкциям или ограничительным мерам, за исключением случаев, когда под контролем обнаруживаются очень серьезные нарушения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пектор осуществляет контроль над лицом под контролем только в пределах полномочий, предусмотренных законом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может осуществляться, по крайней мере, двух инспекторов, делегатов из того же органа управления или более контрольных органов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92" name="Picture 2" descr="D:\docs\desktop\ELdZ_Mol_cmyk_rum.jpg"/>
          <p:cNvPicPr/>
          <p:nvPr/>
        </p:nvPicPr>
        <p:blipFill>
          <a:blip r:embed="rId1"/>
          <a:stretch/>
        </p:blipFill>
        <p:spPr>
          <a:xfrm>
            <a:off x="0" y="0"/>
            <a:ext cx="213840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320" y="1482840"/>
            <a:ext cx="79419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№ 131-XIX в 08.06.2012 о государственном контроле предпринимательской деятельности</a:t>
            </a:r>
            <a:br>
              <a:rPr sz="2400"/>
            </a:b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4:56Z</dcterms:created>
  <dc:creator>GIZ-Design</dc:creator>
  <dc:description/>
  <cp:keywords>GIZ-Leerfolie</cp:keywords>
  <dc:language>en-US</dc:language>
  <cp:lastModifiedBy>ISM</cp:lastModifiedBy>
  <cp:lastPrinted>2012-07-19T10:16:59Z</cp:lastPrinted>
  <dcterms:modified xsi:type="dcterms:W3CDTF">2017-06-30T12:58:01Z</dcterms:modified>
  <cp:revision>99</cp:revision>
  <dc:subject/>
  <dc:title>PowerPoint-Präsentation</dc:title>
</cp:coreProperties>
</file>