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36.jpeg" ContentType="image/jpeg"/>
  <Override PartName="/ppt/media/image14.wmf" ContentType="image/x-wmf"/>
  <Override PartName="/ppt/media/image24.png" ContentType="image/png"/>
  <Override PartName="/ppt/media/image33.png" ContentType="image/png"/>
  <Override PartName="/ppt/media/image16.wmf" ContentType="image/x-wmf"/>
  <Override PartName="/ppt/media/image12.wmf" ContentType="image/x-wmf"/>
  <Override PartName="/ppt/media/image27.png" ContentType="image/png"/>
  <Override PartName="/ppt/media/image17.wmf" ContentType="image/x-wmf"/>
  <Override PartName="/ppt/media/image34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13.wmf" ContentType="image/x-wmf"/>
  <Override PartName="/ppt/media/image10.png" ContentType="image/png"/>
  <Override PartName="/ppt/media/image5.wmf" ContentType="image/x-wmf"/>
  <Override PartName="/ppt/media/image35.png" ContentType="image/png"/>
  <Override PartName="/ppt/media/image11.wmf" ContentType="image/x-wmf"/>
  <Override PartName="/ppt/media/image26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0.png" ContentType="image/png"/>
  <Override PartName="/ppt/media/image28.wmf" ContentType="image/x-wmf"/>
  <Override PartName="/ppt/media/image3.jpeg" ContentType="image/jpeg"/>
  <Override PartName="/ppt/media/image29.wmf" ContentType="image/x-wmf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E821-712F-4C2E-920B-6F799458FBD6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DB6C-7594-4740-8B6E-96F600D4AD1E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C328-BF62-4B94-A2D2-670A7D48FFBD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0A89-9C74-4048-9C5E-37FE2437F326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E71F-3D79-48C9-8EEE-C26BE076FC86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7B01-058C-4C07-BAB0-CC24219D2A63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AF6B-EA52-40E3-903B-4A659E66FB30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0B7D-51DC-4DC3-A174-5426B2A9E7BE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62E5-DB85-4690-85DE-F03C9EDB670B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afik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1" name="Grafik 8" descr=""/>
          <p:cNvPicPr/>
          <p:nvPr/>
        </p:nvPicPr>
        <p:blipFill>
          <a:blip r:embed="rId3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798560" indent="-35856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798560" indent="-35856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798560" indent="-35856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74D7E466-40FA-4B34-8072-F8DF754B89E0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2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2973-E3C2-4698-A7DA-DD56D6C67D22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giz.de/" TargetMode="External"/><Relationship Id="rId2" Type="http://schemas.openxmlformats.org/officeDocument/2006/relationships/hyperlink" Target="http://www.serviciilocale.md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jpe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D952-C2F8-4BDE-AA80-3AA6E3F84E82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5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6480" y="1562040"/>
            <a:ext cx="8839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C</a:t>
            </a:r>
            <a:r>
              <a:rPr b="1" lang="ro-RO" sz="2400" spc="-1" strike="noStrike">
                <a:solidFill>
                  <a:srgbClr val="002060"/>
                </a:solidFill>
                <a:latin typeface="Arial"/>
              </a:rPr>
              <a:t>urs de instruire pentru angajaţii operatorilor „Apă-Canal”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dulul 12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ul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resurselor umane 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din cadrul operatorilor serviciilor de 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limentare cu apă și canalizare</a:t>
            </a:r>
            <a:br>
              <a:rPr sz="2400"/>
            </a:br>
            <a:br>
              <a:rPr sz="2400"/>
            </a:b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Sesiunea 1</a:t>
            </a:r>
            <a:br>
              <a:rPr sz="2000"/>
            </a:br>
            <a:r>
              <a:rPr b="1" lang="vi-VN" sz="2000" spc="-1" strike="noStrike">
                <a:solidFill>
                  <a:srgbClr val="ff0000"/>
                </a:solidFill>
                <a:latin typeface="Arial"/>
              </a:rPr>
              <a:t>Contractul individual de muncă. Disciplina muncii și </a:t>
            </a:r>
            <a:br>
              <a:rPr sz="2000"/>
            </a:br>
            <a:r>
              <a:rPr b="1" lang="vi-VN" sz="2000" spc="-1" strike="noStrike">
                <a:solidFill>
                  <a:srgbClr val="ff0000"/>
                </a:solidFill>
                <a:latin typeface="Arial"/>
              </a:rPr>
              <a:t>răspunderea disciplinară.</a:t>
            </a:r>
            <a:br>
              <a:rPr sz="2000"/>
            </a:br>
            <a:br>
              <a:rPr sz="2000"/>
            </a:br>
            <a:r>
              <a:rPr b="1" i="1" lang="ro-RO" sz="1600" spc="-1" strike="noStrike">
                <a:solidFill>
                  <a:srgbClr val="000000"/>
                </a:solidFill>
                <a:latin typeface="Arial"/>
              </a:rPr>
              <a:t>ROMANDAȘ N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colae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600"/>
            </a:br>
            <a:r>
              <a:rPr b="1" i="1" lang="ro-RO" sz="1600" spc="-1" strike="noStrike">
                <a:solidFill>
                  <a:srgbClr val="000000"/>
                </a:solidFill>
                <a:latin typeface="Arial"/>
              </a:rPr>
              <a:t>doctor în drept, profesor universitar </a:t>
            </a:r>
            <a:br>
              <a:rPr sz="1600"/>
            </a:br>
            <a:br>
              <a:rPr sz="1600"/>
            </a:b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27-28-29 iunie 201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hișinău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A19F-D16B-4014-9C86-61C1201A440A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7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582480" y="1555920"/>
            <a:ext cx="79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80f0f"/>
                </a:solidFill>
                <a:latin typeface="Arial"/>
              </a:rPr>
              <a:t>CRITERII DE CLASIFICARE A CONDIŢIILOR</a:t>
            </a:r>
            <a:r>
              <a:rPr b="1" lang="ro-RO" sz="2000" spc="-1" strike="noStrike">
                <a:solidFill>
                  <a:srgbClr val="c80f0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c80f0f"/>
                </a:solidFill>
                <a:latin typeface="Arial"/>
              </a:rPr>
              <a:t>ÎNCHEIERII CIM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801720" y="2214720"/>
            <a:ext cx="3105000" cy="77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2457360" y="2600280"/>
            <a:ext cx="5761080" cy="39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4A70-87BB-44C3-8C51-1DA07EC6BA12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92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820800" y="1432080"/>
            <a:ext cx="3209760" cy="801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1440000" y="2370240"/>
            <a:ext cx="6885000" cy="38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2AFC-77E2-46BE-9622-9186FE973316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731880" y="1719360"/>
            <a:ext cx="77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SPEŢ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A 1 -timp 8 min   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98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617400" y="2387520"/>
            <a:ext cx="8253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Pancov a prezentat toate actele necesare pentru a fi angajat la întreprinderea „Edlen” în calitate de lăcătuş. 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Administraţia i-a stabilit un termen de probă de 2 luni. Pancov a obiectat împotriva termenului de probă la care administraţia a refuzat să-l angajeze. Pancov s-a adresat în judecată considerînd că este un refuz nejustificat.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4b859f"/>
                </a:solidFill>
                <a:latin typeface="Arial"/>
              </a:rPr>
              <a:t>Sînt legale acţiunile angajatorului?</a:t>
            </a:r>
            <a:r>
              <a:rPr b="1" lang="ro-RO" sz="2200" spc="-1" strike="noStrike">
                <a:solidFill>
                  <a:srgbClr val="4b859f"/>
                </a:solidFill>
                <a:latin typeface="Arial"/>
              </a:rPr>
              <a:t> Argumentaţi.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7360" y="1590840"/>
            <a:ext cx="8064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80f0f"/>
                </a:solidFill>
                <a:latin typeface="Arial"/>
                <a:ea typeface="Times New Roman"/>
              </a:rPr>
              <a:t>Modificarea contractului individual de muncă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CB06-7150-4641-95EE-1EC669866D58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6200" y="2541600"/>
            <a:ext cx="8099640" cy="32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4b859f"/>
                </a:solidFill>
                <a:latin typeface="Arial"/>
              </a:rPr>
              <a:t>Modificarea contractului individual 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de muncă constă în trecerea salariatului într-un alt loc de muncă sau la o altă activitate în mod temporar sau definitiv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03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8EE7-EDEE-4527-8A4E-5854BE898E26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08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2"/>
          <a:stretch/>
        </p:blipFill>
        <p:spPr>
          <a:xfrm>
            <a:off x="357120" y="1282680"/>
            <a:ext cx="878688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C927-5154-478A-88B3-B9AF76C366C0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14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18" name="Picture 9" descr=""/>
          <p:cNvPicPr/>
          <p:nvPr/>
        </p:nvPicPr>
        <p:blipFill>
          <a:blip r:embed="rId2"/>
          <a:stretch/>
        </p:blipFill>
        <p:spPr>
          <a:xfrm>
            <a:off x="307800" y="1555920"/>
            <a:ext cx="9129960" cy="47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1B6D-9458-4228-A0FB-6B66CC6DABDB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392040" y="1887480"/>
            <a:ext cx="999504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8820-C7A6-44E6-A028-AC660B348D89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3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0360" y="1425600"/>
            <a:ext cx="789012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80f0f"/>
                </a:solidFill>
                <a:latin typeface="Arial"/>
              </a:rPr>
              <a:t>Modificarea Contractului individual de muncă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ecerea salariatului la un alt loc de muncă sau într-o altă unitate în mod temporar sau definitiv, cu modificarea unor condiţii esenţiale ale contractului său de munc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Modificarea contractului nu cunoaste anumite limitări, doar obligaţia de a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respecta art.49 alin. (3)CM al RM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– ce stipulează condiţiile legale pe care trebuie să le întrunească un contract individual de munc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Conf.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art. 68 CM al RM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, contractul individual de muncă nu poate fi modificat decît printr-un accord suplimentar semnat de părţi, ce se anexează la contrac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0E86-86AE-49E3-A6BC-3A621DFBD707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50360" y="1425600"/>
            <a:ext cx="789012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80f0f"/>
                </a:solidFill>
                <a:latin typeface="Arial"/>
              </a:rPr>
              <a:t>Modificarea Contractului individual de muncă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f. </a:t>
            </a:r>
            <a:r>
              <a:rPr b="1" lang="fr-FR" sz="2400" spc="-1" strike="noStrike">
                <a:solidFill>
                  <a:srgbClr val="4b859f"/>
                </a:solidFill>
                <a:latin typeface="Arial"/>
                <a:ea typeface="Times New Roman"/>
              </a:rPr>
              <a:t>art.68 alin. (2) CM al RM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modificarea contractului individual de munca se consideră orice schimb ce se referă la: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80f0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urata contractului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80f0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cul de munca;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80f0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gimul de munca şi de odihnă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80f0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ul muncii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80f0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antumul retribuirii muncii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80f0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alitatea, profesia, calificarea, funcţia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80f0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racterul înlesnirilor şi modul de acordare a acestora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D949-A0ED-4A38-8723-297B5BC758AF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9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0360" y="1425600"/>
            <a:ext cx="789012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80f0f"/>
                </a:solidFill>
                <a:latin typeface="Arial"/>
              </a:rPr>
              <a:t>Modificarea Contractului individual de muncă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4b859f"/>
                </a:solidFill>
                <a:latin typeface="Arial"/>
              </a:rPr>
              <a:t>Excep</a:t>
            </a:r>
            <a:r>
              <a:rPr b="1" lang="ro-RO" sz="3200" spc="-1" strike="noStrike">
                <a:solidFill>
                  <a:srgbClr val="4b859f"/>
                </a:solidFill>
                <a:latin typeface="Arial"/>
              </a:rPr>
              <a:t>ţ</a:t>
            </a:r>
            <a:r>
              <a:rPr b="1" lang="fr-FR" sz="3200" spc="-1" strike="noStrike">
                <a:solidFill>
                  <a:srgbClr val="4b859f"/>
                </a:solidFill>
                <a:latin typeface="Arial"/>
              </a:rPr>
              <a:t>ie: 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rt.68 alin (3) CM al RM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ntionează posibilitatea unei modificări unilaterale, de către angajator, a contractului individual de muncă – dar numai în cazurile strict stipulate în cod. În astfel de cazuri salariatul va fi prevenit despre necesitatea modificării contractulu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FC8E-40F0-4BE7-AE6F-03079B4F0C19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554040" y="1555920"/>
            <a:ext cx="7775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Obiectivul Sesiunii:</a:t>
            </a:r>
            <a:br>
              <a:rPr sz="2400"/>
            </a:b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5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54040" y="2071800"/>
            <a:ext cx="8204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amiliarizarea cu c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nţinutul şi forma contractului individual de muncă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vidențierea aspectelor principale de î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cheie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 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actului individual de muncă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;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erea modalităţilor de m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dificarea contractului individual de muncă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 modalităţilor de s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pendarea contractului individual de muncă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 modalităţilor d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î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cetartea contractului individual de muncă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amiliarizarea cu principalele aspecte a d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sciplin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muncii și 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ăspunde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disciplinară.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5EE6-F528-4110-A0B6-428A279ADA7A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2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Заголовок 1"/>
          <p:cNvSpPr/>
          <p:nvPr/>
        </p:nvSpPr>
        <p:spPr>
          <a:xfrm>
            <a:off x="855720" y="1338120"/>
            <a:ext cx="7775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SPEŢ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A 2 – timp 8 min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34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"/>
          <p:cNvSpPr/>
          <p:nvPr/>
        </p:nvSpPr>
        <p:spPr>
          <a:xfrm>
            <a:off x="617400" y="2030400"/>
            <a:ext cx="8253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Cet. Avram a fost admisă să presteze munca în calitate de secretar-referent la SRL „Virtute” fără a încheia un contract individual de muncă. După 3 luni de muncă,  salariata este concediată de către angajator din motivul că n-a comunicat la angajare despre faptul că este gravidă  (motiv pe care dacă l-ar fi ştiut angajatorul  n-ar fi angajat-o). 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Avram s-a adresat în instanţa de judecată cu cererea de restabilire în cîmpul muncii.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4b859f"/>
                </a:solidFill>
                <a:latin typeface="Arial"/>
              </a:rPr>
              <a:t>De determinat statutul juridic al fiecarui subiect.  Stabiliţi legalitatea raportului juridic apărut îintre părţi.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ABCB-35E1-492D-B973-AE3D081A5BDC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37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1731960" y="436680"/>
            <a:ext cx="6497640" cy="62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AC86-2A12-4835-9AEA-5177A0457E6D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4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1746360" y="465120"/>
            <a:ext cx="6804000" cy="639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D941-138F-41C8-AB7D-6FBF2A36B58A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43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439560" y="1555920"/>
            <a:ext cx="9796680" cy="41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8893-5360-47C0-8D6D-A37731AC6DB8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6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7" name="Заголовок 1"/>
          <p:cNvSpPr/>
          <p:nvPr/>
        </p:nvSpPr>
        <p:spPr>
          <a:xfrm>
            <a:off x="855720" y="1287360"/>
            <a:ext cx="77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SPEŢ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A 2 -timp 8 min   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48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617400" y="1922400"/>
            <a:ext cx="825372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Pentru a fi lichidate urmările unui accident, administraţia a decis să-l transfere pe strungarul  de categoria V Grosu pe un termen de 2 săptămîni la îndeplinirea diferitelor lucrări. Acesta a refuzat să execute dispoziţia administraţiei, de aceea i-a fost aplicată o mustrare aspră, propunîndu-i-se să înceapă efectuarea acestor lucrări. Grosu iarăşi a refuzat, după ce a urmat concedierea lui.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4b859f"/>
                </a:solidFill>
                <a:latin typeface="Arial"/>
              </a:rPr>
              <a:t>A avut dreptul angajatorul să-l concedieze pe Grosu? Care este poziţia  inspecţiei muncii asupra acestei probleme?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A9FC-CB74-4F6E-87D4-4075BFF13FE6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5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"/>
          <p:cNvSpPr/>
          <p:nvPr/>
        </p:nvSpPr>
        <p:spPr>
          <a:xfrm>
            <a:off x="450720" y="2236680"/>
            <a:ext cx="815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0f0f"/>
                </a:solidFill>
                <a:latin typeface="Arial"/>
              </a:rPr>
              <a:t>Suspendarea contractului individu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muncă presupune, în esenţă, o suspendare a principalelor sale efecte, constînd în prestarea muncii şi plata salariului.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a se deosebeşte de desfacerea contractului de muncă prin faptul că ultima face să înceteze toate efectele acestui contract.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8AAD-5EA1-4CA7-B7AB-5E1D3CBA85C0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54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534960" y="1770120"/>
            <a:ext cx="8940960" cy="36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9DF2-539C-4BDD-9E8E-8FC9E1FEA97E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57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1301760" y="631800"/>
            <a:ext cx="7023240" cy="622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3B7C-30A8-4C8F-9EA0-F134D9DBEB9A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60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61" name="Заголовок 1"/>
          <p:cNvSpPr/>
          <p:nvPr/>
        </p:nvSpPr>
        <p:spPr>
          <a:xfrm>
            <a:off x="855720" y="1287360"/>
            <a:ext cx="77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SPEŢ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A 3 -timp 8 min   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62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"/>
          <p:cNvSpPr/>
          <p:nvPr/>
        </p:nvSpPr>
        <p:spPr>
          <a:xfrm>
            <a:off x="617400" y="1922400"/>
            <a:ext cx="82537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100" spc="-1" strike="noStrike">
                <a:solidFill>
                  <a:srgbClr val="000000"/>
                </a:solidFill>
                <a:latin typeface="Arial"/>
              </a:rPr>
              <a:t>Cet. Măgăleasă, angajîndu-se la agenţia de securitate „Justar” şi încheind un contract de muncă pe un termen de un an, a trecut comisia medicală specială în urma căruea s- a constatat că este apt de muncă.  După două luni de muncă ,ca urmare a unui accident de muncă, consiliul medical de expertiză a vitalităţii l- a recunoscut invalid de gradul conform recomandărilor făcute de organul abilitat, salariatul a cerut să fie transferat la o muncă mai uşoră, însă angajatorul i-a respins cererea din motiv că nu are locuri libere de muncă.</a:t>
            </a: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100" spc="-1" strike="noStrike">
                <a:solidFill>
                  <a:srgbClr val="4b859f"/>
                </a:solidFill>
                <a:latin typeface="Arial"/>
              </a:rPr>
              <a:t>Determinaţi legalitatea acţiunilor angajatorului. Cum trebuie soluţionat cazul?</a:t>
            </a: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8237-AF5E-424D-B5F9-11D0FE72A6AE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6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1806480" y="511200"/>
            <a:ext cx="5710320" cy="557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2E4E-0630-4771-A2AC-213B54D5D2F1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554040" y="1555920"/>
            <a:ext cx="7775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Cuvintele cheie a  Sesiunii:</a:t>
            </a:r>
            <a:br>
              <a:rPr sz="2400"/>
            </a:b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554040" y="2116080"/>
            <a:ext cx="7612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 colectiv de muncă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Încheiere a contractului 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spendarea contractului 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Încetartea contractului 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sciplina muncii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ăspunderea disciplinară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0222-0F19-4E06-B855-C24727EA0ED1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69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70" name="Схема 118" descr=""/>
          <p:cNvPicPr/>
          <p:nvPr/>
        </p:nvPicPr>
        <p:blipFill>
          <a:blip r:embed="rId2"/>
          <a:stretch/>
        </p:blipFill>
        <p:spPr>
          <a:xfrm>
            <a:off x="542880" y="1268280"/>
            <a:ext cx="8259840" cy="53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65DB-C003-4CE7-980C-F7CB6CA8036C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2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73" name="Схема 116" descr=""/>
          <p:cNvPicPr/>
          <p:nvPr/>
        </p:nvPicPr>
        <p:blipFill>
          <a:blip r:embed="rId2"/>
          <a:stretch/>
        </p:blipFill>
        <p:spPr>
          <a:xfrm>
            <a:off x="633240" y="1542960"/>
            <a:ext cx="79376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43D4-D504-4160-88F5-59CA133EBE19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5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76" name="Схема 117" descr=""/>
          <p:cNvPicPr/>
          <p:nvPr/>
        </p:nvPicPr>
        <p:blipFill>
          <a:blip r:embed="rId2"/>
          <a:stretch/>
        </p:blipFill>
        <p:spPr>
          <a:xfrm>
            <a:off x="506520" y="1542960"/>
            <a:ext cx="80150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81E1-A758-4598-96BC-00BA0D80515A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8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79" name="Схема 114" descr=""/>
          <p:cNvPicPr/>
          <p:nvPr/>
        </p:nvPicPr>
        <p:blipFill>
          <a:blip r:embed="rId2"/>
          <a:stretch/>
        </p:blipFill>
        <p:spPr>
          <a:xfrm>
            <a:off x="500040" y="1547640"/>
            <a:ext cx="8375760" cy="50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A2C2-6AB2-43E8-AD92-E4E727F14FFF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8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82" name="Схема 113" descr=""/>
          <p:cNvPicPr/>
          <p:nvPr/>
        </p:nvPicPr>
        <p:blipFill>
          <a:blip r:embed="rId2"/>
          <a:stretch/>
        </p:blipFill>
        <p:spPr>
          <a:xfrm>
            <a:off x="596880" y="1176480"/>
            <a:ext cx="8309160" cy="54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4A09-A1DB-4F94-AAF8-4BFF8AD748CB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84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85" name="Схема 112" descr=""/>
          <p:cNvPicPr/>
          <p:nvPr/>
        </p:nvPicPr>
        <p:blipFill>
          <a:blip r:embed="rId2"/>
          <a:stretch/>
        </p:blipFill>
        <p:spPr>
          <a:xfrm>
            <a:off x="480960" y="1536840"/>
            <a:ext cx="8242200" cy="50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0B77-5615-46B1-AA54-0500A61ACF42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87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88" name="Схема 111" descr=""/>
          <p:cNvPicPr/>
          <p:nvPr/>
        </p:nvPicPr>
        <p:blipFill>
          <a:blip r:embed="rId2"/>
          <a:stretch/>
        </p:blipFill>
        <p:spPr>
          <a:xfrm>
            <a:off x="493560" y="1212840"/>
            <a:ext cx="8278920" cy="50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6C23-056B-464C-AB5F-F73195C48276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90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91" name="Заголовок 1"/>
          <p:cNvSpPr/>
          <p:nvPr/>
        </p:nvSpPr>
        <p:spPr>
          <a:xfrm>
            <a:off x="855720" y="1287360"/>
            <a:ext cx="77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SPEŢ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A 4 -timp 8 min   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92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"/>
          <p:cNvSpPr/>
          <p:nvPr/>
        </p:nvSpPr>
        <p:spPr>
          <a:xfrm>
            <a:off x="617400" y="1922400"/>
            <a:ext cx="82537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100" spc="-1" strike="noStrike">
                <a:solidFill>
                  <a:srgbClr val="000000"/>
                </a:solidFill>
                <a:latin typeface="Arial"/>
              </a:rPr>
              <a:t>Cet. Ciobanu, aflîndu-se în cocediu medical, a fost concediată. Adresîndu-se angajatorului, acesta i-a explicat că a fost concediată conform art. 86 lit. f), deoarece salariata nu se afla în concediu medical legal în baza certificatului medical eliberat de instituţia medicală. </a:t>
            </a: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100" spc="-1" strike="noStrike">
                <a:solidFill>
                  <a:srgbClr val="4b859f"/>
                </a:solidFill>
                <a:latin typeface="Arial"/>
              </a:rPr>
              <a:t>De analizat modalitatea de soluţionare a cazului ţinînd cont de faptul că ulterior s-a constatat că salariata era gravidă în perioada concedierii.</a:t>
            </a: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100" spc="-1" strike="noStrike">
                <a:solidFill>
                  <a:srgbClr val="4b859f"/>
                </a:solidFill>
                <a:latin typeface="Arial"/>
              </a:rPr>
              <a:t>De determinat legalitatea  acţiunilor angajatorului?</a:t>
            </a: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ADDF-7D8A-4B7A-94F3-2D22D338B21F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95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50360" y="1425600"/>
            <a:ext cx="789012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c80f0f"/>
                </a:solidFill>
                <a:latin typeface="Arial"/>
              </a:rPr>
              <a:t>Răspunderea disciplinară 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este o formă de răspundere independentă de toate celelalte forme ale răspunderii juridice.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Unicul temei al răspunderii disciplinare este </a:t>
            </a:r>
            <a:r>
              <a:rPr b="1" lang="vi-VN" sz="2800" spc="-1" strike="noStrike">
                <a:solidFill>
                  <a:srgbClr val="4b859f"/>
                </a:solidFill>
                <a:latin typeface="Arial"/>
              </a:rPr>
              <a:t>abaterea disciplinară 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prin care înţelegem încălcarea cu vinovăţie de către cel încadrat în muncă – indiferent de funcţia sau postul pe care îl ocupă – a obligaţiilor sale, inclusiv a normelor de comportare. 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4400" y="1449360"/>
            <a:ext cx="781848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80f0f"/>
                </a:solidFill>
                <a:latin typeface="Arial"/>
                <a:ea typeface="Arial"/>
              </a:rPr>
              <a:t>Acte normative: Disciplinei muncii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8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1BE3-C55C-4EA3-81F0-435B447B066C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69600" y="2178000"/>
            <a:ext cx="819612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c80f0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tituţia Republicii Moldova,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doptată la 29 iulie 1994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c80f0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dul muncii al Republicii Moldo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doptat prin Legea R.M. nr. 154-XV din 28.03.2003 // Monitorul Oficial al Republicii Moldova, nr. 159-162 din 29.07.2003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c80f0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gea sindicatelor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r. 1129-XIV/2000 // Monitorul Oficial al Republicii Moldova, nr. 130-132, 2000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c80f0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mentului cu privire la disciplina salariaţilor din transportul feroviar,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probat prin Hotărîrea Guvernului nr. 238 din 25.02.2005 // Monitorul Oficial al Republicii Moldova, nr.39-41 din 11.03.2005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e6452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20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55920"/>
            <a:ext cx="781848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80f0f"/>
                </a:solidFill>
                <a:latin typeface="Arial"/>
                <a:ea typeface="Arial"/>
              </a:rPr>
              <a:t>Contractul individual de muncă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E96A-1BA0-4ECD-8DDF-6C4B24B5EE64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50800" y="2236320"/>
            <a:ext cx="819648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Prin intermediul </a:t>
            </a:r>
            <a:r>
              <a:rPr b="1" lang="vi-VN" sz="2800" spc="-1" strike="noStrike">
                <a:solidFill>
                  <a:srgbClr val="4b859f"/>
                </a:solidFill>
                <a:latin typeface="Arial"/>
              </a:rPr>
              <a:t>contractului individual de muncă 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se realizează o îmbinare armonioasă a intereselor personale, ale fiecărui salariat, cu interesele unităţii (întreprinderii, instituţiei, organizaţiei) în care lucrează şi, în final, cu interesele generale ale întregii societăţi. 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6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207A-F4B9-4D4F-991E-9F155E1585D9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02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450360" y="1425600"/>
            <a:ext cx="789012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922320" y="2316240"/>
            <a:ext cx="8720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67E3-32BA-420B-93EB-57BD75837FE9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0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450360" y="1425600"/>
            <a:ext cx="789012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b859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208" name="Picture 18" descr=""/>
          <p:cNvPicPr/>
          <p:nvPr/>
        </p:nvPicPr>
        <p:blipFill>
          <a:blip r:embed="rId2"/>
          <a:stretch/>
        </p:blipFill>
        <p:spPr>
          <a:xfrm>
            <a:off x="531720" y="2101680"/>
            <a:ext cx="8918640" cy="33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1832-DBC9-4D62-AB57-346E512E7C34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50360" y="1425600"/>
            <a:ext cx="789012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b859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212" name="Схема 120" descr=""/>
          <p:cNvPicPr/>
          <p:nvPr/>
        </p:nvPicPr>
        <p:blipFill>
          <a:blip r:embed="rId2"/>
          <a:stretch/>
        </p:blipFill>
        <p:spPr>
          <a:xfrm>
            <a:off x="1060560" y="1762200"/>
            <a:ext cx="7632720" cy="42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2994-7ABA-4C0A-B2E6-28E88C1DAE7B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4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5" name="Заголовок 1"/>
          <p:cNvSpPr/>
          <p:nvPr/>
        </p:nvSpPr>
        <p:spPr>
          <a:xfrm>
            <a:off x="855720" y="1287360"/>
            <a:ext cx="77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SPEŢ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A 5 -timp 8 min   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"/>
          <p:cNvSpPr/>
          <p:nvPr/>
        </p:nvSpPr>
        <p:spPr>
          <a:xfrm>
            <a:off x="617400" y="1922400"/>
            <a:ext cx="825372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100" spc="-1" strike="noStrike">
                <a:solidFill>
                  <a:srgbClr val="000000"/>
                </a:solidFill>
                <a:latin typeface="Arial"/>
              </a:rPr>
              <a:t>Şoferului Negru,pentru absenţă nemotivată de la lucru i s-a anunţat mustrare aspră; în afară de aceasta, prin acelaşi ordin salariatului i s-a redus durata concediului anual cu o zi. </a:t>
            </a: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100" spc="-1" strike="noStrike">
                <a:solidFill>
                  <a:srgbClr val="000000"/>
                </a:solidFill>
                <a:latin typeface="Arial"/>
              </a:rPr>
              <a:t>Concediul a fost transferat din perioada de vară în perioada de toamnă. A fost lipsit de premiu lunar, a fost lipsit de suplimentul pentru limita de vîrstă. Considerînd ordinul nelegitim, Negru s-a adresat cu o cerere inspecţia muncii</a:t>
            </a:r>
            <a:r>
              <a:rPr b="0" lang="vi-VN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100" spc="-1" strike="noStrike">
                <a:solidFill>
                  <a:srgbClr val="4b859f"/>
                </a:solidFill>
                <a:latin typeface="Arial"/>
              </a:rPr>
              <a:t>Care va fi conţinutul  răspunsului inspecţiei muncii ? Întocmiţi acest răspuins.</a:t>
            </a: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A50F-6406-4117-9E02-D624F370B173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46280" y="1349280"/>
            <a:ext cx="8037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c80f0f"/>
                </a:solidFill>
                <a:latin typeface="Arial"/>
              </a:rPr>
              <a:t>Runda întrebări răspunsuri 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b859f"/>
                </a:solidFill>
                <a:latin typeface="Arial"/>
              </a:rPr>
              <a:t>Datele de contact :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Bînzari Vitalie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binzarivitalie@mail.ru 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el. mob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079816991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-73080" y="0"/>
            <a:ext cx="21463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DBED-C7AA-4746-8B4B-695E3D4D2027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46280" y="1349280"/>
            <a:ext cx="8037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c80f0f"/>
                </a:solidFill>
                <a:latin typeface="Arial"/>
              </a:rPr>
              <a:t>MULŢUMESC PENTRU ATENŢIE !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b859f"/>
                </a:solidFill>
                <a:latin typeface="Arial"/>
              </a:rPr>
              <a:t>Datele de contact :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Romandaş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Nicolae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romandas@mail.ru 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el. mob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079509375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-73080" y="0"/>
            <a:ext cx="21463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ußzeilenplatzhalt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7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6643-B66A-4746-A6B4-87FDDABDF81A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8" name="Inhaltsplatzhalter 7"/>
          <p:cNvSpPr/>
          <p:nvPr/>
        </p:nvSpPr>
        <p:spPr>
          <a:xfrm>
            <a:off x="684360" y="2108160"/>
            <a:ext cx="448128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În calitate de entitate federală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GIZ sprijină atingerea obiectivelor Guvernului Germaniei de cooperare internațională și dezvoltare durabilă. 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534b3e"/>
                </a:solidFill>
                <a:latin typeface="Arial"/>
              </a:rPr>
              <a:t>Publicat de</a:t>
            </a:r>
            <a:br>
              <a:rPr sz="1000"/>
            </a:b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Deutsche </a:t>
            </a:r>
            <a:r>
              <a:rPr b="0" lang="de-DE" sz="1000" spc="-1" strike="noStrike">
                <a:solidFill>
                  <a:srgbClr val="534b3e"/>
                </a:solidFill>
                <a:latin typeface="Arial"/>
              </a:rPr>
              <a:t>Gesellschaft für</a:t>
            </a:r>
            <a:br>
              <a:rPr sz="1000"/>
            </a:br>
            <a:r>
              <a:rPr b="0" lang="de-DE" sz="1000" spc="-1" strike="noStrike">
                <a:solidFill>
                  <a:srgbClr val="534b3e"/>
                </a:solidFill>
                <a:latin typeface="Arial"/>
              </a:rPr>
              <a:t>Internationale Zusammenarbeit 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(GIZ) GmbH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Oficii înregistrate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, Bonn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și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 Eschborn, German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ia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Proiectul ”Modernizarea serviciilor publice locale în Republica Moldova”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Chișinău,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str. 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Bernardazzi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66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T  + 373 22 22-83-19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F  + 373 22 00-02-38</a:t>
            </a:r>
            <a:br>
              <a:rPr sz="1000"/>
            </a:b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I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giz.de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, </a:t>
            </a:r>
            <a:r>
              <a:rPr b="0" lang="en-GB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serviciilocale.md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9" name="Inhaltsplatzhalter 8"/>
          <p:cNvSpPr/>
          <p:nvPr/>
        </p:nvSpPr>
        <p:spPr>
          <a:xfrm>
            <a:off x="5467320" y="2108160"/>
            <a:ext cx="30052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34b3e"/>
                </a:solidFill>
                <a:latin typeface="Arial"/>
              </a:rPr>
              <a:t>Autor</a:t>
            </a:r>
            <a:r>
              <a:rPr b="1" lang="ro-RO" sz="1000" spc="-1" strike="noStrike">
                <a:solidFill>
                  <a:srgbClr val="534b3e"/>
                </a:solidFill>
                <a:latin typeface="Arial"/>
              </a:rPr>
              <a:t>i Bînzari Vitalie</a:t>
            </a:r>
            <a:br>
              <a:rPr sz="1000"/>
            </a:b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30" name="Textfeld 9"/>
          <p:cNvSpPr/>
          <p:nvPr/>
        </p:nvSpPr>
        <p:spPr>
          <a:xfrm>
            <a:off x="495360" y="4718160"/>
            <a:ext cx="114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534b3e"/>
                </a:solidFill>
                <a:latin typeface="Arial"/>
              </a:rPr>
              <a:t>Proiect cofinanțat de 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31" name="Picture 2" descr="D:\docs\desktop\ELdZ_Mol_cmyk_rum.jpg"/>
          <p:cNvPicPr/>
          <p:nvPr/>
        </p:nvPicPr>
        <p:blipFill>
          <a:blip r:embed="rId3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232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33" name="Textfeld 9"/>
          <p:cNvSpPr/>
          <p:nvPr/>
        </p:nvSpPr>
        <p:spPr>
          <a:xfrm>
            <a:off x="5556240" y="3908520"/>
            <a:ext cx="114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534b3e"/>
                </a:solidFill>
                <a:latin typeface="Arial"/>
              </a:rPr>
              <a:t>În cooperare cu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34" name="Picture 2" descr="2"/>
          <p:cNvPicPr/>
          <p:nvPr/>
        </p:nvPicPr>
        <p:blipFill>
          <a:blip r:embed="rId4"/>
          <a:stretch/>
        </p:blipFill>
        <p:spPr>
          <a:xfrm>
            <a:off x="5738760" y="5981760"/>
            <a:ext cx="1876320" cy="399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"/>
          <p:cNvPicPr/>
          <p:nvPr/>
        </p:nvPicPr>
        <p:blipFill>
          <a:blip r:embed="rId5"/>
          <a:srcRect l="58955" t="9308" r="0" b="18240"/>
          <a:stretch/>
        </p:blipFill>
        <p:spPr>
          <a:xfrm>
            <a:off x="5645160" y="4368960"/>
            <a:ext cx="1569960" cy="644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"/>
          <p:cNvPicPr/>
          <p:nvPr/>
        </p:nvPicPr>
        <p:blipFill>
          <a:blip r:embed="rId6"/>
          <a:stretch/>
        </p:blipFill>
        <p:spPr>
          <a:xfrm>
            <a:off x="2511360" y="5305320"/>
            <a:ext cx="1252440" cy="911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7"/>
          <a:stretch/>
        </p:blipFill>
        <p:spPr>
          <a:xfrm>
            <a:off x="7419960" y="4156200"/>
            <a:ext cx="847800" cy="857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statia2\Desktop\SDC-Rom_CMYK_hoch_pos.jpg"/>
          <p:cNvPicPr/>
          <p:nvPr/>
        </p:nvPicPr>
        <p:blipFill>
          <a:blip r:embed="rId8"/>
          <a:stretch/>
        </p:blipFill>
        <p:spPr>
          <a:xfrm>
            <a:off x="260280" y="5214960"/>
            <a:ext cx="1984320" cy="1158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C:\Users\Stela\Desktop\Logou nou UTM\Logo_inscript_horizontal (1).png"/>
          <p:cNvPicPr/>
          <p:nvPr/>
        </p:nvPicPr>
        <p:blipFill>
          <a:blip r:embed="rId9"/>
          <a:stretch/>
        </p:blipFill>
        <p:spPr>
          <a:xfrm>
            <a:off x="5592600" y="5167440"/>
            <a:ext cx="2637000" cy="65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ußzeilenplatzhalt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41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8D94-FD55-4AC1-8450-BD0FE4037023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42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243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44" name="Picture 15" descr="Gopa Log MS cmyk RZ"/>
          <p:cNvPicPr/>
          <p:nvPr/>
        </p:nvPicPr>
        <p:blipFill>
          <a:blip r:embed="rId2"/>
          <a:stretch/>
        </p:blipFill>
        <p:spPr>
          <a:xfrm>
            <a:off x="1405080" y="2792520"/>
            <a:ext cx="2827080" cy="1146240"/>
          </a:xfrm>
          <a:prstGeom prst="rect">
            <a:avLst/>
          </a:prstGeom>
          <a:ln w="0">
            <a:noFill/>
          </a:ln>
        </p:spPr>
      </p:pic>
      <p:sp>
        <p:nvSpPr>
          <p:cNvPr id="245" name="Textfeld 5"/>
          <p:cNvSpPr/>
          <p:nvPr/>
        </p:nvSpPr>
        <p:spPr>
          <a:xfrm>
            <a:off x="5396040" y="24271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n numel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46" name="Picture 19" descr=""/>
          <p:cNvPicPr/>
          <p:nvPr/>
        </p:nvPicPr>
        <p:blipFill>
          <a:blip r:embed="rId3"/>
          <a:stretch/>
        </p:blipFill>
        <p:spPr>
          <a:xfrm>
            <a:off x="5396040" y="2792520"/>
            <a:ext cx="34002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1555920"/>
            <a:ext cx="781848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80f0f"/>
                </a:solidFill>
                <a:latin typeface="Arial"/>
                <a:ea typeface="Arial"/>
              </a:rPr>
              <a:t>Contractul individual de muncă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2F2A-1B3B-4860-A513-7CFB7ECAF845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98320" y="2082960"/>
            <a:ext cx="819648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b859f"/>
                </a:solidFill>
                <a:latin typeface="Arial"/>
              </a:rPr>
              <a:t>C</a:t>
            </a:r>
            <a:r>
              <a:rPr b="1" lang="vi-VN" sz="2400" spc="-1" strike="noStrike">
                <a:solidFill>
                  <a:srgbClr val="4b859f"/>
                </a:solidFill>
                <a:latin typeface="Arial"/>
              </a:rPr>
              <a:t>ontractul individual de muncă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o  înţelegere între salariat şi patron (administraţie) în baza căreia salariatul îşi asumă obligaţia de a-şi exercita funcţia de muncă (conform specialităţii, calificaţiei şi funcţiei), subordonându-se ordinii (regimului) interioare a muncii, iar patronul se obligă să asigure condiţiile necesare de muncă şi să achite  la timp salariul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7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4400" y="1449360"/>
            <a:ext cx="781848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80f0f"/>
                </a:solidFill>
                <a:latin typeface="Arial"/>
                <a:ea typeface="Arial"/>
              </a:rPr>
              <a:t>Acte normative: Contractului  individual de muncă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9574-10B2-4892-901D-68F9D25D10F1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22080" y="1987560"/>
            <a:ext cx="819612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SzPct val="11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ituţia Republicii Moldova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doptată la 29 iulie 1994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/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nitorul Oficial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l R.Moldova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r.1 din 18.08.199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SzPct val="11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ul muncii al Republicii Moldova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doptat prin Legea R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154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V d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28.03.2003 //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ul Oficial al Republicii Moldova, nr. 159-162 din 29.07.2003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SzPct val="11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ea sindicatelor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r. 1129-XIV/2000 // Monitorul Oficial al Republicii Moldova, nr. 130-132 din  2000.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SzPct val="11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Hotărîrea Guvernului RM nr. 923/2001 cu privire la plasarea în cîmpul muncii a absolvenţilor instituţiilor de învăţămînt superior de stat //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Monitorul Oficial al Republicii Moldova, nr. 108-109 din 6 septembrie 2001.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SzPct val="11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egulamentul privind organizarea şi efectuarea examenului medical obligatoriu al imigranţilor şi al cetăţenilor care emigrează peste hotare pentru angajarea provizorie în cîmpul muncii //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Monitorul Oficial al Republicii Moldova, nr. 109-111 din 31 august 2000.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e6452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74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FC5F-263A-499B-AA11-A31C9725FCD2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60240" y="1555560"/>
            <a:ext cx="819648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77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398520" y="1674720"/>
            <a:ext cx="8174160" cy="317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4CE8-3FAD-4A89-BDB6-65199D8A126E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674640" y="2278080"/>
            <a:ext cx="9193320" cy="26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2B77-0882-48CB-B6F6-10741A9ED39C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3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343080" y="2344680"/>
            <a:ext cx="8800920" cy="39178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582480" y="1555920"/>
            <a:ext cx="79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80f0f"/>
                </a:solidFill>
                <a:latin typeface="Arial"/>
              </a:rPr>
              <a:t>CRITERII DE CLASIFICARE A CONDIŢIILOR</a:t>
            </a:r>
            <a:r>
              <a:rPr b="1" lang="ro-RO" sz="2000" spc="-1" strike="noStrike">
                <a:solidFill>
                  <a:srgbClr val="c80f0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c80f0f"/>
                </a:solidFill>
                <a:latin typeface="Arial"/>
              </a:rPr>
              <a:t>ÎNCHEIERII CIM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1:54:56Z</dcterms:created>
  <dc:creator>GIZ-Design</dc:creator>
  <dc:description/>
  <cp:keywords>GIZ-Leerfolie</cp:keywords>
  <dc:language>en-US</dc:language>
  <cp:lastModifiedBy>Windows User</cp:lastModifiedBy>
  <cp:lastPrinted>2012-07-19T10:16:59Z</cp:lastPrinted>
  <dcterms:modified xsi:type="dcterms:W3CDTF">2017-06-25T16:53:55Z</dcterms:modified>
  <cp:revision>113</cp:revision>
  <dc:subject/>
  <dc:title>PowerPoint-Präsentation</dc:title>
</cp:coreProperties>
</file>