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1.wmf" ContentType="image/x-wmf"/>
  <Override PartName="/ppt/media/image21.jpeg" ContentType="image/jpeg"/>
  <Override PartName="/ppt/media/image1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0.png" ContentType="image/png"/>
  <Override PartName="/ppt/media/image2.jpeg" ContentType="image/jpeg"/>
  <Override PartName="/ppt/media/image19.wmf" ContentType="image/x-wmf"/>
  <Override PartName="/ppt/media/image18.wmf" ContentType="image/x-wmf"/>
  <Override PartName="/ppt/media/image17.wmf" ContentType="image/x-wmf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5145088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745D-DAF6-4E7F-80EC-B3AAD9199F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06080" y="696960"/>
            <a:ext cx="619740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7ed9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56E1-C831-4F1B-A257-05845F957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3163-EB36-416C-AEAD-8CEA00D14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C524-F4E7-4F66-A2ED-2F22B173B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1E2-A998-4305-B657-FFAA5D4B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392-3977-4F9D-8140-EB9D966B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4E87-8673-448B-9318-C1AE0247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202-C825-4ECC-BDEE-9BF887A9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00D-3711-4699-8569-8FCD737E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93B-6F7B-4DA6-B21B-6625A849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5CD-6671-4EB3-8B22-08049271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4EC-C43D-415A-ABF1-3634BD6E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739152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605-00F7-4293-89D6-53B4B81A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947-0514-4CBB-9F2D-EEAA49A7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2D3-0EDB-4060-A8DE-DE6EF0FE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A7A-9210-4F31-B364-B825F137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7ed9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5-26 / 11 /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47811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15C3-7B53-4F13-8BB4-D0C7875323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rezentareAV-1pag.jpg"/>
          <p:cNvPicPr/>
          <p:nvPr/>
        </p:nvPicPr>
        <p:blipFill>
          <a:blip r:embed="rId1"/>
          <a:stretch/>
        </p:blipFill>
        <p:spPr>
          <a:xfrm>
            <a:off x="0" y="0"/>
            <a:ext cx="9167760" cy="5162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5638680" y="4640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562720" y="295272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RUTAREA SI SELECTAREA RESURSELOR UM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Anunt de concurs postat pe site-ul APAVITAL (4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E502-58C2-4A99-917D-F4307C5BE42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209680" y="819000"/>
            <a:ext cx="3886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Anunt de concurs postat pe site-ul APAVITAL (5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991A-8FCA-4D5F-9BA1-291AE82E4E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828800" y="743040"/>
            <a:ext cx="472428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Sec</a:t>
            </a:r>
            <a:r>
              <a:rPr b="1" lang="ro-RO" sz="2000" spc="-1" strike="noStrike">
                <a:solidFill>
                  <a:srgbClr val="177ed9"/>
                </a:solidFill>
                <a:latin typeface="Calibri"/>
              </a:rPr>
              <a:t>ţiunea CARIERE pe </a:t>
            </a: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site-ul APAVITAL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6D99-673A-423C-939C-E837992D8D4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905120" y="895320"/>
            <a:ext cx="4952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177ed9"/>
                </a:solidFill>
                <a:latin typeface="Calibri"/>
              </a:rPr>
              <a:t>Selecţia candidaţilor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F2A2-78CA-48FF-9F63-EAA43A47D2A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04920" y="1363680"/>
            <a:ext cx="4952880" cy="236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638680" y="1581120"/>
            <a:ext cx="3426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177ed9"/>
                </a:solidFill>
                <a:latin typeface="Calibri"/>
              </a:rPr>
              <a:t>P</a:t>
            </a: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roces-verbal  al comisiei de selectie</a:t>
            </a:r>
            <a:r>
              <a:rPr b="1" lang="ro-RO" sz="2000" spc="-1" strike="noStrike">
                <a:solidFill>
                  <a:srgbClr val="177ed9"/>
                </a:solidFill>
                <a:latin typeface="Calibri"/>
              </a:rPr>
              <a:t> (1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AFCB-2FEC-4DD4-94E8-30B33CB450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828800" y="743040"/>
            <a:ext cx="52578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Proces-verbal  al comisiei de selectie (</a:t>
            </a:r>
            <a:r>
              <a:rPr b="1" lang="ro-RO" sz="2000" spc="-1" strike="noStrike">
                <a:solidFill>
                  <a:srgbClr val="177ed9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C39D-B917-4D40-BFB4-5DC94ADAD0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066680" y="971640"/>
            <a:ext cx="7094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177ed9"/>
                </a:solidFill>
                <a:latin typeface="Calibri"/>
              </a:rPr>
              <a:t>Rezultatele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F0CA-DCBC-4F04-B5B7-A0BB1F18B8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2120" y="1581120"/>
            <a:ext cx="5638680" cy="14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6629400" y="1581120"/>
            <a:ext cx="2384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prezentareAV-final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514368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4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5F4C-089D-467D-8B84-AC70D607B6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638680" y="34099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7ed9"/>
                </a:solidFill>
                <a:latin typeface="Calibri"/>
              </a:rPr>
              <a:t>Vă mulțumi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Cadrul legal (1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120" y="971640"/>
            <a:ext cx="81536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vi-VN" sz="1400" spc="-1" strike="noStrike">
                <a:solidFill>
                  <a:srgbClr val="595959"/>
                </a:solidFill>
                <a:latin typeface="Arial"/>
              </a:rPr>
              <a:t>Procesul de recrutare si selectie, are rolul de a  asigura personal competent și calificat necesar activitatilor organizati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ei</a:t>
            </a:r>
            <a:r>
              <a:rPr b="0" lang="vi-VN" sz="14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vi-VN" sz="1400" spc="-1" strike="noStrike">
                <a:solidFill>
                  <a:srgbClr val="595959"/>
                </a:solidFill>
                <a:latin typeface="Arial"/>
              </a:rPr>
              <a:t>avându-se în vedere asigurarea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vi-VN" sz="1400" spc="-1" strike="noStrike">
                <a:solidFill>
                  <a:srgbClr val="595959"/>
                </a:solidFill>
                <a:latin typeface="Arial"/>
              </a:rPr>
              <a:t>calităţii serviciilor şi produselor furnizate către clienţi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 u="sng">
                <a:solidFill>
                  <a:srgbClr val="595959"/>
                </a:solidFill>
                <a:uFillTx/>
                <a:latin typeface="Calibri"/>
              </a:rPr>
              <a:t>Codul Muncii: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vi-VN" sz="14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0" i="1" lang="vi-VN" sz="1400" spc="-1" strike="noStrike">
                <a:solidFill>
                  <a:srgbClr val="595959"/>
                </a:solidFill>
                <a:latin typeface="Arial"/>
              </a:rPr>
              <a:t>Art. 29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vi-VN" sz="1400" spc="-1" strike="noStrike">
                <a:solidFill>
                  <a:srgbClr val="595959"/>
                </a:solidFill>
                <a:latin typeface="Arial"/>
              </a:rPr>
              <a:t>(1) Contractul individual de muncă se încheie </a:t>
            </a:r>
            <a:r>
              <a:rPr b="0" i="1" lang="vi-VN" sz="1400" spc="-1" strike="noStrike" u="sng">
                <a:solidFill>
                  <a:srgbClr val="595959"/>
                </a:solidFill>
                <a:uFillTx/>
                <a:latin typeface="Arial"/>
              </a:rPr>
              <a:t>după verificarea prealabilă a aptitudinilor profesionale şi personale </a:t>
            </a:r>
            <a:r>
              <a:rPr b="0" i="1" lang="vi-VN" sz="1400" spc="-1" strike="noStrike">
                <a:solidFill>
                  <a:srgbClr val="595959"/>
                </a:solidFill>
                <a:latin typeface="Arial"/>
              </a:rPr>
              <a:t>ale persoanei care solicită angajarea.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vi-VN" sz="1400" spc="-1" strike="noStrike">
                <a:solidFill>
                  <a:srgbClr val="595959"/>
                </a:solidFill>
                <a:latin typeface="Arial"/>
              </a:rPr>
              <a:t>(2) Modalităţile în care urmează să se realizeze verificarea prevăzută la alin. (1) </a:t>
            </a:r>
            <a:r>
              <a:rPr b="0" i="1" lang="vi-VN" sz="1400" spc="-1" strike="noStrike" u="sng">
                <a:solidFill>
                  <a:srgbClr val="595959"/>
                </a:solidFill>
                <a:uFillTx/>
                <a:latin typeface="Arial"/>
              </a:rPr>
              <a:t>sunt stabilite în contractul colectiv de muncă aplicabil</a:t>
            </a:r>
            <a:r>
              <a:rPr b="0" i="1" lang="vi-VN" sz="1400" spc="-1" strike="noStrike">
                <a:solidFill>
                  <a:srgbClr val="595959"/>
                </a:solidFill>
                <a:latin typeface="Arial"/>
              </a:rPr>
              <a:t>, în statutul de personal - profesional sau disciplinar - şi în regulamentul intern, în măsura în care legea nu dispune altfel.”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1F86-EE7E-4F5E-BE6F-4F70DB8762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Cadrul legal (2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0EEE-7FDE-410C-B58B-3FAA81B1FF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90920" y="209520"/>
            <a:ext cx="3733560" cy="1911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504800" y="2647800"/>
            <a:ext cx="61344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Cadrul legal (3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A257-8D06-45A1-94AA-85D198BC02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981080" y="1047600"/>
            <a:ext cx="5329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Procedura (1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CE56-DD9A-4807-8290-977F46078F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04920" y="1590840"/>
            <a:ext cx="5213160" cy="1666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943600" y="12873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Procedura (2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8D73-EE54-4850-A0DB-AE84A346C6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523880" y="895320"/>
            <a:ext cx="5964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Anunt de concurs postat pe site-ul APAVITAL (1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D4D0-75CC-4F2D-8294-9E19D2D733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209680" y="743040"/>
            <a:ext cx="5195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Anunt de concurs postat pe site-ul APAVITAL (2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909E-B206-4E31-83FD-D58A2AEFD4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438280" y="819000"/>
            <a:ext cx="4724640" cy="37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Anunt de concurs postat pe site-ul APAVITAL (3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9552-8068-4DC6-A759-E8D6F7998BC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438280" y="743040"/>
            <a:ext cx="3886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3:21:19Z</dcterms:created>
  <dc:creator/>
  <dc:description/>
  <dc:language>en-US</dc:language>
  <cp:lastModifiedBy/>
  <dcterms:modified xsi:type="dcterms:W3CDTF">2017-06-08T08:35:53Z</dcterms:modified>
  <cp:revision>1</cp:revision>
  <dc:subject/>
  <dc:title>Prezentare ApaVital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nul">
    <vt:lpwstr>;#2011;#</vt:lpwstr>
  </property>
  <property fmtid="{D5CDD505-2E9C-101B-9397-08002B2CF9AE}" pid="3" name="Expiră">
    <vt:lpwstr>2016-12-31T00:00:00Z</vt:lpwstr>
  </property>
  <property fmtid="{D5CDD505-2E9C-101B-9397-08002B2CF9AE}" pid="4" name="Geografic">
    <vt:lpwstr>;#Jud. Iași;#</vt:lpwstr>
  </property>
  <property fmtid="{D5CDD505-2E9C-101B-9397-08002B2CF9AE}" pid="5" name="Keywords0">
    <vt:lpwstr>prezentare, 2011, ApaVital</vt:lpwstr>
  </property>
  <property fmtid="{D5CDD505-2E9C-101B-9397-08002B2CF9AE}" pid="6" name="Language">
    <vt:lpwstr>Română</vt:lpwstr>
  </property>
  <property fmtid="{D5CDD505-2E9C-101B-9397-08002B2CF9AE}" pid="7" name="Partener">
    <vt:lpwstr>;#ApaVital;#</vt:lpwstr>
  </property>
  <property fmtid="{D5CDD505-2E9C-101B-9397-08002B2CF9AE}" pid="8" name="TaskStatus">
    <vt:lpwstr>Terminat</vt:lpwstr>
  </property>
  <property fmtid="{D5CDD505-2E9C-101B-9397-08002B2CF9AE}" pid="9" name="Topic">
    <vt:lpwstr>;#Management;#Raportare;#Simpozion;#</vt:lpwstr>
  </property>
  <property fmtid="{D5CDD505-2E9C-101B-9397-08002B2CF9AE}" pid="10" name="Trimis către">
    <vt:lpwstr>Orest Trofin, Ion Toma</vt:lpwstr>
  </property>
  <property fmtid="{D5CDD505-2E9C-101B-9397-08002B2CF9AE}" pid="11" name="_LCID">
    <vt:r8>1033</vt:r8>
  </property>
  <property fmtid="{D5CDD505-2E9C-101B-9397-08002B2CF9AE}" pid="12" name="_Version">
    <vt:lpwstr>12.0.4518</vt:lpwstr>
  </property>
  <property fmtid="{D5CDD505-2E9C-101B-9397-08002B2CF9AE}" pid="13" name="_dlc_DocId">
    <vt:lpwstr>U5FY2F32NNHV-160-822</vt:lpwstr>
  </property>
  <property fmtid="{D5CDD505-2E9C-101B-9397-08002B2CF9AE}" pid="14" name="_dlc_DocIdItemGuid">
    <vt:lpwstr>0e8b8882-ef37-4ebf-9998-b8afedf07e69</vt:lpwstr>
  </property>
  <property fmtid="{D5CDD505-2E9C-101B-9397-08002B2CF9AE}" pid="15" name="_dlc_DocIdUrl">
    <vt:lpwstr>http://intranet/dg/cml/_layouts/DocIdRedir.aspx?ID=U5FY2F32NNHV-160-822, U5FY2F32NNHV-160-822</vt:lpwstr>
  </property>
  <property fmtid="{D5CDD505-2E9C-101B-9397-08002B2CF9AE}" pid="16" name="dlc_EmailSentUTC">
    <vt:lpwstr>2011-05-20T09:45:00Z</vt:lpwstr>
  </property>
</Properties>
</file>