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0D33-A125-4BC4-B70E-9D024348A67E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6E52-0FF6-4999-8393-3B2400EE2F77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19EF-C319-4B7A-B500-514D3D051BFC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E0DE-D242-44C2-A5C2-C89C19FF25DC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7588-47C8-4EA0-9F30-670FC3C20D7F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0B96-D926-4BF6-89BD-25548BF6C74D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798560" indent="-35856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798560" indent="-3585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798560" indent="-3585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653BCF94-5840-4B8F-9947-6816117E9036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2DC2-CAC2-40B4-A5D8-A76016813EC8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iz.de/" TargetMode="External"/><Relationship Id="rId2" Type="http://schemas.openxmlformats.org/officeDocument/2006/relationships/hyperlink" Target="http://www.serviciilocale.md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E719-65D1-4888-8BCC-00F6C917B30C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480" y="1562040"/>
            <a:ext cx="8839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урс повышения квалификации работников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2060"/>
                </a:solidFill>
                <a:latin typeface="Arial"/>
              </a:rPr>
              <a:t> „Apă-Canal”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дул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12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еджмент человеческих ресурсов в области операторов поставщиков услуг воды и канализационных систем 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ссия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1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одательная база менеджмента человеческих ресурсов. Коллективный трудовой договор и коллективное трудовое соглашение. </a:t>
            </a:r>
            <a:br>
              <a:rPr sz="2000"/>
            </a:b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МАНДАШ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колае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ктор юридических наук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фессор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27-28-29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юня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201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шинев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4200" y="1555920"/>
            <a:ext cx="7943760" cy="9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f0f"/>
                </a:solidFill>
                <a:latin typeface="Arial"/>
                <a:ea typeface="Arial"/>
              </a:rPr>
              <a:t>Понятие и классификация субъектов трудового права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0AFD-7151-4EFB-A001-66046517333C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2754360"/>
            <a:ext cx="819648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честве основных субъектов трудового права выступают </a:t>
            </a:r>
            <a:r>
              <a:rPr b="0" lang="ru-RU" sz="2000" spc="-1" strike="noStrike">
                <a:solidFill>
                  <a:srgbClr val="2892a8"/>
                </a:solidFill>
                <a:latin typeface="Arial"/>
              </a:rPr>
              <a:t>работники и работодатели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отношениям между ними имеет место появление юридического трудового правоотношения и тем самым вокруг основных субъектов, остальные занимают второстепенный план.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тегорию вышеуказанных остальных субъектов входят: профсоюзы, патронаты, трудовые коллективы, государственные органы наделенные правом администрирования и надзора трудовых отношений, судебные инстанции и прочие органы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2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E7F1-D5B8-44E2-B98D-53EDA3009837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27" name="Схема 79" descr=""/>
          <p:cNvPicPr/>
          <p:nvPr/>
        </p:nvPicPr>
        <p:blipFill>
          <a:blip r:embed="rId2"/>
          <a:stretch/>
        </p:blipFill>
        <p:spPr>
          <a:xfrm>
            <a:off x="291960" y="1255680"/>
            <a:ext cx="868068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D74F-DC06-4875-8CFF-C37336D5DD3C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30" name="Схема 77" descr=""/>
          <p:cNvPicPr/>
          <p:nvPr/>
        </p:nvPicPr>
        <p:blipFill>
          <a:blip r:embed="rId2"/>
          <a:stretch/>
        </p:blipFill>
        <p:spPr>
          <a:xfrm>
            <a:off x="401760" y="1341360"/>
            <a:ext cx="857088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E3A-44E4-4D79-B18D-0043D53A96F9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33" name="Схема 78" descr=""/>
          <p:cNvPicPr/>
          <p:nvPr/>
        </p:nvPicPr>
        <p:blipFill>
          <a:blip r:embed="rId2"/>
          <a:stretch/>
        </p:blipFill>
        <p:spPr>
          <a:xfrm>
            <a:off x="542880" y="1292400"/>
            <a:ext cx="8412120" cy="54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AB65-F4E4-4176-9A35-7222C92FA565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679320" y="1465200"/>
            <a:ext cx="77756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1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оставленное время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8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минут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  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617400" y="2387520"/>
            <a:ext cx="8253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чальник отдела планирования организации отклонил заявление о приеме на работу в качестве экономиста гражданки Малай, выпускницы экономического факультета, на основании что данная гражданка не располагает профессиональными навыками и не замужем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лай не согласилась с данными выводами и обратилась с жалобой в Государственную инспекцию труда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859f"/>
                </a:solidFill>
                <a:latin typeface="Arial"/>
                <a:ea typeface="Arial"/>
              </a:rPr>
              <a:t>Установите субъектов данной задачи, их качество, законный статус и законность действий начальника отдела. Сформулируйте ответ будучи в качестве Государственной инспекции труда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7360" y="1555920"/>
            <a:ext cx="8064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Юридическое трудовое отношение и его характеристики</a:t>
            </a:r>
            <a:br>
              <a:rPr sz="24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1B68-6107-4C5A-B107-6D43C9654AE9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36200" y="2541600"/>
            <a:ext cx="809964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Юридическое трудовое отношение</a:t>
            </a:r>
            <a:r>
              <a:rPr b="1" lang="vi-VN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социальным отношением регламентируемым юридическими нормами, рожденным между физическим лицом с одной стороны, и как правило юридическим или физическим лицом с другой стороны, как следствие выполнения определенной работы, первым лицом, в пользу второго лица.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7360" y="1555920"/>
            <a:ext cx="8064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Юридическое трудовое отношение и его характеристики</a:t>
            </a:r>
            <a:br>
              <a:rPr sz="24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2ACE-BF54-4079-959E-7BF030773792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6200" y="2374560"/>
            <a:ext cx="809964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ами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вого отношения являются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ие труда в качестве работника, а не как члена кооператива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ение работника в состав трудового коллекти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инение работника внутреннему трудовому распорядк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ие определенной работы по характеру ее сложности, предусмотренной сторонами в процессе заключения индивидуального трудового договора                     (специальность, квалификация, функция)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язанность работника выполнить определенную нормативную задачу в установленные сроки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7360" y="1555920"/>
            <a:ext cx="8064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Юридическое трудовое отношение и его характеристики</a:t>
            </a:r>
            <a:br>
              <a:rPr sz="24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02D-68B3-4861-AD4F-68BB761B3679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9" name="Схема 81" descr=""/>
          <p:cNvPicPr/>
          <p:nvPr/>
        </p:nvPicPr>
        <p:blipFill>
          <a:blip r:embed="rId2"/>
          <a:stretch/>
        </p:blipFill>
        <p:spPr>
          <a:xfrm>
            <a:off x="311040" y="1554120"/>
            <a:ext cx="8717040" cy="54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925B-E440-4D18-882A-D3F4123EBD64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62" name="Схема 80" descr=""/>
          <p:cNvPicPr/>
          <p:nvPr/>
        </p:nvPicPr>
        <p:blipFill>
          <a:blip r:embed="rId2"/>
          <a:stretch/>
        </p:blipFill>
        <p:spPr>
          <a:xfrm>
            <a:off x="579600" y="1427040"/>
            <a:ext cx="8156520" cy="46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C011-273B-43F1-B634-49531C6AD869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855720" y="1004760"/>
            <a:ext cx="77756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2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оставленное время -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8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минут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617400" y="2030400"/>
            <a:ext cx="8253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ражданка Аврам была допущена к выполнению работ в качестве секретаря в О.О.О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Virtute“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ез заключения индивидуального трудового договора. По истечению 3 месяцев работы, работница была уволена работодателем на основании не осведомления работодателя о своей беременности (зная данную информацию работодатель при приеме на работу, отказал бы в трудоустройстве).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рам обратилась в судебную инстанцию с заявлением о восстановлении в трудовой области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859f"/>
                </a:solidFill>
                <a:latin typeface="Arial"/>
                <a:ea typeface="Arial"/>
              </a:rPr>
              <a:t>Определите юридический статус каждого субъекта. Определите законность появившегося юридического отношения между сторонами.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6AB-BC18-4EE1-B148-33A768819523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554040" y="179388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и сессии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54040" y="2400480"/>
            <a:ext cx="82040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миллиаризация участников с источниками трудового права;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ефиниция и классификация субъектов трудового права;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 трудового юридического отношения и присущих характеристик;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коллективного трудового договора и коллективного трудового соглашения;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3B88-1A47-4C64-8194-A25454C41E66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70" name="Схема 100" descr=""/>
          <p:cNvPicPr/>
          <p:nvPr/>
        </p:nvPicPr>
        <p:blipFill>
          <a:blip r:embed="rId2"/>
          <a:stretch/>
        </p:blipFill>
        <p:spPr>
          <a:xfrm>
            <a:off x="798480" y="1542960"/>
            <a:ext cx="7900920" cy="48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96AB-1E6F-479D-88A0-AE9BBA44EC7C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73" name="Схема 99" descr=""/>
          <p:cNvPicPr/>
          <p:nvPr/>
        </p:nvPicPr>
        <p:blipFill>
          <a:blip r:embed="rId2"/>
          <a:stretch/>
        </p:blipFill>
        <p:spPr>
          <a:xfrm>
            <a:off x="590400" y="1225440"/>
            <a:ext cx="82123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8EB4-2648-4772-9A64-1389E6D86EE2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76" name="Схема 95" descr=""/>
          <p:cNvPicPr/>
          <p:nvPr/>
        </p:nvPicPr>
        <p:blipFill>
          <a:blip r:embed="rId2"/>
          <a:stretch/>
        </p:blipFill>
        <p:spPr>
          <a:xfrm>
            <a:off x="512640" y="1542960"/>
            <a:ext cx="834552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B650-AE5C-4616-A725-74731032212A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79" name="Схема 98" descr=""/>
          <p:cNvPicPr/>
          <p:nvPr/>
        </p:nvPicPr>
        <p:blipFill>
          <a:blip r:embed="rId2"/>
          <a:stretch/>
        </p:blipFill>
        <p:spPr>
          <a:xfrm>
            <a:off x="347760" y="1311120"/>
            <a:ext cx="837540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976C-E5DD-4AF8-994D-8780A24753A6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82" name="Схема 97" descr=""/>
          <p:cNvPicPr/>
          <p:nvPr/>
        </p:nvPicPr>
        <p:blipFill>
          <a:blip r:embed="rId2"/>
          <a:stretch/>
        </p:blipFill>
        <p:spPr>
          <a:xfrm>
            <a:off x="396720" y="1517760"/>
            <a:ext cx="8552160" cy="53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873-4179-4F6E-BB3C-BE905D04D03D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85" name="Схема 94" descr=""/>
          <p:cNvPicPr/>
          <p:nvPr/>
        </p:nvPicPr>
        <p:blipFill>
          <a:blip r:embed="rId2"/>
          <a:stretch/>
        </p:blipFill>
        <p:spPr>
          <a:xfrm>
            <a:off x="262080" y="1279440"/>
            <a:ext cx="858348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90BB-2954-4499-A892-E93AD3404438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88" name="Схема 92" descr=""/>
          <p:cNvPicPr/>
          <p:nvPr/>
        </p:nvPicPr>
        <p:blipFill>
          <a:blip r:embed="rId2"/>
          <a:stretch/>
        </p:blipFill>
        <p:spPr>
          <a:xfrm>
            <a:off x="749160" y="1542960"/>
            <a:ext cx="817560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69E9-3302-4AF9-AA40-5D9969A550F8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9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92" name="Схема 89" descr=""/>
          <p:cNvPicPr/>
          <p:nvPr/>
        </p:nvPicPr>
        <p:blipFill>
          <a:blip r:embed="rId2"/>
          <a:stretch/>
        </p:blipFill>
        <p:spPr>
          <a:xfrm>
            <a:off x="731880" y="1542960"/>
            <a:ext cx="7894440" cy="47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CA91-CEC9-431C-AAAA-93C9B4517F96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9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95" name="Схема 88" descr=""/>
          <p:cNvPicPr/>
          <p:nvPr/>
        </p:nvPicPr>
        <p:blipFill>
          <a:blip r:embed="rId2"/>
          <a:stretch/>
        </p:blipFill>
        <p:spPr>
          <a:xfrm>
            <a:off x="665280" y="1542960"/>
            <a:ext cx="781992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8EAA-4F27-4B07-9C4C-FC2816F5692D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9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98" name="Схема 86" descr=""/>
          <p:cNvPicPr/>
          <p:nvPr/>
        </p:nvPicPr>
        <p:blipFill>
          <a:blip r:embed="rId2"/>
          <a:stretch/>
        </p:blipFill>
        <p:spPr>
          <a:xfrm>
            <a:off x="360360" y="1542960"/>
            <a:ext cx="842976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25F9-0C33-4E87-9554-B1C7A55CDF2E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54040" y="155592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лючевые слова сессии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54040" y="2116080"/>
            <a:ext cx="761220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овое право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бъекты трудового права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Юридическое отношение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одатель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ник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ективный трудовой договор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ективная конвенция</a:t>
            </a:r>
            <a:br>
              <a:rPr sz="2200"/>
            </a:b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7514-2366-4362-8414-31F1EE6A3A8A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0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1" name="Заголовок 1"/>
          <p:cNvSpPr/>
          <p:nvPr/>
        </p:nvSpPr>
        <p:spPr>
          <a:xfrm>
            <a:off x="855720" y="1198440"/>
            <a:ext cx="77756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 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оставленное время – 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минут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0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617400" y="2136600"/>
            <a:ext cx="8253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окончанию курсов повышения квалификации, оплаченных предприятием, работнику Илиеску была присвоена 1-ая квалификационная категория. По истечению одного месяца работы, работник представил заявление об увольнении по собственному желанию. Директор предприятия отказал в подписании представленного заявления работником, так как на основании положения коллективного трудового договора, после прохождения курсов повышения квалификации, гражданин Илиеску обязан проработать на предприятии не менее 2 лет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859f"/>
                </a:solidFill>
                <a:latin typeface="Arial"/>
                <a:ea typeface="Arial"/>
              </a:rPr>
              <a:t>Является ли законным данное положение в коллективном трудовом договоре? Какое решение должно быть вынесено, на основании составленного протокола органами надзора за соблюдением прав трудящихся</a:t>
            </a:r>
            <a:r>
              <a:rPr b="1" lang="vi-VN" sz="2000" spc="-1" strike="noStrike">
                <a:solidFill>
                  <a:srgbClr val="4b859f"/>
                </a:solidFill>
                <a:latin typeface="Arial"/>
                <a:ea typeface="Arial"/>
              </a:rPr>
              <a:t>?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BFAE-B0D1-4571-8D24-198916841B76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f0f"/>
                </a:solidFill>
                <a:latin typeface="Arial"/>
              </a:rPr>
              <a:t>Рубрика: Вопросы, Ответы</a:t>
            </a: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859f"/>
                </a:solidFill>
                <a:latin typeface="Arial"/>
              </a:rPr>
              <a:t>Контактные данные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нзарь Витали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nzarivitalie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.тел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816991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6A1A-FDB7-4184-AFC5-5F1A89029B42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f0f"/>
                </a:solidFill>
                <a:latin typeface="Arial"/>
              </a:rPr>
              <a:t>БЛАГОДАРЮ ЗА ВНИМАНИЕ</a:t>
            </a: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859f"/>
                </a:solidFill>
                <a:latin typeface="Arial"/>
              </a:rPr>
              <a:t>Контактные данные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мандаш Никола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romandas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.тел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509375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1158-84C9-4308-A556-D5DE4B9E2EE0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4" name="Inhaltsplatzhalter 7"/>
          <p:cNvSpPr/>
          <p:nvPr/>
        </p:nvSpPr>
        <p:spPr>
          <a:xfrm>
            <a:off x="684360" y="2108160"/>
            <a:ext cx="44812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În calitate de entitate federală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GIZ sprijină atingerea obiectivelor Guvernului Germaniei de cooperare internațională și dezvoltare durabilă.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Publicat de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Deutsche </a:t>
            </a:r>
            <a:r>
              <a:rPr b="0" lang="de-DE" sz="1000" spc="-1" strike="noStrike">
                <a:solidFill>
                  <a:srgbClr val="534b3e"/>
                </a:solidFill>
                <a:latin typeface="Arial"/>
                <a:ea typeface="Arial"/>
              </a:rPr>
              <a:t>Gesellschaft für</a:t>
            </a:r>
            <a:br>
              <a:rPr sz="1000"/>
            </a:br>
            <a:r>
              <a:rPr b="0" lang="de-DE" sz="1000" spc="-1" strike="noStrike">
                <a:solidFill>
                  <a:srgbClr val="534b3e"/>
                </a:solidFill>
                <a:latin typeface="Arial"/>
                <a:ea typeface="Arial"/>
              </a:rPr>
              <a:t>Internationale Zusammenarbeit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(GIZ) GmbH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Oficii înregistrat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, Bonn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ș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 Eschborn, German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ia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Proiectul ”Modernizarea serviciilor publice locale în Republica Moldova”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Chișinău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str.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Bernardazzi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66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T  + 373 22 22-83-19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F  + 373 22 00-02-38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	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giz.d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,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serviciilocale.md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5" name="Inhaltsplatzhalter 8"/>
          <p:cNvSpPr/>
          <p:nvPr/>
        </p:nvSpPr>
        <p:spPr>
          <a:xfrm>
            <a:off x="5467320" y="2108160"/>
            <a:ext cx="3005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34b3e"/>
                </a:solidFill>
                <a:latin typeface="Arial"/>
                <a:ea typeface="Arial"/>
              </a:rPr>
              <a:t>Autor</a:t>
            </a:r>
            <a:r>
              <a:rPr b="1" lang="ro-RO" sz="1000" spc="-1" strike="noStrike">
                <a:solidFill>
                  <a:srgbClr val="534b3e"/>
                </a:solidFill>
                <a:latin typeface="Arial"/>
                <a:ea typeface="Arial"/>
              </a:rPr>
              <a:t>i Bînzari Vitalie</a:t>
            </a:r>
            <a:br>
              <a:rPr sz="1000"/>
            </a:b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Textfeld 9"/>
          <p:cNvSpPr/>
          <p:nvPr/>
        </p:nvSpPr>
        <p:spPr>
          <a:xfrm>
            <a:off x="495360" y="471816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  <a:ea typeface="Arial"/>
              </a:rPr>
              <a:t>Proiect cofinanțat de 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7" name="Picture 2" descr="D:\docs\desktop\ELdZ_Mol_cmyk_rum.jpg"/>
          <p:cNvPicPr/>
          <p:nvPr/>
        </p:nvPicPr>
        <p:blipFill>
          <a:blip r:embed="rId3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Textfeld 9"/>
          <p:cNvSpPr/>
          <p:nvPr/>
        </p:nvSpPr>
        <p:spPr>
          <a:xfrm>
            <a:off x="5556240" y="390852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  <a:ea typeface="Arial"/>
              </a:rPr>
              <a:t>În cooperare cu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20" name="Picture 2" descr="2"/>
          <p:cNvPicPr/>
          <p:nvPr/>
        </p:nvPicPr>
        <p:blipFill>
          <a:blip r:embed="rId4"/>
          <a:stretch/>
        </p:blipFill>
        <p:spPr>
          <a:xfrm>
            <a:off x="5738760" y="598176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5"/>
          <a:srcRect l="58955" t="9308" r="0" b="18240"/>
          <a:stretch/>
        </p:blipFill>
        <p:spPr>
          <a:xfrm>
            <a:off x="5645160" y="4368960"/>
            <a:ext cx="1569960" cy="644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"/>
          <p:cNvPicPr/>
          <p:nvPr/>
        </p:nvPicPr>
        <p:blipFill>
          <a:blip r:embed="rId6"/>
          <a:stretch/>
        </p:blipFill>
        <p:spPr>
          <a:xfrm>
            <a:off x="2511360" y="5305320"/>
            <a:ext cx="1252440" cy="911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7"/>
          <a:stretch/>
        </p:blipFill>
        <p:spPr>
          <a:xfrm>
            <a:off x="7419960" y="41562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statia2\Desktop\SDC-Rom_CMYK_hoch_pos.jpg"/>
          <p:cNvPicPr/>
          <p:nvPr/>
        </p:nvPicPr>
        <p:blipFill>
          <a:blip r:embed="rId8"/>
          <a:stretch/>
        </p:blipFill>
        <p:spPr>
          <a:xfrm>
            <a:off x="260280" y="5214960"/>
            <a:ext cx="1984320" cy="115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C:\Users\Stela\Desktop\Logou nou UTM\Logo_inscript_horizontal (1).png"/>
          <p:cNvPicPr/>
          <p:nvPr/>
        </p:nvPicPr>
        <p:blipFill>
          <a:blip r:embed="rId9"/>
          <a:stretch/>
        </p:blipFill>
        <p:spPr>
          <a:xfrm>
            <a:off x="5592600" y="5167440"/>
            <a:ext cx="2637000" cy="65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7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CF12-374F-455D-8E8D-C946B6F30B05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2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2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30" name="Picture 15" descr="Gopa Log MS cmyk RZ"/>
          <p:cNvPicPr/>
          <p:nvPr/>
        </p:nvPicPr>
        <p:blipFill>
          <a:blip r:embed="rId2"/>
          <a:stretch/>
        </p:blipFill>
        <p:spPr>
          <a:xfrm>
            <a:off x="1405080" y="2792520"/>
            <a:ext cx="2827080" cy="1146240"/>
          </a:xfrm>
          <a:prstGeom prst="rect">
            <a:avLst/>
          </a:prstGeom>
          <a:ln w="0">
            <a:noFill/>
          </a:ln>
        </p:spPr>
      </p:pic>
      <p:sp>
        <p:nvSpPr>
          <p:cNvPr id="231" name="Textfeld 5"/>
          <p:cNvSpPr/>
          <p:nvPr/>
        </p:nvSpPr>
        <p:spPr>
          <a:xfrm>
            <a:off x="5396040" y="2427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in numel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32" name="Picture 19" descr=""/>
          <p:cNvPicPr/>
          <p:nvPr/>
        </p:nvPicPr>
        <p:blipFill>
          <a:blip r:embed="rId3"/>
          <a:stretch/>
        </p:blipFill>
        <p:spPr>
          <a:xfrm>
            <a:off x="5396040" y="2792520"/>
            <a:ext cx="34002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0800" y="1476000"/>
            <a:ext cx="78184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f0f"/>
                </a:solidFill>
                <a:latin typeface="Arial"/>
                <a:ea typeface="Arial"/>
              </a:rPr>
              <a:t>Классификация источников Трудового права</a:t>
            </a:r>
            <a:br>
              <a:rPr sz="2000"/>
            </a:b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839E-6580-408E-BB14-D174EBB3D00B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50800" y="2236320"/>
            <a:ext cx="819648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рудовое право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вляется</a:t>
            </a:r>
            <a:r>
              <a:rPr b="0" lang="vi-VN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большинстве случаев для работников минимальным уровнем, от которого возможно отклонение посредством трудовых коллективных договоров и соглашений, с условием что данные отклонения будут в пользу устроившихся на работу (работников).</a:t>
            </a: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казаниями статьи </a:t>
            </a:r>
            <a:r>
              <a:rPr b="1" lang="ru-RU" sz="2100" spc="-1" strike="noStrike">
                <a:solidFill>
                  <a:srgbClr val="386477"/>
                </a:solidFill>
                <a:latin typeface="Arial"/>
              </a:rPr>
              <a:t>12 Трудового Кодекса РМ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словия закрепленные в индивидуальных трудовых договорах, коллективных трудовых договорах и трудовых соглашениях, на основании которых ухудшается положение работников в сравнении с трудовым законодательством, являются недействительными и не производят юридических эффектов.</a:t>
            </a: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6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3440" y="1428840"/>
            <a:ext cx="781848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859f"/>
                </a:solidFill>
                <a:latin typeface="Arial"/>
                <a:ea typeface="Arial"/>
              </a:rPr>
              <a:t>Классификация источников Трудового права</a:t>
            </a:r>
            <a:br>
              <a:rPr sz="20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94E1-96EC-4F72-9E96-4CB5F9DCDE7B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70" name="Схема 73" descr=""/>
          <p:cNvPicPr/>
          <p:nvPr/>
        </p:nvPicPr>
        <p:blipFill>
          <a:blip r:embed="rId2"/>
          <a:stretch/>
        </p:blipFill>
        <p:spPr>
          <a:xfrm>
            <a:off x="298440" y="2000160"/>
            <a:ext cx="8967960" cy="46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4200" y="1422000"/>
            <a:ext cx="794376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f0f"/>
                </a:solidFill>
                <a:latin typeface="Arial"/>
                <a:ea typeface="Arial"/>
              </a:rPr>
              <a:t>Международные источники трудового права</a:t>
            </a:r>
            <a:br>
              <a:rPr sz="2000"/>
            </a:b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9D8F-7D3C-4A86-AE50-E3F83090FD3A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2520" y="2259000"/>
            <a:ext cx="826128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Т №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29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от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10.06.1930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инудительном или обязательном труде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онвенция МОТ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105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25.06.1957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дотвращении принудительного труда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онвенция МОТ № 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87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09.07.1948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свободах профсоюзов и защиты профсоюзного права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онвенция МОТ №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98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01.07.1949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именении правовых и организационных   принципов в сфере коллективных договоренностей;</a:t>
            </a:r>
            <a:endParaRPr b="0" lang="en-US" sz="15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онвенция МОТ № 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111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04.06.1958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дискриминации в сфере трудовой силы и практики профессии;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онвенция МОТ № 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от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29.06.1951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равенстве оплаты мужской и женской трудовой силы в отношении равного труда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онвенция МОТ № 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138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от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 06.07.1973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о минимальном возрасте при трудоустройстве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онвенция МОТ № 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182/1999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дотвращении тяжелых форм труда детей</a:t>
            </a: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1555920"/>
            <a:ext cx="7943760" cy="9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f0f"/>
                </a:solidFill>
                <a:latin typeface="Arial"/>
                <a:ea typeface="Arial"/>
              </a:rPr>
              <a:t>Основные акты регламентирующие деятельность менеджмента человеческих ресурсов</a:t>
            </a:r>
            <a:br>
              <a:rPr sz="20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0145-D415-44E4-A562-342A632FCD7F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6160" y="2544840"/>
            <a:ext cx="81961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титуция Республики Молдова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удовой Кодекс Республики Молдова;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 №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 09.02.2006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гарантировании равенства шансов между женщинами и мужчинами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 № 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60-XIX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03. 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201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социальном внедрении лиц с ограниченными возможностями;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Закон № 186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XV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т 10.07.2008 об охране здоровья и безопасности труда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 №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 847-XV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 1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02.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 оплате труда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 №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 102-X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03.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занятости трудовой силы и социальной защиты лиц находящихся в поиске рабочего места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000" y="1506600"/>
            <a:ext cx="84484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f0f"/>
                </a:solidFill>
                <a:latin typeface="Arial"/>
                <a:ea typeface="Arial"/>
              </a:rPr>
              <a:t>Сфера действия источников Трудового права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7EC6-BA56-45BE-BD0E-B3594E4EEA3A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68280" y="2144880"/>
            <a:ext cx="832320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8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grpSp>
        <p:nvGrpSpPr>
          <p:cNvPr id="83" name="Полотно 68"/>
          <p:cNvGrpSpPr/>
          <p:nvPr/>
        </p:nvGrpSpPr>
        <p:grpSpPr>
          <a:xfrm>
            <a:off x="654120" y="2295360"/>
            <a:ext cx="7769160" cy="4286520"/>
            <a:chOff x="654120" y="2295360"/>
            <a:chExt cx="7769160" cy="4286520"/>
          </a:xfrm>
        </p:grpSpPr>
        <p:sp>
          <p:nvSpPr>
            <p:cNvPr id="84" name="Rectangle 10"/>
            <p:cNvSpPr/>
            <p:nvPr/>
          </p:nvSpPr>
          <p:spPr>
            <a:xfrm>
              <a:off x="1757160" y="2936520"/>
              <a:ext cx="6666120" cy="3645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679320" y="2560320"/>
              <a:ext cx="4008240" cy="3191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654120" y="2525400"/>
              <a:ext cx="3549600" cy="28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1138320" y="2693880"/>
              <a:ext cx="3090960" cy="2552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1366920" y="2854080"/>
              <a:ext cx="2633760" cy="2233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89" name="Oval 15"/>
            <p:cNvSpPr/>
            <p:nvPr/>
          </p:nvSpPr>
          <p:spPr>
            <a:xfrm>
              <a:off x="1595520" y="3012840"/>
              <a:ext cx="2176200" cy="1914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0" name="Oval 16"/>
            <p:cNvSpPr/>
            <p:nvPr/>
          </p:nvSpPr>
          <p:spPr>
            <a:xfrm>
              <a:off x="1824120" y="3171600"/>
              <a:ext cx="1717560" cy="1595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1" name="Oval 17"/>
            <p:cNvSpPr/>
            <p:nvPr/>
          </p:nvSpPr>
          <p:spPr>
            <a:xfrm>
              <a:off x="2054160" y="3331800"/>
              <a:ext cx="1258920" cy="1276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2" name="Oval 18"/>
            <p:cNvSpPr/>
            <p:nvPr/>
          </p:nvSpPr>
          <p:spPr>
            <a:xfrm>
              <a:off x="2282760" y="3492360"/>
              <a:ext cx="801360" cy="955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3" name="Oval 19"/>
            <p:cNvSpPr/>
            <p:nvPr/>
          </p:nvSpPr>
          <p:spPr>
            <a:xfrm>
              <a:off x="2397240" y="3651120"/>
              <a:ext cx="572760" cy="637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4" name="Oval 20"/>
            <p:cNvSpPr/>
            <p:nvPr/>
          </p:nvSpPr>
          <p:spPr>
            <a:xfrm>
              <a:off x="2511360" y="3730320"/>
              <a:ext cx="342720" cy="47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5" name="Oval 21"/>
            <p:cNvSpPr/>
            <p:nvPr/>
          </p:nvSpPr>
          <p:spPr>
            <a:xfrm>
              <a:off x="2625840" y="3970080"/>
              <a:ext cx="114120" cy="8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6" name="Line 157"/>
            <p:cNvSpPr/>
            <p:nvPr/>
          </p:nvSpPr>
          <p:spPr>
            <a:xfrm flipH="1">
              <a:off x="2739960" y="2534760"/>
              <a:ext cx="1606320" cy="143496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7" name="Text Box 158"/>
            <p:cNvSpPr/>
            <p:nvPr/>
          </p:nvSpPr>
          <p:spPr>
            <a:xfrm>
              <a:off x="4367160" y="2295360"/>
              <a:ext cx="2977920" cy="239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дивидуальный трудовой договор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8" name="Line 159"/>
            <p:cNvSpPr/>
            <p:nvPr/>
          </p:nvSpPr>
          <p:spPr>
            <a:xfrm flipH="1">
              <a:off x="2854080" y="2854080"/>
              <a:ext cx="1603080" cy="119700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99" name="Text Box 160"/>
            <p:cNvSpPr/>
            <p:nvPr/>
          </p:nvSpPr>
          <p:spPr>
            <a:xfrm>
              <a:off x="4457880" y="2593800"/>
              <a:ext cx="2863800" cy="239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лективный трудовой договор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0" name="Line 161"/>
            <p:cNvSpPr/>
            <p:nvPr/>
          </p:nvSpPr>
          <p:spPr>
            <a:xfrm flipH="1">
              <a:off x="2970000" y="3092400"/>
              <a:ext cx="1601640" cy="95868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1" name="Text Box 162"/>
            <p:cNvSpPr/>
            <p:nvPr/>
          </p:nvSpPr>
          <p:spPr>
            <a:xfrm>
              <a:off x="4594320" y="2887560"/>
              <a:ext cx="2751120" cy="3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лективная территориальная конвенция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2" name="Line 163"/>
            <p:cNvSpPr/>
            <p:nvPr/>
          </p:nvSpPr>
          <p:spPr>
            <a:xfrm flipH="1">
              <a:off x="3084120" y="3492360"/>
              <a:ext cx="1603080" cy="63792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3" name="Text Box 164"/>
            <p:cNvSpPr/>
            <p:nvPr/>
          </p:nvSpPr>
          <p:spPr>
            <a:xfrm>
              <a:off x="4687920" y="3306600"/>
              <a:ext cx="263376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лективная конвенция на уровне отрасли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4" name="Line 165"/>
            <p:cNvSpPr/>
            <p:nvPr/>
          </p:nvSpPr>
          <p:spPr>
            <a:xfrm flipH="1">
              <a:off x="3198600" y="3970080"/>
              <a:ext cx="1717560" cy="31896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5" name="Text Box 166"/>
            <p:cNvSpPr/>
            <p:nvPr/>
          </p:nvSpPr>
          <p:spPr>
            <a:xfrm>
              <a:off x="4881600" y="3703680"/>
              <a:ext cx="2428920" cy="38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лективная конвенция национального уровня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6" name="Line 167"/>
            <p:cNvSpPr/>
            <p:nvPr/>
          </p:nvSpPr>
          <p:spPr>
            <a:xfrm flipH="1">
              <a:off x="3313080" y="4370400"/>
              <a:ext cx="1488960" cy="15696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7" name="Text Box 168"/>
            <p:cNvSpPr/>
            <p:nvPr/>
          </p:nvSpPr>
          <p:spPr>
            <a:xfrm>
              <a:off x="4767480" y="4079880"/>
              <a:ext cx="2543040" cy="41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ты органов локального управления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8" name="Line 169"/>
            <p:cNvSpPr/>
            <p:nvPr/>
          </p:nvSpPr>
          <p:spPr>
            <a:xfrm flipH="1">
              <a:off x="3427200" y="4687920"/>
              <a:ext cx="1260360" cy="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09" name="Text Box 170"/>
            <p:cNvSpPr/>
            <p:nvPr/>
          </p:nvSpPr>
          <p:spPr>
            <a:xfrm>
              <a:off x="4710240" y="4516560"/>
              <a:ext cx="2773440" cy="596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ты центральных специализированных  органов публичного управления 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0" name="Line 171"/>
            <p:cNvSpPr/>
            <p:nvPr/>
          </p:nvSpPr>
          <p:spPr>
            <a:xfrm flipH="1" flipV="1">
              <a:off x="3541680" y="4846320"/>
              <a:ext cx="1030320" cy="16020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1" name="Text Box 172"/>
            <p:cNvSpPr/>
            <p:nvPr/>
          </p:nvSpPr>
          <p:spPr>
            <a:xfrm>
              <a:off x="4710240" y="5118120"/>
              <a:ext cx="2749320" cy="239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мативные акты подчиняющиеся законам 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2" name="Line 173"/>
            <p:cNvSpPr/>
            <p:nvPr/>
          </p:nvSpPr>
          <p:spPr>
            <a:xfrm flipH="1" flipV="1">
              <a:off x="3541680" y="5006880"/>
              <a:ext cx="1030320" cy="31896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3" name="Text Box 174"/>
            <p:cNvSpPr/>
            <p:nvPr/>
          </p:nvSpPr>
          <p:spPr>
            <a:xfrm>
              <a:off x="4594320" y="5376960"/>
              <a:ext cx="2749320" cy="239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динарные законы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4" name="Line 175"/>
            <p:cNvSpPr/>
            <p:nvPr/>
          </p:nvSpPr>
          <p:spPr>
            <a:xfrm flipH="1" flipV="1">
              <a:off x="3541680" y="5246280"/>
              <a:ext cx="1030320" cy="47916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5" name="Text Box 176"/>
            <p:cNvSpPr/>
            <p:nvPr/>
          </p:nvSpPr>
          <p:spPr>
            <a:xfrm>
              <a:off x="4572000" y="5646960"/>
              <a:ext cx="2749320" cy="236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ческие законы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6" name="Line 177"/>
            <p:cNvSpPr/>
            <p:nvPr/>
          </p:nvSpPr>
          <p:spPr>
            <a:xfrm flipH="1" flipV="1">
              <a:off x="3312720" y="5486400"/>
              <a:ext cx="1258920" cy="557280"/>
            </a:xfrm>
            <a:prstGeom prst="line">
              <a:avLst/>
            </a:prstGeom>
            <a:ln w="25560">
              <a:solidFill>
                <a:srgbClr val="4b85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7" name="Text Box 178"/>
            <p:cNvSpPr/>
            <p:nvPr/>
          </p:nvSpPr>
          <p:spPr>
            <a:xfrm>
              <a:off x="4572000" y="5962680"/>
              <a:ext cx="2749320" cy="241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85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ституция</a:t>
              </a:r>
              <a:endParaRPr b="1" lang="en-US" sz="1200" spc="-1" strike="noStrike">
                <a:solidFill>
                  <a:srgbClr val="999999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1FF3-1E9B-4437-83EE-C5288F6BDA9F}" type="datetime">
              <a:rPr b="0" lang="en-GB" sz="1000" spc="-1" strike="noStrike">
                <a:solidFill>
                  <a:srgbClr val="6e6452"/>
                </a:solidFill>
                <a:latin typeface="Arial Narrow"/>
                <a:ea typeface="Arial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1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70" descr=""/>
          <p:cNvPicPr/>
          <p:nvPr/>
        </p:nvPicPr>
        <p:blipFill>
          <a:blip r:embed="rId2"/>
          <a:stretch/>
        </p:blipFill>
        <p:spPr>
          <a:xfrm>
            <a:off x="79200" y="1468440"/>
            <a:ext cx="8985600" cy="506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4:56Z</dcterms:created>
  <dc:creator>GIZ-Design</dc:creator>
  <dc:description/>
  <cp:keywords>GIZ-Leerfolie</cp:keywords>
  <dc:language>en-US</dc:language>
  <cp:lastModifiedBy>Alexandru</cp:lastModifiedBy>
  <cp:lastPrinted>2012-07-19T10:16:59Z</cp:lastPrinted>
  <dcterms:modified xsi:type="dcterms:W3CDTF">2017-07-09T18:04:35Z</dcterms:modified>
  <cp:revision>180</cp:revision>
  <dc:subject/>
  <dc:title>PowerPoint-Präsentation</dc:title>
</cp:coreProperties>
</file>