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67C-5AF4-4C8A-A349-85020596025B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C29D-15D2-45BB-BBAF-22ADBCBF02DA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7C95-95E7-4E77-8F12-16E4676F5C4E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B0A6-1824-4FB4-8396-1E265F0827C7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6F91-C1B6-41A9-8A86-B7DEE988C72A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C130-D18B-41C8-8B61-6763AE8B506D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E5CF-C2B6-46F7-B0C6-6D5C811FF788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08520" indent="-3085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1" marL="618480" indent="-3085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2" marL="928440" indent="-3085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3" marL="1238400" indent="-3085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4" marL="1546560" indent="-30816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5" marL="1546560" indent="-3081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6" marL="1546560" indent="-3081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789DAAFB-7620-4BA0-A6D1-BA974B19FB54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98E2-52BC-4A0E-B54E-AE44FBA637D7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sc.gov.md/" TargetMode="External"/><Relationship Id="rId2" Type="http://schemas.openxmlformats.org/officeDocument/2006/relationships/hyperlink" Target="http://www.rsc.gov.md/" TargetMode="External"/><Relationship Id="rId3" Type="http://schemas.openxmlformats.org/officeDocument/2006/relationships/hyperlink" Target="http://www.ism.gov.md/" TargetMode="External"/><Relationship Id="rId4" Type="http://schemas.openxmlformats.org/officeDocument/2006/relationships/hyperlink" Target="http://www.controale.gov.md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iz.de/" TargetMode="External"/><Relationship Id="rId2" Type="http://schemas.openxmlformats.org/officeDocument/2006/relationships/hyperlink" Target="http://www.serviciilocale.md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480" y="1562040"/>
            <a:ext cx="8839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ro-RO" sz="2400" spc="-1" strike="noStrike">
                <a:solidFill>
                  <a:srgbClr val="002060"/>
                </a:solidFill>
                <a:latin typeface="Arial"/>
              </a:rPr>
              <a:t>urs de instruire pentru angajaţii operatorilor „Apă-Canal”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ulul 12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ul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resurselor umane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din cadrul operatorilor serviciilor de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limentare cu apă și canalizare</a:t>
            </a:r>
            <a:br>
              <a:rPr sz="2400"/>
            </a:br>
            <a:br>
              <a:rPr sz="2400"/>
            </a:b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esiunea 1</a:t>
            </a:r>
            <a:br>
              <a:rPr sz="2000"/>
            </a:b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uprevegherea și controlul asupra respectării legislației muncii. </a:t>
            </a:r>
            <a:br>
              <a:rPr sz="2000"/>
            </a:br>
            <a:br>
              <a:rPr sz="2000"/>
            </a:b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Bînzari V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alie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Inspector principal, Inspectoratul de Stat al Muncii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27-28-29 iunie 201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hișinău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țiunile organului de control și măsurile aplicate în cadrul controlului sînt raportate la următoarele niveluri de încălcări ale legislație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nor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v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arte grav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9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4200" y="1440000"/>
            <a:ext cx="79423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Legea nr.131-XIX din 08.06.2012 privind controlul de stat asupra activității de întreprinzător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4b859f"/>
                </a:solidFill>
                <a:latin typeface="Arial"/>
                <a:ea typeface="Times New Roman"/>
              </a:rPr>
              <a:t>În cazul încălcărilor minor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 fi emise doar prescripții în baza cărora se recomandă și se indică modalități de înlăturare a încălcărilor, însă nu pot fi aplicate sancțiuni prevăzute de legea contravențională sau altă lege și nu pot fi aplicate măsuri restrictive. 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4b859f"/>
                </a:solidFill>
                <a:latin typeface="Arial"/>
                <a:ea typeface="Times New Roman"/>
              </a:rPr>
              <a:t>În cazul încălcărilor grav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pe lîngă recomandări de înlăturare și oferire a termenului în care se vor înlătura încălcările, pot fi aplicate sancțiuni, însă nu pot fi aplicate măsuri restrictive. 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4b859f"/>
                </a:solidFill>
                <a:latin typeface="Arial"/>
                <a:ea typeface="Times New Roman"/>
              </a:rPr>
              <a:t>În cazul încălcărilor foarte grav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indică modalitățile de înlăturare, se aplică sancțiuni și/sau măsuri restrictive în conformitate cu prevederile legii, după caz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0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4200" y="1440000"/>
            <a:ext cx="79423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Legea nr.131-XIX din 08.06.2012 privind controlul de stat asupra activității de întreprinzător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260172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În sensul prezentei Legi percepem 2 tipuri de controalelor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Control planificat;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Control inopinat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0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4200" y="1440000"/>
            <a:ext cx="79423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Legea nr.131-XIX din 08.06.2012 privind controlul de stat asupra activității de întreprinzător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44120" y="1555920"/>
            <a:ext cx="77756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ntrolul planific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nul și același organ de control nu este în drept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ă efectueze controlul planificat mai mult decît o dată într-un an calendaristic asupra uneia și aceleiași persoan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rganul de control întocmeşte anual planul controalelor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entru anul următor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</a:t>
            </a:r>
            <a:r>
              <a:rPr b="1" lang="vi-VN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ganul de control va expedia persoanei supuse controlului un exemplar al delegației de control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tfel încît între momentul primirii efective a exemplarului şi momentul începerii controlului să treacă cel puţin 5 zile lucrătoare, dar nu mai mult de 15 zile lucrătoare. 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0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600" y="1555920"/>
            <a:ext cx="777564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Controlul inopinat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ul de control poate decide efectuarea controalelor inopinate asupra unei persoane, în  baza evaluării riscurilor, precum şi poate emite inspectorului delegaţie de control, doar în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dițiile prevăzute de art. 19 din Leage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În cadrul controlului inopinat pot fi supuse controlului doar aspectele care au servit ca temei pentru inițierea controlului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emei pentru inițierea controlului inopinat poate servi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vi-VN" sz="2200" spc="-1" strike="noStrike">
                <a:solidFill>
                  <a:srgbClr val="4b859f"/>
                </a:solidFill>
                <a:latin typeface="Arial"/>
                <a:ea typeface="Times New Roman"/>
              </a:rPr>
              <a:t>solicit</a:t>
            </a:r>
            <a:r>
              <a:rPr b="1" lang="ro-RO" sz="2200" spc="-1" strike="noStrike">
                <a:solidFill>
                  <a:srgbClr val="4b859f"/>
                </a:solidFill>
                <a:latin typeface="Arial"/>
                <a:ea typeface="Times New Roman"/>
              </a:rPr>
              <a:t>area</a:t>
            </a:r>
            <a:r>
              <a:rPr b="1" lang="vi-VN" sz="2200" spc="-1" strike="noStrike">
                <a:solidFill>
                  <a:srgbClr val="4b859f"/>
                </a:solidFill>
                <a:latin typeface="Arial"/>
                <a:ea typeface="Times New Roman"/>
              </a:rPr>
              <a:t> direct</a:t>
            </a:r>
            <a:r>
              <a:rPr b="1" lang="ro-RO" sz="2200" spc="-1" strike="noStrike">
                <a:solidFill>
                  <a:srgbClr val="4b859f"/>
                </a:solidFill>
                <a:latin typeface="Arial"/>
                <a:ea typeface="Times New Roman"/>
              </a:rPr>
              <a:t>ă</a:t>
            </a:r>
            <a:r>
              <a:rPr b="1" lang="vi-VN" sz="2200" spc="-1" strike="noStrike">
                <a:solidFill>
                  <a:srgbClr val="4b859f"/>
                </a:solidFill>
                <a:latin typeface="Arial"/>
                <a:ea typeface="Times New Roman"/>
              </a:rPr>
              <a:t> din partea persoanei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re urmează a fi supusă controlulu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1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3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711360" y="1603440"/>
            <a:ext cx="777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ACTIVITATEA ÎN GRUP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1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1096920" y="2970360"/>
            <a:ext cx="743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uneţi 4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diţii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ând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spectorul are dreptul să înceapă controlul în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ţie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4b859f"/>
                </a:solidFill>
                <a:latin typeface="Arial"/>
                <a:ea typeface="Times New Roman"/>
              </a:rPr>
              <a:t>Timp – 10 min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89120" y="1555920"/>
            <a:ext cx="77752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Procedura de control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ul se efectuează în </a:t>
            </a:r>
            <a:r>
              <a:rPr b="1" lang="vi-VN" sz="2000" spc="-1" strike="noStrike">
                <a:solidFill>
                  <a:srgbClr val="4b859f"/>
                </a:solidFill>
                <a:latin typeface="Arial"/>
                <a:ea typeface="Times New Roman"/>
              </a:rPr>
              <a:t>temeiul delegației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mnate de conducătorul organului abilitat cu funcţii de control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pectorul are </a:t>
            </a:r>
            <a:r>
              <a:rPr b="1" lang="vi-VN" sz="2000" spc="-1" strike="noStrike">
                <a:solidFill>
                  <a:srgbClr val="4b859f"/>
                </a:solidFill>
                <a:latin typeface="Arial"/>
                <a:ea typeface="Times New Roman"/>
              </a:rPr>
              <a:t>dreptul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ă înceapă controlul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în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rmătoarele condiţii: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zentarea legitimaţiei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înmînarea exemplarului delegaţiei de control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ţa probelor care demonstrează prezenţa unuia sau mai multor temeiur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în cazul controalelor inopinate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irarea termenului de notificare, în cazul controalelor planificate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înregistrarea delegației de control în Registrul de stat al controalelor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2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7520" y="1555560"/>
            <a:ext cx="77770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Durata controlului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ferent de temeiul invocat şi de tipul controlului, acesta nu poate fi efectuat şi delegaţia de control nu mai este valabilă la expirarea a 5 zile calendaristic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În cazul controalelor inopinate, termenul de 5 zile poate fi prelungit cu încă 5 zile de către conducătorul organului de control în baza unei decizii motivate, care poate fi contestată de către persoana supusă controlului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a de control se încheie şi se întocmeşte procesul-verbal de control dacă este evident că posibilităţile inspectorului de a exercita controlul au fost epuizate, chiar dacă termenul stabilit în delegaţie încă nu a expirat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2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5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731880" y="160668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ÎNTREBAREA 3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1069920" y="2471760"/>
            <a:ext cx="743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e cunoaşteţi despre Inspectoratul de Stat al  Muncii 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260880" y="4238640"/>
            <a:ext cx="38480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482840"/>
            <a:ext cx="8064720" cy="7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Legea nr.140-XV din 10.05.2001 privind </a:t>
            </a:r>
            <a:br>
              <a:rPr sz="2400"/>
            </a:br>
            <a:r>
              <a:rPr b="1" lang="en-US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Inspectoratul de Stat al Muncii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1360" y="2461680"/>
            <a:ext cx="777528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ul de stat asupra respectării actelor legislative şi a altor acte normative din domeniul muncii, securităţii şi sănătăţii în muncă are drept scop: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ea modului în care angajatorul respectă legislaţia muncii, securităţii şi sănătăţii în muncă;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cordarea ajutorului consultativ şi metodologic angajatorului în identificarea căilor de aplicare eficientă a legislaţiei şi de prevenire a încălcărilor, precum şi de lichidare a încălcărilor în cazul constatării acestora;</a:t>
            </a: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ancţionarea încălcărilor constatate</a:t>
            </a:r>
            <a:r>
              <a:rPr b="1" lang="vi-VN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3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554040" y="179388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Obiectivul Sesiunii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54040" y="2400480"/>
            <a:ext cx="82040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arizarea cu cadrul legal de s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praveghere și control asupra respectării legislației munci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cadrului legal privind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ul de stat asupra activității de întreprinzăt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cadrului legal privind Inspectoratul de Stat al Muncii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9840" y="2304720"/>
            <a:ext cx="77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spectorul de muncă verifică respectarea prevederilor legale referitoare la: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ul individual de muncă şi contractul colectiv de muncă;</a:t>
            </a:r>
            <a:br>
              <a:rPr sz="1900"/>
            </a:b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timpul de muncă şi timpul de odihnă;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tribuirea muncii;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normele de muncă;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garanţiile şi compensaţiile ce decurg din relaţiile de muncă;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disciplina muncii;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area, păstrarea şi evidenţa carnetului de muncă; 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>
              <a:buClr>
                <a:srgbClr val="c80f0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arităţile de reglementare a muncii unor categorii de</a:t>
            </a:r>
            <a:r>
              <a:rPr b="1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alariaţi;</a:t>
            </a:r>
            <a:br>
              <a:rPr sz="1900"/>
            </a:br>
            <a:r>
              <a:rPr b="1" lang="vi-VN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3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495360" y="1409760"/>
            <a:ext cx="810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c80f0f"/>
                </a:solidFill>
                <a:latin typeface="Arial"/>
                <a:ea typeface="Times New Roman"/>
              </a:rPr>
              <a:t>Legea nr.140-XV din 10.05.2001 privind 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0f0f"/>
                </a:solidFill>
                <a:latin typeface="Arial"/>
                <a:ea typeface="Times New Roman"/>
              </a:rPr>
              <a:t>Inspectoratul de Stat al Muncii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44400" y="1458720"/>
            <a:ext cx="77774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ăspunderea materială potrivit legislaţiei muncii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aptarea rezonabilă a locului de muncă pentru persoanele cu dizabilităţ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rea sau rezervarea locurilor de muncă şi ocuparea/angajarea în muncă a persoanelor cu dizabilităţi în conformitate cu prevederile legislaţiei în vigoare;</a:t>
            </a:r>
            <a:r>
              <a:rPr b="0" i="1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ezentarea în adresa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OFM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de către angajatori, a rapoartelor despre locurile create şi/sau rezervate în cadrul instituţiilor sale pentru persoanele cu dizabilităţi, precum şi despre ocuparea acestor locuri de către persoanele cu dizabilităţi, în conformitate cu prevederile legislaţiei în vigoare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INFORMAȚII UTIL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6360" y="2328480"/>
            <a:ext cx="8124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rsc.gov.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Registrul de stat al controalelor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ism.gov.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Inspectoratul de Stat al Muncii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.controale.gov.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Registrul de stat al controalelor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a de verificare a priorităţilo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 care inspectorii de muncă trebuie să le elucidez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în cadrul vizitelor de contro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4" name="Picture 2" descr="D:\docs\desktop\ELdZ_Mol_cmyk_rum.jpg"/>
          <p:cNvPicPr/>
          <p:nvPr/>
        </p:nvPicPr>
        <p:blipFill>
          <a:blip r:embed="rId5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Runda întrebări răspunsuri 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Datele de contact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Bînzari Vitali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nzarivitalie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l. mob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816991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80f0f"/>
                </a:solidFill>
                <a:latin typeface="Arial"/>
              </a:rPr>
              <a:t>MULŢUMESC PENTRU ATENŢIE !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Datele de contact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Bînzari Vitali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nzarivitalie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l. mob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816991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4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5" name="Inhaltsplatzhalter 7"/>
          <p:cNvSpPr/>
          <p:nvPr/>
        </p:nvSpPr>
        <p:spPr>
          <a:xfrm>
            <a:off x="684360" y="2108160"/>
            <a:ext cx="44812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În calitate de entitate federală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GIZ sprijină atingerea obiectivelor Guvernului Germaniei de cooperare internațională și dezvoltare durabilă.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534b3e"/>
                </a:solidFill>
                <a:latin typeface="Arial"/>
              </a:rPr>
              <a:t>Publicat de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Deutsche </a:t>
            </a:r>
            <a:r>
              <a:rPr b="0" lang="de-DE" sz="1000" spc="-1" strike="noStrike">
                <a:solidFill>
                  <a:srgbClr val="534b3e"/>
                </a:solidFill>
                <a:latin typeface="Arial"/>
              </a:rPr>
              <a:t>Gesellschaft für</a:t>
            </a:r>
            <a:br>
              <a:rPr sz="1000"/>
            </a:br>
            <a:r>
              <a:rPr b="0" lang="de-DE" sz="1000" spc="-1" strike="noStrike">
                <a:solidFill>
                  <a:srgbClr val="534b3e"/>
                </a:solidFill>
                <a:latin typeface="Arial"/>
              </a:rPr>
              <a:t>Internationale Zusammenarbeit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(GIZ) GmbH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Oficii înregistrat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Bonn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ș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 Eschborn, German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ia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Proiectul ”Modernizarea serviciilor publice locale în Republica Moldova”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Chișinău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str.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Bernardazzi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66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T  + 373 22 22-83-19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F  + 373 22 00-02-38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giz.d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serviciilocale.md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6" name="Inhaltsplatzhalter 8"/>
          <p:cNvSpPr/>
          <p:nvPr/>
        </p:nvSpPr>
        <p:spPr>
          <a:xfrm>
            <a:off x="5467320" y="2108160"/>
            <a:ext cx="3005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34b3e"/>
                </a:solidFill>
                <a:latin typeface="Arial"/>
              </a:rPr>
              <a:t>Autor</a:t>
            </a:r>
            <a:r>
              <a:rPr b="1" lang="ro-RO" sz="1000" spc="-1" strike="noStrike">
                <a:solidFill>
                  <a:srgbClr val="534b3e"/>
                </a:solidFill>
                <a:latin typeface="Arial"/>
              </a:rPr>
              <a:t>i Bînzari Vitalie</a:t>
            </a:r>
            <a:br>
              <a:rPr sz="1000"/>
            </a:b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7" name="Textfeld 9"/>
          <p:cNvSpPr/>
          <p:nvPr/>
        </p:nvSpPr>
        <p:spPr>
          <a:xfrm>
            <a:off x="495360" y="471816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</a:rPr>
              <a:t>Proiect cofinanțat de 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8" name="Picture 2" descr="D:\docs\desktop\ELdZ_Mol_cmyk_rum.jpg"/>
          <p:cNvPicPr/>
          <p:nvPr/>
        </p:nvPicPr>
        <p:blipFill>
          <a:blip r:embed="rId3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5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0" name="Textfeld 9"/>
          <p:cNvSpPr/>
          <p:nvPr/>
        </p:nvSpPr>
        <p:spPr>
          <a:xfrm>
            <a:off x="5556240" y="390852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</a:rPr>
              <a:t>În cooperare cu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1" name="Picture 2" descr="2"/>
          <p:cNvPicPr/>
          <p:nvPr/>
        </p:nvPicPr>
        <p:blipFill>
          <a:blip r:embed="rId4"/>
          <a:stretch/>
        </p:blipFill>
        <p:spPr>
          <a:xfrm>
            <a:off x="5738760" y="598176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5"/>
          <a:srcRect l="58955" t="9308" r="0" b="18240"/>
          <a:stretch/>
        </p:blipFill>
        <p:spPr>
          <a:xfrm>
            <a:off x="5645160" y="4368960"/>
            <a:ext cx="1569960" cy="64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6"/>
          <a:stretch/>
        </p:blipFill>
        <p:spPr>
          <a:xfrm>
            <a:off x="2511360" y="5305320"/>
            <a:ext cx="1252440" cy="911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7"/>
          <a:stretch/>
        </p:blipFill>
        <p:spPr>
          <a:xfrm>
            <a:off x="7419960" y="41562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statia2\Desktop\SDC-Rom_CMYK_hoch_pos.jpg"/>
          <p:cNvPicPr/>
          <p:nvPr/>
        </p:nvPicPr>
        <p:blipFill>
          <a:blip r:embed="rId8"/>
          <a:stretch/>
        </p:blipFill>
        <p:spPr>
          <a:xfrm>
            <a:off x="260280" y="5214960"/>
            <a:ext cx="1984320" cy="115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C:\Users\Stela\Desktop\Logou nou UTM\Logo_inscript_horizontal (1).png"/>
          <p:cNvPicPr/>
          <p:nvPr/>
        </p:nvPicPr>
        <p:blipFill>
          <a:blip r:embed="rId9"/>
          <a:stretch/>
        </p:blipFill>
        <p:spPr>
          <a:xfrm>
            <a:off x="5592600" y="5167440"/>
            <a:ext cx="2637000" cy="65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8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70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15" descr="Gopa Log MS cmyk RZ"/>
          <p:cNvPicPr/>
          <p:nvPr/>
        </p:nvPicPr>
        <p:blipFill>
          <a:blip r:embed="rId2"/>
          <a:stretch/>
        </p:blipFill>
        <p:spPr>
          <a:xfrm>
            <a:off x="1405080" y="2792520"/>
            <a:ext cx="282708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5"/>
          <p:cNvSpPr/>
          <p:nvPr/>
        </p:nvSpPr>
        <p:spPr>
          <a:xfrm>
            <a:off x="5396040" y="2427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n numel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19" descr=""/>
          <p:cNvPicPr/>
          <p:nvPr/>
        </p:nvPicPr>
        <p:blipFill>
          <a:blip r:embed="rId3"/>
          <a:stretch/>
        </p:blipFill>
        <p:spPr>
          <a:xfrm>
            <a:off x="5396040" y="2792520"/>
            <a:ext cx="34002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54040" y="155592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Cuvintele cheie a  Sesiunii: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54040" y="2116080"/>
            <a:ext cx="7612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planificat 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inopinat     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ţie de control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ncțiuni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.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731880" y="160668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ÎNTREBAREA 1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1069920" y="2471760"/>
            <a:ext cx="743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e reglementări cunoaşteţi privind  s</a:t>
            </a: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pravegherea și controlul asupra respectării legislației muncii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60880" y="4238640"/>
            <a:ext cx="38480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55920"/>
            <a:ext cx="78184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80f0f"/>
                </a:solidFill>
                <a:latin typeface="Arial"/>
                <a:ea typeface="Arial"/>
              </a:rPr>
              <a:t>SUPRAVEGHEREA ȘI CONTROLUL ASUPRA RESPECTĂRII LEGISLAȚIEI MUNCII</a:t>
            </a:r>
            <a:br>
              <a:rPr sz="2000"/>
            </a:b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04880" y="2424240"/>
            <a:ext cx="804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Times New Roman"/>
              </a:rPr>
              <a:t>Cadrul legal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ția OIM 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nr. 81 – privind inspecţia muncii in industrie si comerţ,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Geneva, 11.07.1947 , ratificată prin Legea nr. 593-XIII din 26.09.1995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ția OIM 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nr. 129 – privind inspecţia muncii in agricultură,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Geneva,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25.06.1969, ratificată prin Legea nr. 1330-XIII din 26.09.1997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egii nr.131-XIX din 08.06.2012 privind controlul de stat asupra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ății de întreprinzător;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egea nr.140-XV din 10.05.2001 privin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spectoratul de Stat al Muncii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mentul de organizare şi funcţionare a Inspectoratului de Stat al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uncii, aprobat prin Hotărîrea Guvernului Republicii Moldova nr. 788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din 07 octombrie 2013.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731880" y="160668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ÎNTREBAREA 2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1069920" y="2471760"/>
            <a:ext cx="743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 ce este nevoie de realizat</a:t>
            </a: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olul asupra respectării legislației muncii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260880" y="4238640"/>
            <a:ext cx="38480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0800" y="1788840"/>
            <a:ext cx="78534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Legea nr.131-XIX din 08.06.2012 privind controlul de stat asupra activității de întreprinzător</a:t>
            </a:r>
            <a:br>
              <a:rPr sz="24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93440" y="2502000"/>
            <a:ext cx="790884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copul prezentei legi constă în </a:t>
            </a:r>
            <a:r>
              <a:rPr b="1" lang="vi-VN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nsolidarea cadrului juridic şi instituţional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în domeniul efectuării controlului de stat asupra activităţii de întreprinzăto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8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320" y="1482840"/>
            <a:ext cx="794196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Legea nr.131-XIX din 08.06.2012 privind controlul de stat asupra activității de întreprinzător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525760"/>
            <a:ext cx="7775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900" spc="-1" strike="noStrike">
                <a:solidFill>
                  <a:srgbClr val="4b859f"/>
                </a:solidFill>
                <a:latin typeface="Arial"/>
                <a:ea typeface="Times New Roman"/>
              </a:rPr>
              <a:t>Noţiuni principale</a:t>
            </a:r>
            <a:r>
              <a:rPr b="1" lang="ro-RO" sz="1900" spc="-1" strike="noStrike">
                <a:solidFill>
                  <a:srgbClr val="4b859f"/>
                </a:solidFill>
                <a:latin typeface="Arial"/>
                <a:ea typeface="Times New Roman"/>
              </a:rPr>
              <a:t>:  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</a:t>
            </a:r>
            <a:r>
              <a:rPr b="0" i="1" lang="vi-VN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– totalitatea acţiunilor de verificare a respectării de către persoanele supuse controlului a prevederilor legislaţiei; 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comun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– control la care participă simultan controlori din partea a două sau mai multe organe de control; 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inopinat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– control care nu este inclus în planul anual al controalelor și care se efectuează cu scopul verificării respectării cerințelor stabilite de legislație; 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planificat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– control efectuat conform planului anual al controalelor, în baza analizei și evaluării conform criteriilor de risc; 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ţie de control</a:t>
            </a:r>
            <a:r>
              <a:rPr b="0" i="1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– act în baza căruia se inițiază controlul planificat și/sau inopinat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8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000" y="2447640"/>
            <a:ext cx="8018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4b859f"/>
                </a:solidFill>
                <a:latin typeface="Arial"/>
                <a:ea typeface="Times New Roman"/>
              </a:rPr>
              <a:t>E bine să cunoaștem :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alele planificate efectuate pe parcursul primilor 3 ani de activitate de la data înregistrării de stat a persoanei care practică activitate de întreprinzător au caracter consultativ și nu se vor solda cu sancțiuni sau măsuri restrictive, cu excepția cazurilor cînd în cadrul controlului se depistează încălcări </a:t>
            </a:r>
            <a:r>
              <a:rPr b="0" lang="vi-VN" sz="1900" spc="-1" strike="noStrike">
                <a:solidFill>
                  <a:srgbClr val="c80f0f"/>
                </a:solidFill>
                <a:latin typeface="Arial"/>
                <a:ea typeface="Times New Roman"/>
              </a:rPr>
              <a:t>foarte grave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 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spectorul exercită controlul asupra persoanei supuse controlului doar în limitele competenţei atribuite prin lege.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ul poate fi desfășurat de minimum doi inspectori, delegați de la același organ de control sau de la mai multe organe de control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9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320" y="1482840"/>
            <a:ext cx="794196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Times New Roman"/>
              </a:rPr>
              <a:t>Legea nr.131-XIX din 08.06.2012 privind controlul de stat asupra activității de întreprinzător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4:56Z</dcterms:created>
  <dc:creator>GIZ-Design</dc:creator>
  <dc:description/>
  <cp:keywords>GIZ-Leerfolie</cp:keywords>
  <dc:language>en-US</dc:language>
  <cp:lastModifiedBy>ISM</cp:lastModifiedBy>
  <cp:lastPrinted>2012-07-19T10:16:59Z</cp:lastPrinted>
  <dcterms:modified xsi:type="dcterms:W3CDTF">2017-06-27T05:23:13Z</dcterms:modified>
  <cp:revision>96</cp:revision>
  <dc:subject/>
  <dc:title>PowerPoint-Präsentation</dc:title>
</cp:coreProperties>
</file>